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1.png" ContentType="image/png"/>
  <Override PartName="/ppt/media/image19.jpeg" ContentType="image/jpeg"/>
  <Override PartName="/ppt/media/image9.png" ContentType="image/png"/>
  <Override PartName="/ppt/media/image7.wmf" ContentType="image/x-wmf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1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wmf" ContentType="image/x-wmf"/>
  <Override PartName="/ppt/media/image4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781056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6480" y="3575880"/>
            <a:ext cx="781056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8600" y="152532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6480" y="357588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8600" y="357588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251460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77080" y="1525320"/>
            <a:ext cx="251460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8040" y="1525320"/>
            <a:ext cx="251460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6480" y="3575880"/>
            <a:ext cx="251460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77080" y="3575880"/>
            <a:ext cx="251460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8040" y="3575880"/>
            <a:ext cx="251460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36480" y="1525320"/>
            <a:ext cx="781056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781056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38113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8600" y="1525320"/>
            <a:ext cx="38113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6880" y="550440"/>
            <a:ext cx="779940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8600" y="1525320"/>
            <a:ext cx="38113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36480" y="357588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36480" y="1525320"/>
            <a:ext cx="781056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38113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52532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8600" y="357588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152532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6480" y="3575880"/>
            <a:ext cx="781056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781056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6480" y="3575880"/>
            <a:ext cx="781056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8600" y="152532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6480" y="357588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8600" y="357588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251460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77080" y="1525320"/>
            <a:ext cx="251460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8040" y="1525320"/>
            <a:ext cx="251460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36480" y="3575880"/>
            <a:ext cx="251460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77080" y="3575880"/>
            <a:ext cx="251460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8040" y="3575880"/>
            <a:ext cx="251460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781056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38113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8600" y="1525320"/>
            <a:ext cx="38113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6880" y="550440"/>
            <a:ext cx="7799400" cy="35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525320"/>
            <a:ext cx="38113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36480" y="357588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38113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52532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8600" y="357588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525320"/>
            <a:ext cx="381132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6480" y="3575880"/>
            <a:ext cx="7810560" cy="1872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36480" y="1525320"/>
            <a:ext cx="781056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Click to edit the outline text format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lvl="1" marL="749160" indent="-29196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Second Outline Level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lvl="2" marL="1143000" indent="-27936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Third Outline Level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lvl="3" marL="1536840" indent="-27936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Fourth Outline Level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lvl="4" marL="2308320" indent="-22860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Fifth Outline Level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lvl="5" marL="2308320" indent="-228600"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Sixth Outline Level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lvl="6" marL="2308320" indent="-228600">
              <a:spcBef>
                <a:spcPts val="6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Seventh Outline Level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30579"/>
                </a:solidFill>
                <a:latin typeface="SimSun"/>
              </a:rPr>
              <a:t>Click to edit the title text format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cc"/>
                </a:solidFill>
                <a:latin typeface="SimSun"/>
              </a:rPr>
              <a:t>Click to edit the title text format</a:t>
            </a:r>
            <a:endParaRPr b="1" lang="en-US" sz="4200" spc="-1" strike="noStrike">
              <a:solidFill>
                <a:srgbClr val="0000cc"/>
              </a:solidFill>
              <a:latin typeface="SimSu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Click to edit the outline text format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7be"/>
                </a:solidFill>
                <a:latin typeface="SimSun"/>
              </a:rPr>
              <a:t>Second Outline Level</a:t>
            </a:r>
            <a:endParaRPr b="1" lang="en-US" sz="2400" spc="-1" strike="noStrike">
              <a:solidFill>
                <a:srgbClr val="0077be"/>
              </a:solidFill>
              <a:latin typeface="SimSun"/>
            </a:endParaRPr>
          </a:p>
          <a:p>
            <a:pPr lvl="2" marL="673200" indent="190440" algn="ctr">
              <a:spcBef>
                <a:spcPts val="499"/>
              </a:spcBef>
              <a:buClr>
                <a:srgbClr val="0077be"/>
              </a:buClr>
              <a:buSzPct val="90000"/>
              <a:buFont typeface="ScheringSymbolsArrowsPositive"/>
              <a:buChar char="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7be"/>
                </a:solidFill>
                <a:latin typeface="SimSun"/>
              </a:rPr>
              <a:t>Third Outline Level</a:t>
            </a:r>
            <a:endParaRPr b="1" lang="en-US" sz="2000" spc="-1" strike="noStrike">
              <a:solidFill>
                <a:srgbClr val="0077be"/>
              </a:solidFill>
              <a:latin typeface="SimSun"/>
            </a:endParaRPr>
          </a:p>
          <a:p>
            <a:pPr lvl="3" marL="1155600" indent="101880" algn="ctr">
              <a:spcBef>
                <a:spcPts val="451"/>
              </a:spcBef>
              <a:buClr>
                <a:srgbClr val="000000"/>
              </a:buClr>
              <a:buFont typeface="SimSu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7be"/>
                </a:solidFill>
                <a:latin typeface="SimSun"/>
              </a:rPr>
              <a:t>Fourth Outline Level</a:t>
            </a:r>
            <a:endParaRPr b="0" lang="en-US" sz="1800" spc="-1" strike="noStrike">
              <a:solidFill>
                <a:srgbClr val="0077be"/>
              </a:solidFill>
              <a:latin typeface="SimSun"/>
            </a:endParaRPr>
          </a:p>
          <a:p>
            <a:pPr lvl="4" marL="1828800" indent="250920" algn="ctr">
              <a:spcBef>
                <a:spcPts val="349"/>
              </a:spcBef>
              <a:buClr>
                <a:srgbClr val="0077be"/>
              </a:buClr>
              <a:buFont typeface="SimSu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7be"/>
                </a:solidFill>
                <a:latin typeface="SimSun"/>
              </a:rPr>
              <a:t>Fifth Outline Level</a:t>
            </a:r>
            <a:endParaRPr b="0" lang="en-US" sz="1400" spc="-1" strike="noStrike">
              <a:solidFill>
                <a:srgbClr val="0077be"/>
              </a:solidFill>
              <a:latin typeface="SimSun"/>
            </a:endParaRPr>
          </a:p>
          <a:p>
            <a:pPr lvl="5" marL="1828800" indent="250920">
              <a:spcBef>
                <a:spcPts val="349"/>
              </a:spcBef>
              <a:buClr>
                <a:srgbClr val="000000"/>
              </a:buClr>
              <a:buFont typeface="SimSu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7be"/>
                </a:solidFill>
                <a:latin typeface="SimSun"/>
              </a:rPr>
              <a:t>Sixth Outline Level</a:t>
            </a:r>
            <a:endParaRPr b="0" lang="en-US" sz="1400" spc="-1" strike="noStrike">
              <a:solidFill>
                <a:srgbClr val="0077be"/>
              </a:solidFill>
              <a:latin typeface="SimSun"/>
            </a:endParaRPr>
          </a:p>
          <a:p>
            <a:pPr lvl="6" marL="1828800" indent="250920">
              <a:spcBef>
                <a:spcPts val="349"/>
              </a:spcBef>
              <a:buClr>
                <a:srgbClr val="000000"/>
              </a:buClr>
              <a:buFont typeface="SimSu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7be"/>
                </a:solidFill>
                <a:latin typeface="SimSun"/>
              </a:rPr>
              <a:t>Seventh Outline Level</a:t>
            </a:r>
            <a:endParaRPr b="0" lang="en-US" sz="1400" spc="-1" strike="noStrike">
              <a:solidFill>
                <a:srgbClr val="0077be"/>
              </a:solidFill>
              <a:latin typeface="SimSu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381640" y="4900680"/>
            <a:ext cx="3386160" cy="88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550"/>
              </a:spcBef>
              <a:buSzPct val="1215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SimSun"/>
              </a:rPr>
              <a:t>皮膚科專科何天儀醫生</a:t>
            </a:r>
            <a:endParaRPr b="1" lang="en-US" sz="22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 algn="r">
              <a:spcBef>
                <a:spcPts val="550"/>
              </a:spcBef>
              <a:buSzPct val="121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SimSun"/>
              </a:rPr>
              <a:t>2004</a:t>
            </a:r>
            <a:r>
              <a:rPr b="1" lang="zh-TW" sz="2200" spc="-1" strike="noStrike">
                <a:solidFill>
                  <a:srgbClr val="000000"/>
                </a:solidFill>
                <a:latin typeface="SimSun"/>
              </a:rPr>
              <a:t>年</a:t>
            </a:r>
            <a:r>
              <a:rPr b="1" lang="zh-TW" sz="2200" spc="-1" strike="noStrike">
                <a:solidFill>
                  <a:srgbClr val="000000"/>
                </a:solidFill>
                <a:latin typeface="SimSun"/>
              </a:rPr>
              <a:t>6</a:t>
            </a:r>
            <a:r>
              <a:rPr b="1" lang="zh-TW" sz="2200" spc="-1" strike="noStrike">
                <a:solidFill>
                  <a:srgbClr val="000000"/>
                </a:solidFill>
                <a:latin typeface="SimSun"/>
              </a:rPr>
              <a:t>月</a:t>
            </a:r>
            <a:r>
              <a:rPr b="1" lang="zh-TW" sz="2200" spc="-1" strike="noStrike">
                <a:solidFill>
                  <a:srgbClr val="000000"/>
                </a:solidFill>
                <a:latin typeface="SimSun"/>
              </a:rPr>
              <a:t>29</a:t>
            </a:r>
            <a:r>
              <a:rPr b="1" lang="zh-TW" sz="2200" spc="-1" strike="noStrike">
                <a:solidFill>
                  <a:srgbClr val="000000"/>
                </a:solidFill>
                <a:latin typeface="SimSun"/>
              </a:rPr>
              <a:t>日</a:t>
            </a:r>
            <a:endParaRPr b="1" lang="en-US" sz="22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79" name=""/>
          <p:cNvSpPr/>
          <p:nvPr/>
        </p:nvSpPr>
        <p:spPr>
          <a:xfrm>
            <a:off x="4683240" y="1504800"/>
            <a:ext cx="4052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900" spc="-1" strike="noStrike">
                <a:solidFill>
                  <a:srgbClr val="f0057f"/>
                </a:solidFill>
                <a:latin typeface="Frutiger-H-Bold"/>
                <a:ea typeface="新細明體"/>
              </a:rPr>
              <a:t>暗瘡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100" spc="-1" strike="noStrike">
                <a:solidFill>
                  <a:srgbClr val="f0057f"/>
                </a:solidFill>
                <a:latin typeface="Frutiger-H-Bold"/>
                <a:ea typeface="新細明體"/>
              </a:rPr>
              <a:t>成因及治療方法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暗瘡的嚴重程度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47800" y="3571920"/>
            <a:ext cx="7759440" cy="1482120"/>
            <a:chOff x="847800" y="3571920"/>
            <a:chExt cx="7759440" cy="1482120"/>
          </a:xfrm>
        </p:grpSpPr>
        <p:grpSp>
          <p:nvGrpSpPr>
            <p:cNvPr id="120" name=""/>
            <p:cNvGrpSpPr/>
            <p:nvPr/>
          </p:nvGrpSpPr>
          <p:grpSpPr>
            <a:xfrm>
              <a:off x="847800" y="3859920"/>
              <a:ext cx="7137360" cy="1194120"/>
              <a:chOff x="847800" y="3859920"/>
              <a:chExt cx="7137360" cy="1194120"/>
            </a:xfrm>
          </p:grpSpPr>
          <p:sp>
            <p:nvSpPr>
              <p:cNvPr id="121" name=""/>
              <p:cNvSpPr/>
              <p:nvPr/>
            </p:nvSpPr>
            <p:spPr>
              <a:xfrm>
                <a:off x="847800" y="4371840"/>
                <a:ext cx="24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主要是粉刺，只有少數的白頭、黑頭及細粒的暗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41800" y="4378320"/>
                <a:ext cx="2468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發炎的數量增多，發炎情況增劇，大部份都在表層，間中有較深層的膿苞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75320" y="4411440"/>
                <a:ext cx="24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有大量暗瘡及深層膿苞，身體也通常有很多，而且很容易有疤痕形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81800" y="3866040"/>
                <a:ext cx="2334960" cy="398880"/>
              </a:xfrm>
              <a:prstGeom prst="rect">
                <a:avLst/>
              </a:prstGeom>
              <a:solidFill>
                <a:srgbClr val="e305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ffffff"/>
                    </a:solidFill>
                    <a:latin typeface="Arial"/>
                    <a:ea typeface="新細明體"/>
                  </a:rPr>
                  <a:t>嚴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43240" y="3861360"/>
                <a:ext cx="2335320" cy="398880"/>
              </a:xfrm>
              <a:prstGeom prst="rect">
                <a:avLst/>
              </a:prstGeom>
              <a:solidFill>
                <a:srgbClr val="fb5f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ffffff"/>
                    </a:solidFill>
                    <a:latin typeface="Arial"/>
                    <a:ea typeface="新細明體"/>
                  </a:rPr>
                  <a:t>中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44640" y="3859920"/>
                <a:ext cx="2334960" cy="398880"/>
              </a:xfrm>
              <a:prstGeom prst="rect">
                <a:avLst/>
              </a:prstGeom>
              <a:solidFill>
                <a:srgbClr val="fdad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輕微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 rot="5400000">
              <a:off x="7799760" y="3678840"/>
              <a:ext cx="914400" cy="700200"/>
            </a:xfrm>
            <a:prstGeom prst="triangle">
              <a:avLst>
                <a:gd name="adj" fmla="val 50000"/>
              </a:avLst>
            </a:prstGeom>
            <a:solidFill>
              <a:srgbClr val="e30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pustule" descr=""/>
          <p:cNvPicPr/>
          <p:nvPr/>
        </p:nvPicPr>
        <p:blipFill>
          <a:blip r:embed="rId1"/>
          <a:stretch/>
        </p:blipFill>
        <p:spPr>
          <a:xfrm>
            <a:off x="3233880" y="1380960"/>
            <a:ext cx="2509560" cy="1633680"/>
          </a:xfrm>
          <a:prstGeom prst="rect">
            <a:avLst/>
          </a:prstGeom>
          <a:ln w="0">
            <a:noFill/>
          </a:ln>
        </p:spPr>
      </p:pic>
      <p:pic>
        <p:nvPicPr>
          <p:cNvPr id="129" name="back" descr=""/>
          <p:cNvPicPr/>
          <p:nvPr/>
        </p:nvPicPr>
        <p:blipFill>
          <a:blip r:embed="rId2"/>
          <a:stretch/>
        </p:blipFill>
        <p:spPr>
          <a:xfrm>
            <a:off x="5829480" y="1405080"/>
            <a:ext cx="3108240" cy="2111400"/>
          </a:xfrm>
          <a:prstGeom prst="rect">
            <a:avLst/>
          </a:prstGeom>
          <a:ln w="0">
            <a:noFill/>
          </a:ln>
        </p:spPr>
      </p:pic>
      <p:pic>
        <p:nvPicPr>
          <p:cNvPr id="130" name="white%20head" descr=""/>
          <p:cNvPicPr/>
          <p:nvPr/>
        </p:nvPicPr>
        <p:blipFill>
          <a:blip r:embed="rId3"/>
          <a:stretch/>
        </p:blipFill>
        <p:spPr>
          <a:xfrm>
            <a:off x="947880" y="1357200"/>
            <a:ext cx="20602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315200" y="6265800"/>
            <a:ext cx="182880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6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可選擇多項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0"/>
            <a:ext cx="7799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21480" y="1527120"/>
            <a:ext cx="1338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SimSun"/>
                <a:ea typeface="SimSun"/>
              </a:rPr>
              <a:t>常生暗瘡的部位？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五成受訪者的暗瘡長在額頭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4600" y="1778040"/>
          <a:ext cx="839628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778040"/>
                    <a:ext cx="839628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常見暗瘡部位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781056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分佈在皮脂腺密集的部份，主要在面部，也常見在上背及胸口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pic>
        <p:nvPicPr>
          <p:cNvPr id="139" name="back" descr=""/>
          <p:cNvPicPr/>
          <p:nvPr/>
        </p:nvPicPr>
        <p:blipFill>
          <a:blip r:embed="rId2"/>
          <a:stretch/>
        </p:blipFill>
        <p:spPr>
          <a:xfrm>
            <a:off x="4513320" y="2371680"/>
            <a:ext cx="3935520" cy="2675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126120" y="5202360"/>
            <a:ext cx="56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  <a:ea typeface="SimSun"/>
              </a:rPr>
              <a:t>上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face" descr=""/>
          <p:cNvPicPr/>
          <p:nvPr/>
        </p:nvPicPr>
        <p:blipFill>
          <a:blip r:embed="rId3"/>
          <a:stretch/>
        </p:blipFill>
        <p:spPr>
          <a:xfrm>
            <a:off x="401760" y="2314440"/>
            <a:ext cx="3555720" cy="2648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859040" y="5289480"/>
            <a:ext cx="564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  <a:ea typeface="SimSun"/>
              </a:rPr>
              <a:t>面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油脂分泌過盛及雄激素分泌增加的原因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6480" y="2109960"/>
            <a:ext cx="7810560" cy="334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青春期令荷爾蒙分泌較正常高，令皮脂腺擴大及分泌更多油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女性經期、懷孕或開始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/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停服避孕藥令荷爾蒙轉變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其他原因：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lvl="1" marL="749160" indent="-2919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遺傳</a:t>
            </a:r>
            <a:endParaRPr b="1" lang="en-US" sz="2400" spc="-1" strike="noStrike">
              <a:solidFill>
                <a:srgbClr val="0077be"/>
              </a:solidFill>
              <a:latin typeface="SimSun"/>
            </a:endParaRPr>
          </a:p>
          <a:p>
            <a:pPr lvl="1" marL="749160" indent="-2919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服食含雄激素及鋰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(</a:t>
            </a:r>
            <a:r>
              <a:rPr b="1" lang="en-US" sz="2400" spc="-1" strike="noStrike">
                <a:solidFill>
                  <a:srgbClr val="0077be"/>
                </a:solidFill>
                <a:latin typeface="SimSun"/>
              </a:rPr>
              <a:t>lithium)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的藥物</a:t>
            </a:r>
            <a:endParaRPr b="1" lang="en-US" sz="2400" spc="-1" strike="noStrike">
              <a:solidFill>
                <a:srgbClr val="0077be"/>
              </a:solidFill>
              <a:latin typeface="SimSu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暗瘡成因真與假？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781056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imSu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吃朱古力和油膩食物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(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如薯條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)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會否生暗瘡？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並無科學研究証明食物和暗瘡的關係</a:t>
            </a:r>
            <a:endParaRPr b="1" lang="en-US" sz="2400" spc="-1" strike="noStrike">
              <a:solidFill>
                <a:srgbClr val="0077be"/>
              </a:solidFill>
              <a:latin typeface="SimSun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imSu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不潔皮膚引致暗瘡？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暗瘡由皮膚分泌過量油脂衍生</a:t>
            </a:r>
            <a:endParaRPr b="1" lang="en-US" sz="2400" spc="-1" strike="noStrike">
              <a:solidFill>
                <a:srgbClr val="0077be"/>
              </a:solidFill>
              <a:latin typeface="SimSun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imSu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壓力令我生暗瘡！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雖然有部份研究指出日常壓力不會令人生暗瘡，近期亦有不少研究指出壓力荷爾蒙皮質醇會刺激皮脂腺分泌油脂，令暗瘡加劇。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2003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年亦有針對醫學生的研究指出考試令其暗瘡明顯惡化，故壓力不可忽視。</a:t>
            </a:r>
            <a:endParaRPr b="1" lang="en-US" sz="2400" spc="-1" strike="noStrike">
              <a:solidFill>
                <a:srgbClr val="0077be"/>
              </a:solidFill>
              <a:latin typeface="SimSu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暗瘡治療真定假？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36120" y="1525320"/>
            <a:ext cx="802476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SimSu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0057f"/>
                </a:solidFill>
                <a:latin typeface="SimSun"/>
              </a:rPr>
              <a:t>只要一日洗多次面暗瘡就更快凋謝！</a:t>
            </a:r>
            <a:endParaRPr b="1" lang="en-US" sz="2200" spc="-1" strike="noStrike">
              <a:solidFill>
                <a:srgbClr val="f0057f"/>
              </a:solidFill>
              <a:latin typeface="SimSu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77be"/>
                </a:solidFill>
                <a:latin typeface="SimSun"/>
              </a:rPr>
              <a:t>過量洗面會刺激皮膚，令暗瘡更嚴重。應每日以溫和的洗面液</a:t>
            </a:r>
            <a:r>
              <a:rPr b="1" lang="zh-TW" sz="2200" spc="-1" strike="noStrike">
                <a:solidFill>
                  <a:srgbClr val="0077be"/>
                </a:solidFill>
                <a:latin typeface="SimSun"/>
              </a:rPr>
              <a:t>/</a:t>
            </a:r>
            <a:r>
              <a:rPr b="1" lang="zh-TW" sz="2200" spc="-1" strike="noStrike">
                <a:solidFill>
                  <a:srgbClr val="0077be"/>
                </a:solidFill>
                <a:latin typeface="SimSun"/>
              </a:rPr>
              <a:t>肥皂輕輕地洗面，再拍乾，輔以合適的暗瘡藥物</a:t>
            </a:r>
            <a:endParaRPr b="1" lang="en-US" sz="2200" spc="-1" strike="noStrike">
              <a:solidFill>
                <a:srgbClr val="0077be"/>
              </a:solidFill>
              <a:latin typeface="SimSun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SimSu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0057f"/>
                </a:solidFill>
                <a:latin typeface="SimSun"/>
              </a:rPr>
              <a:t>應讓暗瘡自然凋謝！</a:t>
            </a:r>
            <a:endParaRPr b="1" lang="en-US" sz="2200" spc="-1" strike="noStrike">
              <a:solidFill>
                <a:srgbClr val="f0057f"/>
              </a:solidFill>
              <a:latin typeface="SimSu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77be"/>
                </a:solidFill>
                <a:latin typeface="SimSun"/>
              </a:rPr>
              <a:t>部份暗瘡會留下永久性疤痕，要及早治療及預防</a:t>
            </a:r>
            <a:endParaRPr b="1" lang="en-US" sz="2200" spc="-1" strike="noStrike">
              <a:solidFill>
                <a:srgbClr val="0077be"/>
              </a:solidFill>
              <a:latin typeface="SimSun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SimSu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0057f"/>
                </a:solidFill>
                <a:latin typeface="SimSun"/>
              </a:rPr>
              <a:t>有暗瘡就要盡快擠壓</a:t>
            </a:r>
            <a:r>
              <a:rPr b="1" lang="zh-TW" sz="2200" spc="-1" strike="noStrike">
                <a:solidFill>
                  <a:srgbClr val="f0057f"/>
                </a:solidFill>
                <a:latin typeface="SimSun"/>
              </a:rPr>
              <a:t>?</a:t>
            </a:r>
            <a:endParaRPr b="1" lang="en-US" sz="2200" spc="-1" strike="noStrike">
              <a:solidFill>
                <a:srgbClr val="f0057f"/>
              </a:solidFill>
              <a:latin typeface="SimSu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77be"/>
                </a:solidFill>
                <a:latin typeface="SimSun"/>
              </a:rPr>
              <a:t>過量的擠壓會造成疤痕，所以不要嘗試挑出丘疹。如有嚴重暗瘡問題，將儘早向醫生求診</a:t>
            </a:r>
            <a:endParaRPr b="1" lang="en-US" sz="2200" spc="-1" strike="noStrike">
              <a:solidFill>
                <a:srgbClr val="0077be"/>
              </a:solidFill>
              <a:latin typeface="SimSun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SimSu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0057f"/>
                </a:solidFill>
                <a:latin typeface="SimSun"/>
              </a:rPr>
              <a:t>用一個月也不能治好暗瘡，就需要換藥！</a:t>
            </a:r>
            <a:endParaRPr b="1" lang="en-US" sz="2200" spc="-1" strike="noStrike">
              <a:solidFill>
                <a:srgbClr val="f0057f"/>
              </a:solidFill>
              <a:latin typeface="SimSu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77be"/>
                </a:solidFill>
                <a:latin typeface="SimSun"/>
              </a:rPr>
              <a:t>部分藥物可能需數個月才有效，故應先問清楚醫生藥物需要多久才能發揮作用。</a:t>
            </a:r>
            <a:endParaRPr b="1" lang="en-US" sz="2200" spc="-1" strike="noStrike">
              <a:solidFill>
                <a:srgbClr val="0077be"/>
              </a:solidFill>
              <a:latin typeface="SimSu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1680" y="2890800"/>
            <a:ext cx="407664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怎樣治療暗瘡？</a:t>
            </a:r>
            <a:endParaRPr b="1" lang="en-US" sz="4200" spc="-1" strike="noStrike">
              <a:solidFill>
                <a:srgbClr val="0000cc"/>
              </a:solidFill>
              <a:latin typeface="SimSu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447920"/>
            <a:ext cx="815328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暗瘡治療方向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781056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減少油脂分泌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殺死</a:t>
            </a:r>
            <a:r>
              <a:rPr b="1" lang="zh-TW" sz="2600" spc="-1" strike="noStrike">
                <a:solidFill>
                  <a:srgbClr val="e30579"/>
                </a:solidFill>
                <a:latin typeface="SimSun"/>
              </a:rPr>
              <a:t>暗瘡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桿菌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減少皮膚角質化 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減少發炎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醫生可能會同時間使用兩種或以上的方法</a:t>
            </a:r>
            <a:r>
              <a:rPr b="1" lang="zh-TW" sz="2600" spc="-1" strike="noStrike">
                <a:solidFill>
                  <a:srgbClr val="e30579"/>
                </a:solidFill>
                <a:latin typeface="SimSun"/>
              </a:rPr>
              <a:t>治療暗瘡，以加快成效和防止結疤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對付輕微的暗瘡 </a:t>
            </a: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-- </a:t>
            </a: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外塗治療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781056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外用藥物溶解角質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(</a:t>
            </a: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keratolytics)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或減少皮膚角質化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,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如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: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lvl="1" marL="749160" indent="-291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水揚酸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(</a:t>
            </a:r>
            <a:r>
              <a:rPr b="1" lang="en-US" sz="2400" spc="-1" strike="noStrike">
                <a:solidFill>
                  <a:srgbClr val="0077be"/>
                </a:solidFill>
                <a:latin typeface="SimSun"/>
              </a:rPr>
              <a:t>salicylic acid)</a:t>
            </a:r>
            <a:endParaRPr b="1" lang="en-US" sz="2400" spc="-1" strike="noStrike">
              <a:solidFill>
                <a:srgbClr val="0077be"/>
              </a:solidFill>
              <a:latin typeface="SimSun"/>
            </a:endParaRPr>
          </a:p>
          <a:p>
            <a:pPr lvl="1" marL="749160" indent="-2919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果酸 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(</a:t>
            </a:r>
            <a:r>
              <a:rPr b="1" lang="en-US" sz="2400" spc="-1" strike="noStrike">
                <a:solidFill>
                  <a:srgbClr val="0077be"/>
                </a:solidFill>
                <a:latin typeface="SimSun"/>
              </a:rPr>
              <a:t>AHA)</a:t>
            </a:r>
            <a:endParaRPr b="1" lang="en-US" sz="2400" spc="-1" strike="noStrike">
              <a:solidFill>
                <a:srgbClr val="0077be"/>
              </a:solidFill>
              <a:latin typeface="SimSun"/>
            </a:endParaRPr>
          </a:p>
          <a:p>
            <a:pPr lvl="1" marL="749160" indent="-2919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過氧化苯甲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(</a:t>
            </a:r>
            <a:r>
              <a:rPr b="1" lang="en-US" sz="2400" spc="-1" strike="noStrike">
                <a:solidFill>
                  <a:srgbClr val="0077be"/>
                </a:solidFill>
                <a:latin typeface="SimSun"/>
              </a:rPr>
              <a:t>benzoyl peroxide) (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不能減少發炎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)</a:t>
            </a:r>
            <a:endParaRPr b="1" lang="en-US" sz="2400" spc="-1" strike="noStrike">
              <a:solidFill>
                <a:srgbClr val="0077be"/>
              </a:solidFill>
              <a:latin typeface="SimSun"/>
            </a:endParaRPr>
          </a:p>
          <a:p>
            <a:pPr lvl="1" marL="749160" indent="-2919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維他命</a:t>
            </a:r>
            <a:r>
              <a:rPr b="1" lang="en-US" sz="2400" spc="-1" strike="noStrike">
                <a:solidFill>
                  <a:srgbClr val="0077be"/>
                </a:solidFill>
                <a:latin typeface="SimSun"/>
              </a:rPr>
              <a:t>A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衍生物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(</a:t>
            </a:r>
            <a:r>
              <a:rPr b="1" lang="en-US" sz="2400" spc="-1" strike="noStrike">
                <a:solidFill>
                  <a:srgbClr val="0077be"/>
                </a:solidFill>
                <a:latin typeface="SimSun"/>
              </a:rPr>
              <a:t>retinoids)</a:t>
            </a:r>
            <a:endParaRPr b="1" lang="en-US" sz="2400" spc="-1" strike="noStrike">
              <a:solidFill>
                <a:srgbClr val="0077be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消炎藥物以抑制暗瘡桿菌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447920"/>
            <a:ext cx="815328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對付較嚴重的暗瘡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7810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550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部份的治療都是透過以下原理發揮效用的</a:t>
            </a:r>
            <a:r>
              <a:rPr b="1" lang="zh-TW" sz="2200" spc="-1" strike="noStrike">
                <a:solidFill>
                  <a:srgbClr val="f0057f"/>
                </a:solidFill>
                <a:latin typeface="SimSun"/>
              </a:rPr>
              <a:t>：</a:t>
            </a:r>
            <a:endParaRPr b="1" lang="en-US" sz="2200" spc="-1" strike="noStrike">
              <a:solidFill>
                <a:srgbClr val="f0057f"/>
              </a:solidFill>
              <a:latin typeface="SimSun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77be"/>
              </a:buClr>
              <a:buFont typeface="SimSu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使用抗雄激素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(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如口服避孕藥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)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阻隔雄激素的影響，防止皮膚產生過多的油份。這種方法只適合女性使用。</a:t>
            </a:r>
            <a:endParaRPr b="1" lang="en-US" sz="2400" spc="-1" strike="noStrike">
              <a:solidFill>
                <a:srgbClr val="0077be"/>
              </a:solidFill>
              <a:latin typeface="SimSun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77be"/>
              </a:buClr>
              <a:buFont typeface="SimSu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利用抗生素殺死暗瘡桿菌</a:t>
            </a:r>
            <a:endParaRPr b="1" lang="en-US" sz="2400" spc="-1" strike="noStrike">
              <a:solidFill>
                <a:srgbClr val="0077be"/>
              </a:solidFill>
              <a:latin typeface="SimSun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77be"/>
              </a:buClr>
              <a:buFont typeface="SimSu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使用維他命</a:t>
            </a:r>
            <a:r>
              <a:rPr b="1" lang="en-US" sz="2400" spc="-1" strike="noStrike">
                <a:solidFill>
                  <a:srgbClr val="0077be"/>
                </a:solidFill>
                <a:latin typeface="SimSun"/>
              </a:rPr>
              <a:t>A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衍生物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(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如維他命</a:t>
            </a:r>
            <a:r>
              <a:rPr b="1" lang="en-US" sz="2400" spc="-1" strike="noStrike">
                <a:solidFill>
                  <a:srgbClr val="0077be"/>
                </a:solidFill>
                <a:latin typeface="SimSun"/>
              </a:rPr>
              <a:t>A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酸或異維</a:t>
            </a:r>
            <a:r>
              <a:rPr b="1" lang="en-US" sz="2400" spc="-1" strike="noStrike">
                <a:solidFill>
                  <a:srgbClr val="0077be"/>
                </a:solidFill>
                <a:latin typeface="SimSun"/>
              </a:rPr>
              <a:t>A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酸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[</a:t>
            </a:r>
            <a:r>
              <a:rPr b="1" lang="en-US" sz="2400" spc="-1" strike="noStrike">
                <a:solidFill>
                  <a:srgbClr val="0077be"/>
                </a:solidFill>
                <a:latin typeface="SimSun"/>
              </a:rPr>
              <a:t>isotretinoin])</a:t>
            </a:r>
            <a:r>
              <a:rPr b="1" lang="en-US" sz="2400" spc="-1" strike="noStrike">
                <a:solidFill>
                  <a:srgbClr val="0077be"/>
                </a:solidFill>
                <a:latin typeface="SimSun"/>
              </a:rPr>
              <a:t>，</a:t>
            </a:r>
            <a:r>
              <a:rPr b="1" lang="zh-TW" sz="2400" spc="-1" strike="noStrike">
                <a:solidFill>
                  <a:srgbClr val="0077be"/>
                </a:solidFill>
                <a:latin typeface="SimSun"/>
              </a:rPr>
              <a:t>減少油脂分泌和角質化，但要小心其副作用。</a:t>
            </a:r>
            <a:endParaRPr b="1" lang="en-US" sz="2400" spc="-1" strike="noStrike">
              <a:solidFill>
                <a:srgbClr val="0077be"/>
              </a:solidFill>
              <a:latin typeface="SimSun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7be"/>
              </a:solidFill>
              <a:latin typeface="SimSun"/>
            </a:endParaRPr>
          </a:p>
          <a:p>
            <a:pPr marL="41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除以上治療方法外，患者同時亦應使用其他非藥物治療，如正確地使用護膚品，保持皮膚清潔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447920"/>
            <a:ext cx="815328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36480" y="1525320"/>
            <a:ext cx="781056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暗瘡是最常見的皮膚病，每年約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1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千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7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百萬名美國人患暗瘡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美國研究數據顯示，差不多所有的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12–17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歲人士均曾出現過不同類型的暗瘡。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15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歲後，</a:t>
            </a:r>
            <a:r>
              <a:rPr b="1" lang="zh-TW" sz="2600" spc="-1" strike="noStrike" u="sng">
                <a:solidFill>
                  <a:srgbClr val="f0057f"/>
                </a:solidFill>
                <a:uFillTx/>
                <a:latin typeface="SimSun"/>
              </a:rPr>
              <a:t>約</a:t>
            </a:r>
            <a:r>
              <a:rPr b="1" lang="zh-TW" sz="2600" spc="-1" strike="noStrike" u="sng">
                <a:solidFill>
                  <a:srgbClr val="f0057f"/>
                </a:solidFill>
                <a:uFillTx/>
                <a:latin typeface="SimSun"/>
              </a:rPr>
              <a:t>40%</a:t>
            </a:r>
            <a:r>
              <a:rPr b="1" lang="zh-TW" sz="2600" spc="-1" strike="noStrike" u="sng">
                <a:solidFill>
                  <a:srgbClr val="f0057f"/>
                </a:solidFill>
                <a:uFillTx/>
                <a:latin typeface="SimSun"/>
              </a:rPr>
              <a:t>青少年患嚴重暗瘡而需要向醫生求診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 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6880" y="80460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對付較嚴重的暗瘡 – 口服抗生素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6480" y="1779480"/>
            <a:ext cx="7810560" cy="392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利用抗生素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(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例如四環素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[</a:t>
            </a: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tetracycline]</a:t>
            </a: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、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紅霉素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[</a:t>
            </a: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erythromycin]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或</a:t>
            </a: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co-trimoxazole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等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)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殺死暗瘡桿菌和消炎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由於細菌抗藥性問題日益嚴重，故應小心使用及服用整個療程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6880" y="85536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e30579"/>
                </a:solidFill>
                <a:latin typeface="SimSun"/>
              </a:rPr>
              <a:t>對付較嚴重的暗瘡 – 口服維他命</a:t>
            </a:r>
            <a:r>
              <a:rPr b="1" lang="en-US" sz="3400" spc="-1" strike="noStrike">
                <a:solidFill>
                  <a:srgbClr val="e30579"/>
                </a:solidFill>
                <a:latin typeface="SimSun"/>
              </a:rPr>
              <a:t>A</a:t>
            </a:r>
            <a:r>
              <a:rPr b="1" lang="zh-TW" sz="3400" spc="-1" strike="noStrike">
                <a:solidFill>
                  <a:srgbClr val="e30579"/>
                </a:solidFill>
                <a:latin typeface="SimSun"/>
              </a:rPr>
              <a:t>衍生物</a:t>
            </a:r>
            <a:r>
              <a:rPr b="1" lang="zh-TW" sz="3400" spc="-1" strike="noStrike">
                <a:solidFill>
                  <a:srgbClr val="e30579"/>
                </a:solidFill>
                <a:latin typeface="SimSun"/>
              </a:rPr>
              <a:t>(</a:t>
            </a:r>
            <a:r>
              <a:rPr b="1" lang="en-US" sz="3400" spc="-1" strike="noStrike">
                <a:solidFill>
                  <a:srgbClr val="e30579"/>
                </a:solidFill>
                <a:latin typeface="SimSun"/>
              </a:rPr>
              <a:t>isotretinoin)</a:t>
            </a:r>
            <a:endParaRPr b="1" lang="en-US" sz="34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2193480"/>
            <a:ext cx="781056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用以減低油脂分泌和令毛囊裏的皮層細胞成長回復正常，有效但療程一般需時四至五個月以上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使用初期皮膚會乾燥及脫皮，甚至嘴出現裂紋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由於藥物可能會引致畸胎，故懷孕及將懷孕的女性不應使用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亦有研究指出藥物會引致自殺傾向，故醫生需小心跟進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6880" y="84276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對付較嚴重的暗瘡 </a:t>
            </a: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- </a:t>
            </a: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抗雄激素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36480" y="1817280"/>
            <a:ext cx="781056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由於雄激素增加油脂分泌，要針對問題根源，女士應對抗雄激素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口服避孕藥透過調節荷爾蒙 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- 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雌激素、孕激素及雄激素，阻礙雄激素對皮膚的作用，從而抑制皮膚分泌過量油脂。對治療女性暗瘡和控制女性皮膚油脂分泌有明顯效果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8840" y="70128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e30579"/>
                </a:solidFill>
                <a:latin typeface="CG Omega"/>
              </a:rPr>
              <a:t>各種口服避孕藥成份的抗雄激素功效</a:t>
            </a:r>
            <a:r>
              <a:rPr b="1" lang="zh-TW" sz="3800" spc="-1" strike="noStrike">
                <a:solidFill>
                  <a:srgbClr val="e30579"/>
                </a:solidFill>
                <a:latin typeface="CG Omega"/>
              </a:rPr>
              <a:t>(</a:t>
            </a:r>
            <a:r>
              <a:rPr b="0" lang="en-US" sz="3400" spc="-1" strike="noStrike">
                <a:solidFill>
                  <a:srgbClr val="e30579"/>
                </a:solidFill>
                <a:latin typeface="CG Omega"/>
                <a:ea typeface="新細明體"/>
              </a:rPr>
              <a:t>Antiandrogenic Effect)</a:t>
            </a:r>
            <a:endParaRPr b="1" lang="en-US" sz="3400" spc="-1" strike="noStrike">
              <a:solidFill>
                <a:srgbClr val="e30579"/>
              </a:solidFill>
              <a:latin typeface="SimSu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23880" y="1951200"/>
          <a:ext cx="7810560" cy="4000320"/>
        </p:xfrm>
        <a:graphic>
          <a:graphicData uri="http://schemas.openxmlformats.org/drawingml/2006/table">
            <a:tbl>
              <a:tblPr/>
              <a:tblGrid>
                <a:gridCol w="4900680"/>
                <a:gridCol w="2909880"/>
              </a:tblGrid>
              <a:tr h="88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0057f"/>
                          </a:solidFill>
                          <a:latin typeface="CG Omega"/>
                          <a:ea typeface="SimSun"/>
                        </a:rPr>
                        <a:t>抗雄激素功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057f"/>
                          </a:solidFill>
                          <a:latin typeface="CG Omega"/>
                          <a:ea typeface="新細明體"/>
                        </a:rPr>
                        <a:t>Synthetic Progesterones (</a:t>
                      </a:r>
                      <a:r>
                        <a:rPr b="0" lang="zh-TW" sz="2000" spc="-1" strike="noStrike">
                          <a:solidFill>
                            <a:srgbClr val="f0057f"/>
                          </a:solidFill>
                          <a:latin typeface="CG Omega"/>
                          <a:ea typeface="新細明體"/>
                        </a:rPr>
                        <a:t>含成孕激素</a:t>
                      </a:r>
                      <a:r>
                        <a:rPr b="0" lang="zh-TW" sz="2000" spc="-1" strike="noStrike">
                          <a:solidFill>
                            <a:srgbClr val="f0057f"/>
                          </a:solidFill>
                          <a:latin typeface="CG Omega"/>
                          <a:ea typeface="新細明體"/>
                        </a:rPr>
                        <a:t>,</a:t>
                      </a:r>
                      <a:r>
                        <a:rPr b="0" lang="zh-TW" sz="2000" spc="-1" strike="noStrike">
                          <a:solidFill>
                            <a:srgbClr val="f0057f"/>
                          </a:solidFill>
                          <a:latin typeface="CG Omega"/>
                          <a:ea typeface="新細明體"/>
                        </a:rPr>
                        <a:t>大部份口服避孕藥成份</a:t>
                      </a:r>
                      <a:r>
                        <a:rPr b="0" lang="zh-TW" sz="2000" spc="-1" strike="noStrike">
                          <a:solidFill>
                            <a:srgbClr val="f0057f"/>
                          </a:solidFill>
                          <a:latin typeface="CG Omega"/>
                          <a:ea typeface="新細明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057f"/>
                          </a:solidFill>
                          <a:latin typeface="CG Omega"/>
                          <a:ea typeface="新細明體"/>
                        </a:rPr>
                        <a:t>e.g: Levonorgestrel, Norgestimate, Desogestrel, Gestod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000" spc="-1" strike="noStrike">
                          <a:solidFill>
                            <a:srgbClr val="f0057f"/>
                          </a:solidFill>
                          <a:latin typeface="CG Omega"/>
                          <a:ea typeface="SimSun"/>
                        </a:rPr>
                        <a:t>-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0057f"/>
                          </a:solidFill>
                          <a:latin typeface="CG Omega"/>
                          <a:ea typeface="新細明體"/>
                        </a:rPr>
                        <a:t>Drospirenone (</a:t>
                      </a:r>
                      <a:r>
                        <a:rPr b="0" lang="zh-TW" sz="2000" spc="-1" strike="noStrike">
                          <a:solidFill>
                            <a:srgbClr val="f0057f"/>
                          </a:solidFill>
                          <a:latin typeface="CG Omega"/>
                          <a:ea typeface="新細明體"/>
                        </a:rPr>
                        <a:t>黃體素，藥物名稱： </a:t>
                      </a:r>
                      <a:r>
                        <a:rPr b="0" lang="en-US" sz="2000" spc="-1" strike="noStrike">
                          <a:solidFill>
                            <a:srgbClr val="f0057f"/>
                          </a:solidFill>
                          <a:latin typeface="CG Omega"/>
                          <a:ea typeface="新細明體"/>
                        </a:rPr>
                        <a:t>Yasm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400" spc="-1" strike="noStrike">
                          <a:solidFill>
                            <a:srgbClr val="f0057f"/>
                          </a:solidFill>
                          <a:latin typeface="CG Omega"/>
                          <a:ea typeface="SimSun"/>
                        </a:rPr>
                        <a:t>+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0057f"/>
                          </a:solidFill>
                          <a:latin typeface="CG Omega"/>
                          <a:ea typeface="SimSun"/>
                        </a:rPr>
                        <a:t>Cyproterone acetate (CPA - </a:t>
                      </a:r>
                      <a:r>
                        <a:rPr b="1" lang="zh-TW" sz="2000" spc="-1" strike="noStrike">
                          <a:solidFill>
                            <a:srgbClr val="f0057f"/>
                          </a:solidFill>
                          <a:latin typeface="CG Omega"/>
                          <a:ea typeface="SimSun"/>
                        </a:rPr>
                        <a:t>醋酸環丙孕酮，藥物名稱：</a:t>
                      </a:r>
                      <a:r>
                        <a:rPr b="1" lang="en-US" sz="2000" spc="-1" strike="noStrike">
                          <a:solidFill>
                            <a:srgbClr val="f0057f"/>
                          </a:solidFill>
                          <a:latin typeface="CG Omega"/>
                          <a:ea typeface="SimSun"/>
                        </a:rPr>
                        <a:t>Dia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400" spc="-1" strike="noStrike">
                          <a:solidFill>
                            <a:srgbClr val="f0057f"/>
                          </a:solidFill>
                          <a:latin typeface="CG Omega"/>
                          <a:ea typeface="SimSun"/>
                        </a:rPr>
                        <a:t>++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-145080" y="5902200"/>
            <a:ext cx="851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G Omega"/>
                <a:ea typeface="SimSun"/>
              </a:rPr>
              <a:t>Source: Pharmacological profiles of progesterone, drospirenone and other synthetic progestogen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G Omega"/>
              </a:rPr>
              <a:t>Foldert et al. Eur J Contracept Reprod Health Care 2000; 5: 124-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6880" y="81720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30579"/>
                </a:solidFill>
                <a:latin typeface="SimSun"/>
              </a:rPr>
              <a:t>CPA – </a:t>
            </a: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人工合成激素有效減低雄激素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4120" y="2225520"/>
            <a:ext cx="7810560" cy="392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CPA (cyproterone acetate)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於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1961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年研究成功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CPA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能依附於雄激素受體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(</a:t>
            </a: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DHT)</a:t>
            </a: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，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從而阻塞了受體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(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如同鎖孔被錯鑰匙塞住了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)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，令雄激素無法產生作用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除減低雄激素外，此藥作用更可降低卵巢的活動能力，故可用作避孕藥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Diane-35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為唯一有</a:t>
            </a: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CPA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成份的口服避孕藥物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3182760" y="0"/>
          <a:ext cx="3570480" cy="64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2760" y="0"/>
                    <a:ext cx="3570480" cy="64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對付較嚴重的暗瘡 </a:t>
            </a: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- </a:t>
            </a: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抗雄激素</a:t>
            </a:r>
            <a:r>
              <a:rPr b="1" lang="en-GB" sz="4200" spc="-1" strike="noStrike">
                <a:solidFill>
                  <a:srgbClr val="e30579"/>
                </a:solidFill>
                <a:latin typeface="SimSun"/>
              </a:rPr>
              <a:t>：</a:t>
            </a:r>
            <a:r>
              <a:rPr b="1" lang="en-GB" sz="3400" spc="-1" strike="noStrike">
                <a:solidFill>
                  <a:srgbClr val="000000"/>
                </a:solidFill>
                <a:latin typeface="SimSun"/>
              </a:rPr>
              <a:t>Diane-35 – </a:t>
            </a:r>
            <a:r>
              <a:rPr b="1" lang="en-GB" sz="3400" spc="-1" strike="noStrike">
                <a:solidFill>
                  <a:srgbClr val="000000"/>
                </a:solidFill>
                <a:latin typeface="SimSun"/>
              </a:rPr>
              <a:t>避孕同時治療暗瘡</a:t>
            </a:r>
            <a:endParaRPr b="1" lang="en-US" sz="34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3720" y="1914120"/>
            <a:ext cx="8498160" cy="3537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601"/>
              </a:spcBef>
              <a:buSzPct val="1113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0057f"/>
                </a:solidFill>
                <a:latin typeface="SimSun"/>
              </a:rPr>
              <a:t>作為口服避孕藥，同時兼具非常有效的治療暗瘡及改善皮膚功效。</a:t>
            </a:r>
            <a:endParaRPr b="1" lang="en-US" sz="24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臨床研究顯示：</a:t>
            </a:r>
            <a:endParaRPr b="1" lang="en-US" sz="2400" spc="-1" strike="noStrike">
              <a:solidFill>
                <a:srgbClr val="f0057f"/>
              </a:solidFill>
              <a:latin typeface="SimSun"/>
            </a:endParaRPr>
          </a:p>
          <a:p>
            <a:pPr lvl="1" marL="749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	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  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1. 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使用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3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周期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(3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個月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)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：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35–50%</a:t>
            </a:r>
            <a:r>
              <a:rPr b="1" lang="zh-TW" sz="2400" spc="-1" strike="noStrike">
                <a:solidFill>
                  <a:srgbClr val="e30579"/>
                </a:solidFill>
                <a:latin typeface="SimSun"/>
              </a:rPr>
              <a:t>暗瘡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患者改善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/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治癒 </a:t>
            </a:r>
            <a:endParaRPr b="1" lang="en-US" sz="2400" spc="-1" strike="noStrike">
              <a:solidFill>
                <a:srgbClr val="0077be"/>
              </a:solidFill>
              <a:latin typeface="SimSun"/>
            </a:endParaRPr>
          </a:p>
          <a:p>
            <a:pPr lvl="1" marL="749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	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  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2. 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使用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12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周期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(12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個月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)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：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90%</a:t>
            </a:r>
            <a:r>
              <a:rPr b="1" lang="zh-TW" sz="2400" spc="-1" strike="noStrike">
                <a:solidFill>
                  <a:srgbClr val="e30579"/>
                </a:solidFill>
                <a:latin typeface="SimSun"/>
              </a:rPr>
              <a:t>暗瘡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患者改善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/</a:t>
            </a:r>
            <a:r>
              <a:rPr b="1" lang="zh-TW" sz="2400" spc="-1" strike="noStrike">
                <a:solidFill>
                  <a:srgbClr val="e30579"/>
                </a:solidFill>
                <a:latin typeface="Arial"/>
                <a:ea typeface="Arial"/>
              </a:rPr>
              <a:t>治癒 </a:t>
            </a:r>
            <a:endParaRPr b="1" lang="en-US" sz="2400" spc="-1" strike="noStrike">
              <a:solidFill>
                <a:srgbClr val="0077be"/>
              </a:solidFill>
              <a:latin typeface="SimSun"/>
            </a:endParaRPr>
          </a:p>
          <a:p>
            <a:pPr marL="343080" indent="-343080">
              <a:spcBef>
                <a:spcPts val="601"/>
              </a:spcBef>
              <a:buSzPct val="1113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0057f"/>
                </a:solidFill>
                <a:latin typeface="SimSun"/>
              </a:rPr>
              <a:t>是現時唯一獲香港衛生署批核為可治療暗瘡的口服避孕藥 。</a:t>
            </a:r>
            <a:endParaRPr b="1" lang="en-US" sz="24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01"/>
              </a:spcBef>
              <a:buSzPct val="1113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0057f"/>
                </a:solidFill>
                <a:latin typeface="SimSun"/>
              </a:rPr>
              <a:t>口服避孕藥不適合懷孕和吸煙女士服用。</a:t>
            </a:r>
            <a:endParaRPr b="1" lang="en-US" sz="24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600200"/>
            <a:ext cx="84582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5905440" y="5210280"/>
            <a:ext cx="323856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五成受訪者平均每個月患兩次或以上的暗瘡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72960" y="2077920"/>
          <a:ext cx="8407440" cy="42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2077920"/>
                    <a:ext cx="8407440" cy="42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7315200" y="6275520"/>
            <a:ext cx="1828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6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7560" y="1703520"/>
            <a:ext cx="1773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SimSun"/>
                <a:ea typeface="SimSun"/>
              </a:rPr>
              <a:t>你生暗瘡的頻密程度約：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94240" y="25765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ScheringSansBold"/>
                <a:ea typeface="新細明體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1720" y="2354400"/>
            <a:ext cx="149040" cy="826920"/>
          </a:xfrm>
          <a:custGeom>
            <a:avLst/>
            <a:gdLst>
              <a:gd name="textAreaLeft" fmla="*/ 0 w 149040"/>
              <a:gd name="textAreaRight" fmla="*/ 53640 w 149040"/>
              <a:gd name="textAreaTop" fmla="*/ 21240 h 826920"/>
              <a:gd name="textAreaBottom" fmla="*/ 805680 h 8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近五成受訪者認為皮膚的清潔程度是患上暗瘡的主要原因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74640" y="2152800"/>
          <a:ext cx="7898040" cy="39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2152800"/>
                    <a:ext cx="7898040" cy="39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019920" y="6248520"/>
            <a:ext cx="281916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有效樣本：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503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可選擇多項</a:t>
            </a:r>
            <a:r>
              <a:rPr b="0" lang="zh-TW" sz="14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62480" y="1836720"/>
            <a:ext cx="2062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SimSun"/>
                <a:ea typeface="SimSun"/>
              </a:rPr>
              <a:t>你認為生暗瘡的主要原因是：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56000" y="4098960"/>
            <a:ext cx="3678120" cy="2759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暗瘡的成因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9080" y="1261800"/>
            <a:ext cx="781020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CG Omega"/>
                <a:ea typeface="新細明體"/>
              </a:rPr>
              <a:t>暗瘡的成因是由於毛孔蔽塞，而毛孔蔽塞很多時是因為皮脂腺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(</a:t>
            </a:r>
            <a:r>
              <a:rPr b="1" lang="en-US" sz="2600" spc="-1" strike="noStrike">
                <a:solidFill>
                  <a:srgbClr val="f0057f"/>
                </a:solidFill>
                <a:latin typeface="SimSun"/>
              </a:rPr>
              <a:t>sebaceous glands)</a:t>
            </a:r>
            <a:r>
              <a:rPr b="1" lang="zh-TW" sz="2600" spc="-1" strike="noStrike">
                <a:solidFill>
                  <a:srgbClr val="f0057f"/>
                </a:solidFill>
                <a:latin typeface="CG Omega"/>
                <a:ea typeface="新細明體"/>
              </a:rPr>
              <a:t>受荷爾蒙雄激素</a:t>
            </a:r>
            <a:r>
              <a:rPr b="1" lang="zh-TW" sz="2600" spc="-1" strike="noStrike">
                <a:solidFill>
                  <a:srgbClr val="f0057f"/>
                </a:solidFill>
                <a:latin typeface="CG Omega"/>
                <a:ea typeface="新細明體"/>
              </a:rPr>
              <a:t>(</a:t>
            </a:r>
            <a:r>
              <a:rPr b="1" lang="zh-TW" sz="2600" spc="-1" strike="noStrike">
                <a:solidFill>
                  <a:srgbClr val="f0057f"/>
                </a:solidFill>
                <a:latin typeface="CG Omega"/>
                <a:ea typeface="新細明體"/>
              </a:rPr>
              <a:t>男性體內的荷爾蒙，女性體內亦同樣會產生</a:t>
            </a:r>
            <a:r>
              <a:rPr b="1" lang="zh-TW" sz="2600" spc="-1" strike="noStrike">
                <a:solidFill>
                  <a:srgbClr val="f0057f"/>
                </a:solidFill>
                <a:latin typeface="CG Omega"/>
                <a:ea typeface="新細明體"/>
              </a:rPr>
              <a:t>)</a:t>
            </a:r>
            <a:r>
              <a:rPr b="1" lang="zh-TW" sz="2600" spc="-1" strike="noStrike">
                <a:solidFill>
                  <a:srgbClr val="f0057f"/>
                </a:solidFill>
                <a:latin typeface="CG Omega"/>
                <a:ea typeface="新細明體"/>
              </a:rPr>
              <a:t>影響而分泌過多油份</a:t>
            </a: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皮膚角質化，阻塞毛囊，亦加速暗瘡形成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毛囊中的細菌產生有害的化合物及分泌酵素，刺激附近的組纖發炎，形成紅腫 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雄激素與暗瘡的關係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6480" y="1525320"/>
            <a:ext cx="7810560" cy="392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雄激素主要是男性體內的荷爾蒙，但女性體內亦同樣會產生雄激素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雄激素能刺激皮脂腺，當體內的雄激素過份活躍時，會引致皮脂腺產生過多油份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皮脂腺分泌旺盛，如出口受阻，便有可能增加細菌數量，引致發炎性暗瘡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0057f"/>
                </a:solidFill>
                <a:latin typeface="SimSun"/>
              </a:rPr>
              <a:t>很多時候，暗瘡患者體內的雄激素雖屬正常水平，但其皮脂腺可能對雄激素過敏，因而產生過多油份，同樣會引致暗瘡。</a:t>
            </a:r>
            <a:endParaRPr b="1" lang="en-US" sz="2600" spc="-1" strike="noStrike">
              <a:solidFill>
                <a:srgbClr val="f0057f"/>
              </a:solidFill>
              <a:latin typeface="SimSu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15328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0057f"/>
                </a:solidFill>
                <a:latin typeface="SimSun"/>
                <a:ea typeface="SimSu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暗瘡的種類 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01760" y="1298520"/>
            <a:ext cx="6368760" cy="2130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01760" y="3722760"/>
            <a:ext cx="6332400" cy="2168280"/>
          </a:xfrm>
          <a:prstGeom prst="rect">
            <a:avLst/>
          </a:prstGeom>
          <a:ln w="0">
            <a:noFill/>
          </a:ln>
        </p:spPr>
      </p:pic>
      <p:pic>
        <p:nvPicPr>
          <p:cNvPr id="102" name="white%20head" descr=""/>
          <p:cNvPicPr/>
          <p:nvPr/>
        </p:nvPicPr>
        <p:blipFill>
          <a:blip r:embed="rId3"/>
          <a:stretch/>
        </p:blipFill>
        <p:spPr>
          <a:xfrm>
            <a:off x="6684840" y="992160"/>
            <a:ext cx="2287800" cy="2792520"/>
          </a:xfrm>
          <a:prstGeom prst="rect">
            <a:avLst/>
          </a:prstGeom>
          <a:ln w="0">
            <a:noFill/>
          </a:ln>
        </p:spPr>
      </p:pic>
      <p:pic>
        <p:nvPicPr>
          <p:cNvPr id="103" name="black%20head" descr=""/>
          <p:cNvPicPr/>
          <p:nvPr/>
        </p:nvPicPr>
        <p:blipFill>
          <a:blip r:embed="rId4"/>
          <a:stretch/>
        </p:blipFill>
        <p:spPr>
          <a:xfrm>
            <a:off x="6707160" y="3875040"/>
            <a:ext cx="2286000" cy="29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暗瘡的種類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96800" y="1955880"/>
            <a:ext cx="4041720" cy="3827520"/>
            <a:chOff x="496800" y="1955880"/>
            <a:chExt cx="4041720" cy="382752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496800" y="2575080"/>
              <a:ext cx="4038840" cy="32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82480" y="1955880"/>
              <a:ext cx="3956040" cy="535680"/>
            </a:xfrm>
            <a:prstGeom prst="rect">
              <a:avLst/>
            </a:prstGeom>
            <a:solidFill>
              <a:srgbClr val="e30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9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丘疹 </a:t>
              </a:r>
              <a:r>
                <a:rPr b="1" lang="en-US" sz="29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Papule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686480" y="1971720"/>
            <a:ext cx="4059000" cy="3832200"/>
            <a:chOff x="4686480" y="1971720"/>
            <a:chExt cx="4059000" cy="38322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4708440" y="2592360"/>
              <a:ext cx="4037040" cy="32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686480" y="1971720"/>
              <a:ext cx="3956040" cy="535680"/>
            </a:xfrm>
            <a:prstGeom prst="rect">
              <a:avLst/>
            </a:prstGeom>
            <a:solidFill>
              <a:srgbClr val="e30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9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膿包 </a:t>
              </a:r>
              <a:r>
                <a:rPr b="1" lang="en-US" sz="29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Pustule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6880" y="550440"/>
            <a:ext cx="77994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36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e30579"/>
                </a:solidFill>
                <a:latin typeface="SimSun"/>
              </a:rPr>
              <a:t>暗瘡的種類 </a:t>
            </a:r>
            <a:endParaRPr b="1" lang="en-US" sz="4200" spc="-1" strike="noStrike">
              <a:solidFill>
                <a:srgbClr val="e30579"/>
              </a:solidFill>
              <a:latin typeface="SimSu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70040" y="1488960"/>
            <a:ext cx="2719440" cy="4349520"/>
            <a:chOff x="770040" y="1488960"/>
            <a:chExt cx="2719440" cy="43495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770040" y="1876320"/>
              <a:ext cx="270540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8320" y="1488960"/>
              <a:ext cx="2711160" cy="474840"/>
            </a:xfrm>
            <a:prstGeom prst="rect">
              <a:avLst/>
            </a:prstGeom>
            <a:solidFill>
              <a:srgbClr val="e30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5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囊腫 </a:t>
              </a:r>
              <a:r>
                <a:rPr b="1" lang="en-US" sz="25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Nodul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633840" y="1467000"/>
            <a:ext cx="5048280" cy="4435200"/>
            <a:chOff x="3633840" y="1467000"/>
            <a:chExt cx="5048280" cy="44352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3652920" y="1935000"/>
              <a:ext cx="5029200" cy="396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633840" y="1467000"/>
              <a:ext cx="4967280" cy="474840"/>
            </a:xfrm>
            <a:prstGeom prst="rect">
              <a:avLst/>
            </a:prstGeom>
            <a:solidFill>
              <a:srgbClr val="e305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5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和小結 </a:t>
              </a:r>
              <a:r>
                <a:rPr b="1" lang="zh-TW" sz="25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(</a:t>
              </a:r>
              <a:r>
                <a:rPr b="1" lang="en-US" sz="25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Cysts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12:02:24Z</dcterms:created>
  <dc:creator>Candy Wan</dc:creator>
  <dc:description/>
  <dc:language>en-US</dc:language>
  <cp:lastModifiedBy>PC84-CLIFF</cp:lastModifiedBy>
  <cp:lastPrinted>2001-06-22T16:19:55Z</cp:lastPrinted>
  <dcterms:modified xsi:type="dcterms:W3CDTF">2004-07-05T11:19:03Z</dcterms:modified>
  <cp:revision>148</cp:revision>
  <dc:subject/>
  <dc:title>Acne Treatment (Dr. Tnny Ho)</dc:title>
</cp:coreProperties>
</file>