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7375EA-C6DF-4E40-B291-51C1A92B99C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B33-2E1A-40CB-BDA3-0444BE14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C63-EC06-4571-9CDD-786E101A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072-1D73-4DF8-8D42-BDBA329C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550-B5C5-40CA-80F2-3867EA08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4CB-6A13-46B4-A233-AB6ADBBE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192-DD61-4118-8949-445B820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032-9FEA-46EE-B01B-028F58B4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1AE-D867-4021-AC09-57008FB1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75D-FEDA-40E5-B480-7787140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D03-52AF-4BC5-88D8-61A0FBC6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7A3-B0E1-426A-A630-B6F7AB73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54C-226D-47A1-AECC-12AD0AE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158F-D4D3-47BC-907F-74BF42741B6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Study on Public’s Reception and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Perception of Volunteer Services”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9144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 民意研究計劃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9320" y="762120"/>
          <a:ext cx="160956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16095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286000" y="4648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r Robert CHUNG Ting-yiu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9 November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times Participated in Volunteer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volunteering over the past 12 months ]</a:t>
            </a:r>
            <a:r>
              <a:rPr b="1" lang="zh-TW" sz="1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47920" y="1371600"/>
          <a:ext cx="6476760" cy="4811760"/>
        </p:xfrm>
        <a:graphic>
          <a:graphicData uri="http://schemas.openxmlformats.org/drawingml/2006/table">
            <a:tbl>
              <a:tblPr/>
              <a:tblGrid>
                <a:gridCol w="1601640"/>
                <a:gridCol w="2473200"/>
                <a:gridCol w="24019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 tim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 times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 times or above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5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.41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.44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657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o. of hours Participated in Volunteering*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95480" y="1295280"/>
          <a:ext cx="5791320" cy="29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95280"/>
                    <a:ext cx="579132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594360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200" spc="-1" strike="noStrike">
                <a:solidFill>
                  <a:srgbClr val="ccffff"/>
                </a:solidFill>
                <a:latin typeface="Times New Roman"/>
              </a:rPr>
              <a:t>*Excluding those who are certain that they have not participated in volunteering over the past 12 months </a:t>
            </a:r>
            <a:r>
              <a:rPr b="1" lang="zh-TW" sz="1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3657600"/>
          <a:ext cx="6218280" cy="278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7600"/>
                    <a:ext cx="62182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809880" y="15238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ganized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7339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tual Ai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219320"/>
          <a:ext cx="3047760" cy="1415880"/>
        </p:xfrm>
        <a:graphic>
          <a:graphicData uri="http://schemas.openxmlformats.org/drawingml/2006/table">
            <a:tbl>
              <a:tblPr/>
              <a:tblGrid>
                <a:gridCol w="838080"/>
                <a:gridCol w="1143000"/>
                <a:gridCol w="10666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4.8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.9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42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.61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erceived Hourly Rate of Volunteer Work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858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[Excluding those who are certain that they have not participated in volunteering over the past 12 months ]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71600" y="1905120"/>
          <a:ext cx="6477120" cy="4346280"/>
        </p:xfrm>
        <a:graphic>
          <a:graphicData uri="http://schemas.openxmlformats.org/drawingml/2006/table">
            <a:tbl>
              <a:tblPr/>
              <a:tblGrid>
                <a:gridCol w="1676520"/>
                <a:gridCol w="2590560"/>
                <a:gridCol w="22100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ed Voluntee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56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utual Ai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829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0 - $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0 -$1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20 -$2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30 -$3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40 -$4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50 -$5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60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$76.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32.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$30.04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$1.83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133720" y="380880"/>
          <a:ext cx="6421320" cy="28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80880"/>
                    <a:ext cx="642132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80880"/>
            <a:ext cx="8305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Volunteers Deployed*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20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3657600"/>
          <a:ext cx="5888160" cy="275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588816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143000" y="32004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No. of Service Hours Contributed by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ach Volunteer* </a:t>
            </a:r>
            <a:br>
              <a:rPr sz="24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202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24852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ff"/>
                </a:solidFill>
                <a:latin typeface="Times New Roman"/>
              </a:rPr>
              <a:t>*Excluding those who are certain that they have not received any volunteering service over the past 12 month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066680"/>
          <a:ext cx="2286000" cy="709560"/>
        </p:xfrm>
        <a:graphic>
          <a:graphicData uri="http://schemas.openxmlformats.org/drawingml/2006/table">
            <a:tbl>
              <a:tblPr/>
              <a:tblGrid>
                <a:gridCol w="149544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7.3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0.36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553080" y="4343400"/>
          <a:ext cx="2286000" cy="709560"/>
        </p:xfrm>
        <a:graphic>
          <a:graphicData uri="http://schemas.openxmlformats.org/drawingml/2006/table">
            <a:tbl>
              <a:tblPr/>
              <a:tblGrid>
                <a:gridCol w="1495440"/>
                <a:gridCol w="790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.0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.67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tention of Involvemen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43000" y="1905120"/>
          <a:ext cx="7010280" cy="3794040"/>
        </p:xfrm>
        <a:graphic>
          <a:graphicData uri="http://schemas.openxmlformats.org/drawingml/2006/table">
            <a:tbl>
              <a:tblPr/>
              <a:tblGrid>
                <a:gridCol w="2286000"/>
                <a:gridCol w="2133720"/>
                <a:gridCol w="2590560"/>
              </a:tblGrid>
              <a:tr h="11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lunteering*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968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ployment of 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3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’t know / hard to say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066680" y="59436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*Only ask those who have participated in any form of volunteer work befor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828800" y="3886200"/>
          <a:ext cx="5689440" cy="275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886200"/>
                    <a:ext cx="56894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257800"/>
            <a:ext cx="13716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Reasons for not Volunteering*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587)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-152280" y="609480"/>
          <a:ext cx="8381880" cy="32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609480"/>
                    <a:ext cx="83818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66680" y="3505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Intention for Future Volunteering*</a:t>
            </a:r>
            <a:br>
              <a:rPr sz="24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587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40080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*Only ask those who have never participated in volunteer work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Social Influenc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ff"/>
                </a:solidFill>
                <a:latin typeface="Times New Roman"/>
              </a:rPr>
              <a:t>Experience of Encouragement</a:t>
            </a:r>
            <a:br>
              <a:rPr sz="38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9320" y="2819520"/>
          <a:ext cx="6705360" cy="1925640"/>
        </p:xfrm>
        <a:graphic>
          <a:graphicData uri="http://schemas.openxmlformats.org/drawingml/2006/table">
            <a:tbl>
              <a:tblPr/>
              <a:tblGrid>
                <a:gridCol w="1271520"/>
                <a:gridCol w="2797200"/>
                <a:gridCol w="2636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of encouraging oth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of being encourage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1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9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ain Source of Encouragement</a:t>
            </a:r>
            <a:br>
              <a:rPr sz="2400"/>
            </a:b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[Only ask those who have been encouraged to participate in volunteering]</a:t>
            </a:r>
            <a:br>
              <a:rPr sz="1400"/>
            </a:b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新細明體"/>
              </a:rPr>
              <a:t>(</a:t>
            </a: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Base = 502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447920"/>
          <a:ext cx="7866360" cy="39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866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762120" y="5105520"/>
            <a:ext cx="75438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chools, business corporations, the elderly and new immigrant center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good entry points for promoting volunteeris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chools as superlative bases for promoting volunteerism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Barriers and Expecta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95280" y="23623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Participation: Actual and intend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ocial influe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Barriers and expec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Evaluation of provider agencies and the local cul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top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981080"/>
            <a:ext cx="78487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Barriers to the Development of Volunteer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295280"/>
          <a:ext cx="8305920" cy="4584960"/>
        </p:xfrm>
        <a:graphic>
          <a:graphicData uri="http://schemas.openxmlformats.org/drawingml/2006/table">
            <a:tbl>
              <a:tblPr/>
              <a:tblGrid>
                <a:gridCol w="3797280"/>
                <a:gridCol w="2432160"/>
                <a:gridCol w="207648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time of HK peopl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or economic condition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resourc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atmosphere for voluntee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ack of care for others of HK people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sufficient assistance from the gover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sufficient promo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Influence of the mass media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’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019920" y="2057400"/>
            <a:ext cx="304560" cy="228600"/>
          </a:xfrm>
          <a:prstGeom prst="wedgeRoundRectCallout">
            <a:avLst>
              <a:gd name="adj1" fmla="val -109375"/>
              <a:gd name="adj2" fmla="val -34722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2362320"/>
            <a:ext cx="304560" cy="228600"/>
          </a:xfrm>
          <a:prstGeom prst="wedgeRoundRectCallout">
            <a:avLst>
              <a:gd name="adj1" fmla="val -115106"/>
              <a:gd name="adj2" fmla="val -39583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2743200"/>
            <a:ext cx="304920" cy="228600"/>
          </a:xfrm>
          <a:prstGeom prst="wedgeRoundRectCallout">
            <a:avLst>
              <a:gd name="adj1" fmla="val -113541"/>
              <a:gd name="adj2" fmla="val -13194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2743200"/>
            <a:ext cx="304920" cy="228600"/>
          </a:xfrm>
          <a:prstGeom prst="wedgeRoundRectCallout">
            <a:avLst>
              <a:gd name="adj1" fmla="val -96875"/>
              <a:gd name="adj2" fmla="val 13888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1981080"/>
            <a:ext cx="304920" cy="228600"/>
          </a:xfrm>
          <a:prstGeom prst="wedgeRoundRectCallout">
            <a:avLst>
              <a:gd name="adj1" fmla="val -102083"/>
              <a:gd name="adj2" fmla="val 7638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2362320"/>
            <a:ext cx="304920" cy="228600"/>
          </a:xfrm>
          <a:prstGeom prst="wedgeRoundRectCallout">
            <a:avLst>
              <a:gd name="adj1" fmla="val -81773"/>
              <a:gd name="adj2" fmla="val 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ays to Promote Volunteer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19320" y="1295280"/>
          <a:ext cx="7391160" cy="4999320"/>
        </p:xfrm>
        <a:graphic>
          <a:graphicData uri="http://schemas.openxmlformats.org/drawingml/2006/table">
            <a:tbl>
              <a:tblPr/>
              <a:tblGrid>
                <a:gridCol w="3735360"/>
                <a:gridCol w="1828800"/>
                <a:gridCol w="18270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mprove the economic condition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nject more resource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cultivate the atmosphere for volunteering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promotion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governmental assistance 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cultivate the care for others among HK people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improve the conduct of the mass media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civic education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More compliments to the volunteers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 (please specify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248520" y="1981080"/>
            <a:ext cx="304560" cy="228600"/>
          </a:xfrm>
          <a:prstGeom prst="wedgeRoundRectCallout">
            <a:avLst>
              <a:gd name="adj1" fmla="val -95833"/>
              <a:gd name="adj2" fmla="val -22916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286000"/>
            <a:ext cx="304560" cy="228600"/>
          </a:xfrm>
          <a:prstGeom prst="wedgeRoundRectCallout">
            <a:avLst>
              <a:gd name="adj1" fmla="val -66666"/>
              <a:gd name="adj2" fmla="val 486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2666880"/>
            <a:ext cx="304920" cy="228600"/>
          </a:xfrm>
          <a:prstGeom prst="wedgeRoundRectCallout">
            <a:avLst>
              <a:gd name="adj1" fmla="val -104166"/>
              <a:gd name="adj2" fmla="val -1736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2590920"/>
            <a:ext cx="304560" cy="228600"/>
          </a:xfrm>
          <a:prstGeom prst="wedgeRoundRectCallout">
            <a:avLst>
              <a:gd name="adj1" fmla="val -135416"/>
              <a:gd name="adj2" fmla="val 2777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3505320"/>
            <a:ext cx="304560" cy="228600"/>
          </a:xfrm>
          <a:prstGeom prst="wedgeRoundRectCallout">
            <a:avLst>
              <a:gd name="adj1" fmla="val -83333"/>
              <a:gd name="adj2" fmla="val -6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2286000"/>
            <a:ext cx="304560" cy="228600"/>
          </a:xfrm>
          <a:prstGeom prst="wedgeRoundRectCallout">
            <a:avLst>
              <a:gd name="adj1" fmla="val -80731"/>
              <a:gd name="adj2" fmla="val -20833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Most Preferred Supporting Body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600200"/>
          <a:ext cx="8077320" cy="2859120"/>
        </p:xfrm>
        <a:graphic>
          <a:graphicData uri="http://schemas.openxmlformats.org/drawingml/2006/table">
            <a:tbl>
              <a:tblPr/>
              <a:tblGrid>
                <a:gridCol w="3598920"/>
                <a:gridCol w="2238480"/>
                <a:gridCol w="223992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he governmen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eople in Hong Ko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n-government organization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ll of the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609480" y="4724280"/>
            <a:ext cx="88394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Genuine support from government is indispensable (voluntee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More civic education needed (volunteer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Additional resources from government and all walks of life urged (service recipients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2362320"/>
            <a:ext cx="304560" cy="228600"/>
          </a:xfrm>
          <a:prstGeom prst="wedgeRoundRectCallout">
            <a:avLst>
              <a:gd name="adj1" fmla="val -102606"/>
              <a:gd name="adj2" fmla="val 0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743200"/>
            <a:ext cx="304560" cy="228600"/>
          </a:xfrm>
          <a:prstGeom prst="wedgeRoundRectCallout">
            <a:avLst>
              <a:gd name="adj1" fmla="val -63023"/>
              <a:gd name="adj2" fmla="val -76388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124080"/>
            <a:ext cx="304560" cy="228600"/>
          </a:xfrm>
          <a:prstGeom prst="wedgeRoundRectCallout">
            <a:avLst>
              <a:gd name="adj1" fmla="val -90106"/>
              <a:gd name="adj2" fmla="val -11111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3124080"/>
            <a:ext cx="304560" cy="228600"/>
          </a:xfrm>
          <a:prstGeom prst="wedgeRoundRectCallout">
            <a:avLst>
              <a:gd name="adj1" fmla="val -100523"/>
              <a:gd name="adj2" fmla="val -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429000"/>
            <a:ext cx="304920" cy="228600"/>
          </a:xfrm>
          <a:prstGeom prst="wedgeRoundRectCallout">
            <a:avLst>
              <a:gd name="adj1" fmla="val -115625"/>
              <a:gd name="adj2" fmla="val -13194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924680" y="2362320"/>
            <a:ext cx="304920" cy="228600"/>
          </a:xfrm>
          <a:prstGeom prst="wedgeRoundRectCallout">
            <a:avLst>
              <a:gd name="adj1" fmla="val -81250"/>
              <a:gd name="adj2" fmla="val -11805"/>
              <a:gd name="adj3" fmla="val 16667"/>
            </a:avLst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erceived Social Status of Volunteer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14400" y="2514600"/>
          <a:ext cx="7238880" cy="2678040"/>
        </p:xfrm>
        <a:graphic>
          <a:graphicData uri="http://schemas.openxmlformats.org/drawingml/2006/table">
            <a:tbl>
              <a:tblPr/>
              <a:tblGrid>
                <a:gridCol w="2879640"/>
                <a:gridCol w="2024280"/>
                <a:gridCol w="2334960"/>
              </a:tblGrid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General Public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1,555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pectabl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n-essentia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 respecte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% 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on't know / hard to sa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ffff"/>
                </a:solidFill>
                <a:latin typeface="Times New Roman"/>
              </a:rPr>
              <a:t>Nature of Volunteering Service </a:t>
            </a:r>
            <a:br>
              <a:rPr sz="2600"/>
            </a:b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1371600"/>
          <a:ext cx="7925040" cy="495000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eiv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4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*Service Need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Base = 201)</a:t>
                      </a:r>
                      <a:endParaRPr b="0" lang="en-US" sz="16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Recreational activiti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</a:t>
                      </a: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Visit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Clerical 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Promotion and community-educa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Escorting servic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Homework tutor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Counsel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Skill coachin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Labour 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Don't know / hard to say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990720" y="60958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324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Excluding those who are certain that they would not deploy volunteers agai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334120" y="2057400"/>
            <a:ext cx="2743200" cy="990720"/>
            <a:chOff x="5334120" y="2057400"/>
            <a:chExt cx="2743200" cy="990720"/>
          </a:xfrm>
        </p:grpSpPr>
        <p:sp>
          <p:nvSpPr>
            <p:cNvPr id="180" name=""/>
            <p:cNvSpPr/>
            <p:nvPr/>
          </p:nvSpPr>
          <p:spPr>
            <a:xfrm>
              <a:off x="7772400" y="2057400"/>
              <a:ext cx="304920" cy="228600"/>
            </a:xfrm>
            <a:prstGeom prst="wedgeRoundRectCallout">
              <a:avLst>
                <a:gd name="adj1" fmla="val -104166"/>
                <a:gd name="adj2" fmla="val -6250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2400" y="2438280"/>
              <a:ext cx="304920" cy="228600"/>
            </a:xfrm>
            <a:prstGeom prst="wedgeRoundRectCallout">
              <a:avLst>
                <a:gd name="adj1" fmla="val -91666"/>
                <a:gd name="adj2" fmla="val -694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2400" y="2819520"/>
              <a:ext cx="304920" cy="228600"/>
            </a:xfrm>
            <a:prstGeom prst="wedgeRoundRectCallout">
              <a:avLst>
                <a:gd name="adj1" fmla="val -79166"/>
                <a:gd name="adj2" fmla="val -6250"/>
                <a:gd name="adj3" fmla="val 16667"/>
              </a:avLst>
            </a:prstGeom>
            <a:noFill/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4120" y="2057400"/>
              <a:ext cx="304560" cy="228600"/>
            </a:xfrm>
            <a:prstGeom prst="wedgeRoundRectCallout">
              <a:avLst>
                <a:gd name="adj1" fmla="val -108333"/>
                <a:gd name="adj2" fmla="val 15972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4120" y="2438280"/>
              <a:ext cx="304560" cy="228600"/>
            </a:xfrm>
            <a:prstGeom prst="wedgeRoundRectCallout">
              <a:avLst>
                <a:gd name="adj1" fmla="val -104166"/>
                <a:gd name="adj2" fmla="val -6250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4120" y="2819520"/>
              <a:ext cx="304560" cy="228600"/>
            </a:xfrm>
            <a:prstGeom prst="wedgeRoundRectCallout">
              <a:avLst>
                <a:gd name="adj1" fmla="val -95833"/>
                <a:gd name="adj2" fmla="val -6250"/>
                <a:gd name="adj3" fmla="val 16667"/>
              </a:avLst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Evaluation of Provider Agencies and the Local Culture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7621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Evaluation of Servic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20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1752480"/>
          <a:ext cx="7778520" cy="42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778520" cy="42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Satisfaction with Various Aspects of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ff"/>
                </a:solidFill>
                <a:latin typeface="Times New Roman"/>
                <a:ea typeface="細明體"/>
              </a:rPr>
              <a:t>Provider Agenci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150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43000" y="1676520"/>
          <a:ext cx="8001000" cy="41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8001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6094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Evaluation of the Influence of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  <a:ea typeface="細明體"/>
              </a:rPr>
              <a:t>Government Policies and Local Cultur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細明體"/>
              </a:rPr>
              <a:t>(Base = 20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1600200"/>
          <a:ext cx="7619760" cy="44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61976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ther Topics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verview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380880" y="2781360"/>
          <a:ext cx="721368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81360"/>
                    <a:ext cx="72136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752480" y="152280"/>
          <a:ext cx="7101000" cy="395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52280"/>
                    <a:ext cx="71010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0"/>
            <a:ext cx="6705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General Motivations fo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52280" y="3200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General Hindrances for 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(Base = 1,555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hannels for Learning about Ways to Volunte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 ]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(Base = 348)</a:t>
            </a:r>
            <a:r>
              <a:rPr b="1" lang="en-US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3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600200"/>
          <a:ext cx="876312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76312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eed for Training before Volunteering</a:t>
            </a:r>
            <a:br>
              <a:rPr sz="3600"/>
            </a:b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43000" y="1143000"/>
          <a:ext cx="7238880" cy="39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238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533520" y="1143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1400" spc="-1" strike="noStrike">
                <a:solidFill>
                  <a:srgbClr val="ccffff"/>
                </a:solidFill>
                <a:latin typeface="Times New Roman"/>
              </a:rPr>
              <a:t>[Only ask those who have participated in organized volunteering before]</a:t>
            </a:r>
            <a:r>
              <a:rPr b="1" lang="zh-TW" sz="37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37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(Base = 348)</a:t>
            </a:r>
            <a:r>
              <a:rPr b="1" lang="zh-TW" sz="42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876920"/>
            <a:ext cx="746748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*Opinion from focus groups: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Success of volunteer services greatly enhanced by adequate training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imes New Roman"/>
              </a:rPr>
              <a:t>Regular training programs for potential and existing volunteers urged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urvey of General Public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Over 60% of HK people had ever participated in any form         of volunteer work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Two-fifth of respondents volunteered over the past 12 months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The majority of those who had volunteered  would continue       to volunteer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Half of those who had never volunteered would consider       volunteering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Most people positively assessed volunteers and thought that       volunteers were being respected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38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ecff"/>
                </a:solidFill>
                <a:latin typeface="Times New Roman"/>
              </a:rPr>
              <a:t>Helping others and serving the community were perceived as       the motivations for volunteering, while a waste of time as the       major hindrance</a:t>
            </a:r>
            <a:endParaRPr b="0" lang="en-US" sz="1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urvey of Service Recipi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2133720"/>
            <a:ext cx="7238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our-fifths of organization representatives had ever received volunteering service within one month ag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ervice recipients deployed 237 volunteers on average in the past year, each volunteer provided an average of 25 service hou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Volunteer services received and needed in future were      mainly recreational activities and visit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rangement of volunteering service provided by volunteer provider agencies and the performance of volunteers      positively evalu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ocus Group Discuss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2133720"/>
            <a:ext cx="7239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ommunications and mutual understand between volunteer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nd organizations considered importa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ost-service follow-ups and training needed for volunte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evelopment of systematic database of volunteers called fo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chools as superlative bases for promoting volunteeris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Support from government (more resources) urg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More research on volunteerism to be initiat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828800" y="26668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hank you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19320" y="152388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One: Quantitative telephone survey of the general public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Two: Quantitative telephone survey of the service recipients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Stage Three: Qualitative focus group studi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ontact Information of Telephone Survey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2120" y="1600200"/>
          <a:ext cx="7619760" cy="4657680"/>
        </p:xfrm>
        <a:graphic>
          <a:graphicData uri="http://schemas.openxmlformats.org/drawingml/2006/table">
            <a:tbl>
              <a:tblPr/>
              <a:tblGrid>
                <a:gridCol w="2361960"/>
                <a:gridCol w="2895840"/>
                <a:gridCol w="2361960"/>
              </a:tblGrid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ge On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ge Two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te of fieldwork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8/9 – 5/10/200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/10 – 5/11/200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, 555 successful cas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4 successful cas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ponse rat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4.2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97.6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tandard erro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&lt; 1.3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&lt; 3.5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arget populatio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Cantonese-speakers aged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ation representative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earch metho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andom telephone survey with interview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elephone survey with interviewer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Weighting metho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djusted according to age-sex distribution reported in 2001 Censu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t applie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formation of Focus Group Studie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05120"/>
          <a:ext cx="7772400" cy="3848040"/>
        </p:xfrm>
        <a:graphic>
          <a:graphicData uri="http://schemas.openxmlformats.org/drawingml/2006/table">
            <a:tbl>
              <a:tblPr/>
              <a:tblGrid>
                <a:gridCol w="2716200"/>
                <a:gridCol w="2389320"/>
                <a:gridCol w="2666880"/>
              </a:tblGrid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rvice Recipient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te of fieldwork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/12/2001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1/01/200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ample siz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arget population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ffff"/>
                          </a:solidFill>
                          <a:latin typeface="Times New Roman"/>
                        </a:rPr>
                        <a:t>Voluntee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Organization representativ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search metho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ocus group discussions with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d moderator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60" y="156672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2096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Participation: Actua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and Inten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360" y="1066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xperience of Participating in 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Volunteering</a:t>
            </a:r>
            <a:br>
              <a:rPr sz="3200"/>
            </a:b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(Base=1,55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2743200"/>
          <a:ext cx="7924680" cy="2895480"/>
        </p:xfrm>
        <a:graphic>
          <a:graphicData uri="http://schemas.openxmlformats.org/drawingml/2006/table">
            <a:tbl>
              <a:tblPr/>
              <a:tblGrid>
                <a:gridCol w="914040"/>
                <a:gridCol w="2667240"/>
                <a:gridCol w="1828800"/>
                <a:gridCol w="2514600"/>
              </a:tblGrid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Organized Volunteering onl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Mutual Aid only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xperience in EITHER Organized Volunteering or Mutual Ai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5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7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4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8%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Last Participation in Volunteering</a:t>
            </a:r>
            <a:r>
              <a:rPr b="1" lang="en-US" sz="2800" spc="-1" strike="noStrike">
                <a:solidFill>
                  <a:srgbClr val="ccffff"/>
                </a:solidFill>
                <a:latin typeface="新細明體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1640" y="692280"/>
          <a:ext cx="7245360" cy="56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692280"/>
                    <a:ext cx="72453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" y="1847880"/>
          <a:ext cx="8686800" cy="5010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847880"/>
                    <a:ext cx="86868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981080"/>
            <a:ext cx="373356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ganized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olunte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Base = 348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4648320"/>
            <a:ext cx="373392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tual Ai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Base = 859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alvinchan</cp:lastModifiedBy>
  <cp:lastPrinted>2001-04-04T10:00:24Z</cp:lastPrinted>
  <dcterms:modified xsi:type="dcterms:W3CDTF">2003-04-09T02:13:04Z</dcterms:modified>
  <cp:revision>616</cp:revision>
  <dc:subject/>
  <dc:title>無投影片標題</dc:title>
</cp:coreProperties>
</file>