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13.wmf" ContentType="image/x-wmf"/>
  <Override PartName="/ppt/media/image29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28.jpeg" ContentType="image/jpeg"/>
  <Override PartName="/ppt/media/image27.jpeg" ContentType="image/jpeg"/>
  <Override PartName="/ppt/media/image1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7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193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rands_logo" descr=""/>
          <p:cNvPicPr/>
          <p:nvPr/>
        </p:nvPicPr>
        <p:blipFill>
          <a:blip r:embed="rId9"/>
          <a:stretch/>
        </p:blipFill>
        <p:spPr>
          <a:xfrm>
            <a:off x="3657600" y="6248520"/>
            <a:ext cx="1066680" cy="506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324480"/>
            <a:ext cx="91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新細明體"/>
                <a:ea typeface="新細明體"/>
              </a:rPr>
              <a:t>每日一樽                    加速代謝皮質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G Omeg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193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rands_logo" descr=""/>
          <p:cNvPicPr/>
          <p:nvPr/>
        </p:nvPicPr>
        <p:blipFill>
          <a:blip r:embed="rId2"/>
          <a:stretch/>
        </p:blipFill>
        <p:spPr>
          <a:xfrm>
            <a:off x="3657600" y="6248520"/>
            <a:ext cx="1066680" cy="506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248520"/>
            <a:ext cx="91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新細明體"/>
                <a:ea typeface="新細明體"/>
              </a:rPr>
              <a:t>每日一樽                    加速代謝皮質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G Omeg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G Omeg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G Omeg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G Omeg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荷爾蒙皮質醇與</a:t>
            </a:r>
            <a:br>
              <a:rPr sz="5400"/>
            </a:br>
            <a:r>
              <a:rPr b="1" lang="zh-TW" sz="5400" spc="-1" strike="noStrike">
                <a:solidFill>
                  <a:srgbClr val="336600"/>
                </a:solidFill>
                <a:latin typeface="CG Omega"/>
                <a:ea typeface="新細明體"/>
              </a:rPr>
              <a:t>身心健康調查</a:t>
            </a:r>
            <a:endParaRPr b="1" lang="en-US" sz="54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040" y="41148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講者：梁耀堅博士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中文大學心理學系副教授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鍾庭耀博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大學民意研究計劃主任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2003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是否家庭經濟支柱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33520" y="1295280"/>
          <a:ext cx="82087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2087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7391520" y="55627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606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6600"/>
                </a:solidFill>
                <a:latin typeface="新細明體"/>
                <a:ea typeface="新細明體"/>
              </a:rPr>
              <a:t>調查結果</a:t>
            </a:r>
            <a:endParaRPr b="1" lang="en-US" sz="54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00600" y="1523880"/>
          <a:ext cx="330372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33037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香港在職人士的壓力評估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(</a:t>
            </a: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自我評估</a:t>
            </a: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)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過半數受訪者認為自己今年所受壓力大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295280"/>
          <a:ext cx="881712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171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7374960" y="541008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67160" y="1143000"/>
            <a:ext cx="2669760" cy="2913480"/>
            <a:chOff x="2567160" y="1143000"/>
            <a:chExt cx="2669760" cy="2913480"/>
          </a:xfrm>
        </p:grpSpPr>
        <p:sp>
          <p:nvSpPr>
            <p:cNvPr id="143" name=""/>
            <p:cNvSpPr/>
            <p:nvPr/>
          </p:nvSpPr>
          <p:spPr>
            <a:xfrm>
              <a:off x="4751280" y="3581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幾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3800" y="20574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非常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43120" y="36576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一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32320" y="1143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完全無壓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67160" y="1600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唔係幾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553080" y="1828800"/>
            <a:ext cx="609840" cy="3809880"/>
          </a:xfrm>
          <a:custGeom>
            <a:avLst/>
            <a:gdLst>
              <a:gd name="textAreaLeft" fmla="*/ 0 w 609840"/>
              <a:gd name="textAreaRight" fmla="*/ 220320 w 60984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7600" y="35053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</a:rPr>
              <a:t>5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表示壓力大的受訪者中，</a:t>
            </a:r>
            <a:br>
              <a:rPr sz="3600"/>
            </a:b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超過七成壓力比去年大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44400" y="1530360"/>
          <a:ext cx="78552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530360"/>
                    <a:ext cx="78552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019920" y="55627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331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表示壓力大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香港在職人士壓力引致的</a:t>
            </a:r>
            <a:br>
              <a:rPr sz="4400"/>
            </a:b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健康問題評估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762120"/>
          <a:ext cx="328608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762120"/>
                    <a:ext cx="3286080" cy="2581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320" y="1639800"/>
          <a:ext cx="86868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39800"/>
                    <a:ext cx="86868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477120" y="5562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94360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* 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男性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&gt;30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吋，女性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&gt;28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  <a:ea typeface="新細明體"/>
              </a:rPr>
              <a:t>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1828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286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大部份受訪者都表示於過去一年內曾出現與</a:t>
            </a:r>
            <a:br>
              <a:rPr sz="3200"/>
            </a:br>
            <a:r>
              <a:rPr b="1" lang="zh-TW" sz="32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壓力荷爾蒙相關的健康問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46360" y="1066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受訪者於過去一年內曾出現以下與壓力荷爾蒙相關的健康問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2743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6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809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5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724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G Omega"/>
                <a:ea typeface="新細明體"/>
              </a:rPr>
              <a:t>4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5867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63076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2860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九成</a:t>
            </a:r>
            <a:r>
              <a:rPr b="1" lang="zh-TW" sz="3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受訪者於過去一年內曾出現</a:t>
            </a:r>
            <a:r>
              <a:rPr b="1" lang="zh-CN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三種或以上</a:t>
            </a:r>
            <a:r>
              <a:rPr b="1" lang="zh-TW" sz="36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與壓力荷爾蒙相關的健康問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219320"/>
          <a:ext cx="914400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壓力荷爾蒙皮質醇及其引致的健康問題的認知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只有四分一受訪者表示聽聞過</a:t>
            </a:r>
            <a:br>
              <a:rPr sz="3600"/>
            </a:b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壓力荷爾蒙皮質醇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298520"/>
          <a:ext cx="8861400" cy="49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8520"/>
                    <a:ext cx="88614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7374960" y="541008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936160" y="1143000"/>
            <a:ext cx="2427840" cy="4056480"/>
            <a:chOff x="2936160" y="1143000"/>
            <a:chExt cx="2427840" cy="4056480"/>
          </a:xfrm>
        </p:grpSpPr>
        <p:sp>
          <p:nvSpPr>
            <p:cNvPr id="185" name=""/>
            <p:cNvSpPr/>
            <p:nvPr/>
          </p:nvSpPr>
          <p:spPr>
            <a:xfrm>
              <a:off x="3963960" y="4800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沒有聽聞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26080" y="17524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聽聞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6160" y="1143000"/>
              <a:ext cx="13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不知道</a:t>
              </a: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/</a:t>
              </a:r>
              <a:r>
                <a:rPr b="1" lang="zh-TW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很難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荷爾蒙皮質醇與</a:t>
            </a:r>
            <a:br>
              <a:rPr sz="6000"/>
            </a:br>
            <a:r>
              <a:rPr b="1" lang="zh-TW" sz="6000" spc="-1" strike="noStrike">
                <a:solidFill>
                  <a:srgbClr val="336600"/>
                </a:solidFill>
                <a:latin typeface="CG Omega"/>
                <a:ea typeface="新細明體"/>
              </a:rPr>
              <a:t>身心健康調查結果概要</a:t>
            </a:r>
            <a:endParaRPr b="1" lang="en-US" sz="6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1960" y="4038120"/>
            <a:ext cx="480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講者：鍾庭耀博士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大學民意研究計劃主任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00"/>
                </a:solidFill>
                <a:latin typeface="新細明體"/>
                <a:ea typeface="新細明體"/>
              </a:rPr>
              <a:t>大部份聽聞過</a:t>
            </a:r>
            <a:r>
              <a:rPr b="1" lang="zh-TW" sz="32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荷爾蒙</a:t>
            </a:r>
            <a:r>
              <a:rPr b="1" lang="zh-TW" sz="3200" spc="-1" strike="noStrike">
                <a:solidFill>
                  <a:srgbClr val="336600"/>
                </a:solidFill>
                <a:latin typeface="新細明體"/>
                <a:ea typeface="新細明體"/>
              </a:rPr>
              <a:t>皮質醇</a:t>
            </a:r>
            <a:r>
              <a:rPr b="1" lang="zh-TW" sz="3200" spc="-1" strike="noStrike">
                <a:solidFill>
                  <a:srgbClr val="336600"/>
                </a:solidFill>
                <a:latin typeface="CG Omega"/>
                <a:ea typeface="新細明體"/>
              </a:rPr>
              <a:t>的受訪者卻不知它可能引致嚴重健康問題</a:t>
            </a:r>
            <a:endParaRPr b="1" lang="en-US" sz="32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36560" y="1995480"/>
          <a:ext cx="8447040" cy="43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995480"/>
                    <a:ext cx="844704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829200" y="5943600"/>
            <a:ext cx="193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有效樣本：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表示聽過壓力荷爾蒙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002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您覺得壓力荷爾蒙皮質醇可引致什麼健康問題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17524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大部份在職人士不知道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壓力荷爾蒙皮質醇對身心健康的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影響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只有四分一受訪者聽過壓力荷爾蒙皮質醇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但亦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只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是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知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道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其對情緒的影響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而沒有想到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其與長期病患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如糖尿病、心臟病等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的關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09480"/>
            <a:ext cx="243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685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CG Omega"/>
                <a:ea typeface="新細明體"/>
              </a:rPr>
              <a:t>小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荷爾蒙對工作，家庭和社交的影響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5320" y="838080"/>
          <a:ext cx="2514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838080"/>
                    <a:ext cx="2514600" cy="2514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5867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09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63076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28600"/>
            <a:ext cx="815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逾六成受訪者表示壓力荷爾蒙引致的</a:t>
            </a:r>
            <a:br>
              <a:rPr sz="3600"/>
            </a:b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健康問題影響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28600" y="1143000"/>
          <a:ext cx="8381880" cy="47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381880" cy="47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752480"/>
          <a:ext cx="86868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95880" y="5791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新細明體"/>
              </a:rPr>
              <a:t>380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新細明體"/>
              </a:rPr>
              <a:t>個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表示工作受影響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CG Omega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9600" y="2286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8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286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00"/>
                </a:solidFill>
                <a:latin typeface="新細明體"/>
                <a:ea typeface="新細明體"/>
              </a:rPr>
              <a:t>逾</a:t>
            </a:r>
            <a:r>
              <a:rPr b="1" lang="zh-TW" sz="3200" spc="-1" strike="noStrike">
                <a:solidFill>
                  <a:srgbClr val="336600"/>
                </a:solidFill>
                <a:latin typeface="CG Omega"/>
                <a:ea typeface="新細明體"/>
              </a:rPr>
              <a:t>八成表示工作受影響的受訪者都感到因壓力荷爾蒙</a:t>
            </a:r>
            <a:r>
              <a:rPr b="1" lang="zh-TW" sz="3200" spc="-1" strike="noStrike">
                <a:solidFill>
                  <a:srgbClr val="336600"/>
                </a:solidFill>
                <a:latin typeface="新細明體"/>
                <a:ea typeface="新細明體"/>
              </a:rPr>
              <a:t>引致</a:t>
            </a:r>
            <a:r>
              <a:rPr b="1" lang="zh-TW" sz="3200" spc="-1" strike="noStrike">
                <a:solidFill>
                  <a:srgbClr val="336600"/>
                </a:solidFill>
                <a:latin typeface="CG Omega"/>
                <a:ea typeface="新細明體"/>
              </a:rPr>
              <a:t>的健康問題令他們的工作效率下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3429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2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62720" y="4495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2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8320" y="1371600"/>
            <a:ext cx="29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新細明體"/>
              </a:rPr>
              <a:t>壓力荷爾蒙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引致</a:t>
            </a:r>
            <a:r>
              <a:rPr b="0" lang="zh-TW" sz="2000" spc="-1" strike="noStrike">
                <a:solidFill>
                  <a:srgbClr val="000000"/>
                </a:solidFill>
                <a:latin typeface="CG Omega"/>
                <a:ea typeface="新細明體"/>
              </a:rPr>
              <a:t>的健康問題對工作的影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86868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86868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94360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有效樣本：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231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個</a:t>
            </a:r>
            <a:r>
              <a:rPr b="0" lang="zh-TW" sz="12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表示家庭生活受影響</a:t>
            </a:r>
            <a:r>
              <a:rPr b="0" lang="zh-TW" sz="12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2590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7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6600"/>
                </a:solidFill>
                <a:latin typeface="新細明體"/>
                <a:ea typeface="新細明體"/>
              </a:rPr>
              <a:t>逾</a:t>
            </a:r>
            <a:r>
              <a:rPr b="1" lang="zh-TW" sz="2600" spc="-1" strike="noStrike">
                <a:solidFill>
                  <a:srgbClr val="336600"/>
                </a:solidFill>
                <a:latin typeface="新細明體"/>
                <a:ea typeface="新細明體"/>
              </a:rPr>
              <a:t>七成表示家庭生活受影響的</a:t>
            </a:r>
            <a:r>
              <a:rPr b="1" lang="zh-TW" sz="2600" spc="-1" strike="noStrike">
                <a:solidFill>
                  <a:srgbClr val="336600"/>
                </a:solidFill>
                <a:latin typeface="CG Omega"/>
                <a:ea typeface="新細明體"/>
              </a:rPr>
              <a:t>受訪者感到因壓力荷爾蒙</a:t>
            </a:r>
            <a:r>
              <a:rPr b="1" lang="zh-TW" sz="2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引致</a:t>
            </a:r>
            <a:r>
              <a:rPr b="1" lang="zh-TW" sz="2600" spc="-1" strike="noStrike">
                <a:solidFill>
                  <a:srgbClr val="336600"/>
                </a:solidFill>
                <a:latin typeface="CG Omega"/>
                <a:ea typeface="新細明體"/>
              </a:rPr>
              <a:t>的健康問題令他們</a:t>
            </a:r>
            <a:r>
              <a:rPr b="1" lang="zh-TW" sz="2600" spc="-1" strike="noStrike">
                <a:solidFill>
                  <a:srgbClr val="336600"/>
                </a:solidFill>
                <a:latin typeface="新細明體"/>
                <a:ea typeface="新細明體"/>
              </a:rPr>
              <a:t>減少與家人溝通，甚至向家人發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3760" y="12952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  <a:ea typeface="新細明體"/>
              </a:rPr>
              <a:t>壓力荷爾蒙影響的健康問題對家庭的影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總結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6600"/>
                </a:solidFill>
                <a:latin typeface="CG Omega"/>
                <a:ea typeface="新細明體"/>
              </a:rPr>
              <a:t>香港在職人士長期受壓，情況</a:t>
            </a:r>
            <a:r>
              <a:rPr b="1" lang="zh-TW" sz="3200" spc="-1" strike="noStrike">
                <a:solidFill>
                  <a:srgbClr val="006600"/>
                </a:solidFill>
                <a:latin typeface="CG Omega"/>
                <a:ea typeface="新細明體"/>
              </a:rPr>
              <a:t>值得關注</a:t>
            </a:r>
            <a:endParaRPr b="1" lang="en-US" sz="32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867800" y="5334120"/>
          <a:ext cx="12762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7800" y="5334120"/>
                    <a:ext cx="1276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大部份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在職人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表示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自己所受的壓力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很大或頗大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九成受訪者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表示過去一年曾出現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三種或以上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與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壓力荷爾蒙有關的健康問題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大部份認為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這些健康問題影響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他們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的工作效率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展望將來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由於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經濟環境仍未全面復甦，失業率長期高企，在職人士需不停“資源增值”，來年更可能減薪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/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凍薪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如何協助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在職人士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解決來自工作</a:t>
            </a: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經濟和家庭的壓力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以免出現健康問題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實在是</a:t>
            </a:r>
            <a:r>
              <a:rPr b="0" lang="ja-JP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當務之急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與身心健康的關係</a:t>
            </a:r>
            <a:endParaRPr b="1" lang="en-US" sz="48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28" name=""/>
          <p:cNvSpPr/>
          <p:nvPr/>
        </p:nvSpPr>
        <p:spPr>
          <a:xfrm>
            <a:off x="3232440" y="434340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講者：梁耀堅博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i="1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香港中文大學心理學系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短期受壓</a:t>
            </a:r>
            <a:r>
              <a:rPr b="1" lang="en-US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vs</a:t>
            </a: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長期受壓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短期受壓 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例：見工遇見惡上司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長期受壓 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例：惡上司成為你老闆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長期受壓：</a:t>
            </a:r>
            <a:r>
              <a:rPr b="0" lang="zh-TW" sz="2800" spc="-1" strike="noStrike">
                <a:solidFill>
                  <a:srgbClr val="cc0000"/>
                </a:solidFill>
                <a:latin typeface="CG Omega"/>
                <a:ea typeface="新細明體"/>
              </a:rPr>
              <a:t>長期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面對</a:t>
            </a:r>
            <a:r>
              <a:rPr b="0" lang="zh-TW" sz="2800" spc="-1" strike="noStrike">
                <a:solidFill>
                  <a:srgbClr val="cc0000"/>
                </a:solidFill>
                <a:latin typeface="CG Omega"/>
                <a:ea typeface="新細明體"/>
              </a:rPr>
              <a:t>無法控制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和</a:t>
            </a:r>
            <a:r>
              <a:rPr b="0" lang="zh-TW" sz="2800" spc="-1" strike="noStrike">
                <a:solidFill>
                  <a:srgbClr val="cc0000"/>
                </a:solidFill>
                <a:latin typeface="CG Omega"/>
                <a:ea typeface="新細明體"/>
              </a:rPr>
              <a:t>逃不掉</a:t>
            </a:r>
            <a:r>
              <a:rPr b="0" lang="zh-TW" sz="2800" spc="-1" strike="noStrike">
                <a:solidFill>
                  <a:srgbClr val="000000"/>
                </a:solidFill>
                <a:latin typeface="CG Omega"/>
                <a:ea typeface="新細明體"/>
              </a:rPr>
              <a:t>的壓力，令身體系統運作需要不斷改變，提供足夠能量以面對壓力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pic>
        <p:nvPicPr>
          <p:cNvPr id="231" name="boss" descr=""/>
          <p:cNvPicPr/>
          <p:nvPr/>
        </p:nvPicPr>
        <p:blipFill>
          <a:blip r:embed="rId4"/>
          <a:stretch/>
        </p:blipFill>
        <p:spPr>
          <a:xfrm>
            <a:off x="7094520" y="685800"/>
            <a:ext cx="204948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調查概況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33520" y="1752480"/>
          <a:ext cx="8076960" cy="3971880"/>
        </p:xfrm>
        <a:graphic>
          <a:graphicData uri="http://schemas.openxmlformats.org/drawingml/2006/table">
            <a:tbl>
              <a:tblPr/>
              <a:tblGrid>
                <a:gridCol w="1962000"/>
                <a:gridCol w="611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調查目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評估本港在職人士對各種壓力荷爾蒙相關健康問題的認知，曾經出現的相關健康問題及其影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調查對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Times New Roman"/>
                        </a:rPr>
                        <a:t>1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至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Times New Roman"/>
                        </a:rPr>
                        <a:t>49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歲，全職工作並操粵語的香港市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調查日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200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年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1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23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日至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1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2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調查機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香港大學民意研究計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調查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由訪問員直接進行電話隨機抽樣訪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成功訪問人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61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成功回應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72.7% 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以符合資格的目標對象計算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抽樣誤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3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少於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G Omega"/>
                          <a:ea typeface="新細明體"/>
                        </a:rPr>
                        <a:t>2.0%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stresspath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589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anxietyhpa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05720" cy="5562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040" y="152280"/>
            <a:ext cx="73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The HPA Axis (hypothalamus-pituitary-adrenal g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新細明體"/>
                <a:ea typeface="新細明體"/>
              </a:rPr>
              <a:t>壓力荷爾蒙</a:t>
            </a:r>
            <a:r>
              <a:rPr b="1" lang="zh-TW" sz="4400" spc="-1" strike="noStrike">
                <a:solidFill>
                  <a:srgbClr val="006600"/>
                </a:solidFill>
                <a:latin typeface="CG Omega"/>
                <a:ea typeface="新細明體"/>
              </a:rPr>
              <a:t>皮質醇對身體</a:t>
            </a:r>
            <a:br>
              <a:rPr sz="4400"/>
            </a:br>
            <a:r>
              <a:rPr b="1" lang="zh-TW" sz="4400" spc="-1" strike="noStrike">
                <a:solidFill>
                  <a:srgbClr val="006600"/>
                </a:solidFill>
                <a:latin typeface="CG Omega"/>
                <a:ea typeface="新細明體"/>
              </a:rPr>
              <a:t>造成的生理變化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壓力荷爾蒙皮質醇加速分解體內蛋白質和身體脂肪組織，轉換成葡萄糖，長期提供大量能量以面對壓力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身體需要蛋白質形成高層次生物化學物質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high level biochemical substance)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故分解蛋白質和脂肪組織後會有以下影響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抑制免疫系統功能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缺乏白血球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身體不能自行修理受損細胞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大腦只集中面對潛在危險，引致憂慮和抑鬱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, </a:t>
            </a: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不能思考愉快事情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大腦細胞受損，影響記憶力、睡眠及集中力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心血管疾病，如中風、冠心病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G Omega"/>
                <a:ea typeface="新細明體"/>
              </a:rPr>
              <a:t>Emotional stress and neuro-atrophy </a:t>
            </a:r>
            <a:r>
              <a:rPr b="1" lang="en-US" sz="1800" spc="-1" strike="noStrike">
                <a:solidFill>
                  <a:srgbClr val="336600"/>
                </a:solidFill>
                <a:latin typeface="CG Omega"/>
                <a:ea typeface="新細明體"/>
              </a:rPr>
              <a:t>(Magarinos, et al., 1996)</a:t>
            </a:r>
            <a:endParaRPr b="1" lang="en-US" sz="1800" spc="-1" strike="noStrike">
              <a:solidFill>
                <a:srgbClr val="336600"/>
              </a:solidFill>
              <a:latin typeface="CG Omega"/>
            </a:endParaRPr>
          </a:p>
        </p:txBody>
      </p:sp>
      <p:pic>
        <p:nvPicPr>
          <p:cNvPr id="238" name="brainstress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334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新細明體"/>
                <a:ea typeface="新細明體"/>
              </a:rPr>
              <a:t>壓力荷爾蒙</a:t>
            </a:r>
            <a:r>
              <a:rPr b="1" lang="zh-TW" sz="3200" spc="-1" strike="noStrike">
                <a:solidFill>
                  <a:srgbClr val="006600"/>
                </a:solidFill>
                <a:latin typeface="CG Omega"/>
                <a:ea typeface="新細明體"/>
              </a:rPr>
              <a:t>皮質醇對腦部神經細胞的影響</a:t>
            </a:r>
            <a:br>
              <a:rPr sz="3200"/>
            </a:br>
            <a:r>
              <a:rPr b="1" lang="en-US" sz="1800" spc="-1" strike="noStrike">
                <a:solidFill>
                  <a:srgbClr val="336600"/>
                </a:solidFill>
                <a:latin typeface="CG Omega"/>
                <a:ea typeface="新細明體"/>
              </a:rPr>
              <a:t>Loss of neurons and dendritic atrophy in stressed male monkey (Sapolsky, 1990)</a:t>
            </a:r>
            <a:endParaRPr b="1" lang="en-US" sz="1800" spc="-1" strike="noStrike">
              <a:solidFill>
                <a:srgbClr val="336600"/>
              </a:solidFill>
              <a:latin typeface="CG Omega"/>
            </a:endParaRPr>
          </a:p>
        </p:txBody>
      </p:sp>
      <p:pic>
        <p:nvPicPr>
          <p:cNvPr id="240" name="monkey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荷爾蒙水平長期偏高對身心構成嚴重影響，</a:t>
            </a:r>
            <a:br>
              <a:rPr sz="4800"/>
            </a:br>
            <a:r>
              <a:rPr b="1" lang="zh-TW" sz="4800" spc="-1" strike="noStrike">
                <a:solidFill>
                  <a:srgbClr val="336600"/>
                </a:solidFill>
                <a:latin typeface="CG Omega"/>
                <a:ea typeface="新細明體"/>
              </a:rPr>
              <a:t>絕對不容忽視</a:t>
            </a:r>
            <a:br>
              <a:rPr sz="5400"/>
            </a:br>
            <a:endParaRPr b="1" lang="en-US" sz="48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如何處理</a:t>
            </a:r>
            <a:r>
              <a:rPr b="1" lang="zh-TW" sz="5400" spc="-1" strike="noStrike">
                <a:solidFill>
                  <a:srgbClr val="336600"/>
                </a:solidFill>
                <a:latin typeface="CG Omega"/>
                <a:ea typeface="新細明體"/>
              </a:rPr>
              <a:t>壓力</a:t>
            </a:r>
            <a:r>
              <a:rPr b="1" lang="zh-TW" sz="5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長期偏高</a:t>
            </a:r>
            <a:endParaRPr b="1" lang="en-US" sz="54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09680" y="533160"/>
            <a:ext cx="4724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如何有效</a:t>
            </a:r>
            <a:r>
              <a:rPr b="1" lang="zh-TW" sz="4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處理</a:t>
            </a:r>
            <a:r>
              <a:rPr b="1" lang="zh-TW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？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針對根本問題—  壓力的源頭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生活方式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人際關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係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工作錯配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工作和能力錯配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心態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生活壓力既然無可避免，可從改變心態和改變生活方式處理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新細明體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7</a:t>
            </a:r>
            <a:r>
              <a:rPr b="1" lang="zh-TW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好行動 </a:t>
            </a:r>
            <a:r>
              <a:rPr b="1" lang="zh-TW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(7-</a:t>
            </a:r>
            <a:r>
              <a:rPr b="1" lang="en-GB" sz="4400" spc="-1" strike="noStrike">
                <a:solidFill>
                  <a:srgbClr val="336600"/>
                </a:solidFill>
                <a:latin typeface="CG Omega"/>
                <a:ea typeface="新細明體"/>
              </a:rPr>
              <a:t>Well Approach)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6782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G Omega"/>
                <a:ea typeface="新細明體"/>
              </a:rPr>
              <a:t>身體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G Omega"/>
                <a:ea typeface="新細明體"/>
              </a:rPr>
              <a:t>(body)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G Omega"/>
                <a:ea typeface="新細明體"/>
              </a:rPr>
              <a:t>心態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G Omega"/>
                <a:ea typeface="新細明體"/>
              </a:rPr>
              <a:t>(Mind)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Eat</a:t>
            </a:r>
            <a:r>
              <a:rPr b="1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well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Love wel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Sleep well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Play wel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Exercise well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Work well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G Omega"/>
                <a:ea typeface="新細明體"/>
              </a:rPr>
              <a:t>Attitude Wel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完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調查情況</a:t>
            </a:r>
            <a:endParaRPr b="1" lang="en-US" sz="4000" spc="-1" strike="noStrike">
              <a:solidFill>
                <a:srgbClr val="336600"/>
              </a:solidFill>
              <a:latin typeface="CG Omeg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72200" y="1143000"/>
            <a:ext cx="2438280" cy="1523880"/>
            <a:chOff x="6172200" y="1143000"/>
            <a:chExt cx="2438280" cy="1523880"/>
          </a:xfrm>
        </p:grpSpPr>
        <p:sp>
          <p:nvSpPr>
            <p:cNvPr id="92" name=""/>
            <p:cNvSpPr/>
            <p:nvPr/>
          </p:nvSpPr>
          <p:spPr>
            <a:xfrm>
              <a:off x="6172200" y="1143000"/>
              <a:ext cx="2438280" cy="1523880"/>
            </a:xfrm>
            <a:prstGeom prst="ellipse">
              <a:avLst/>
            </a:prstGeom>
            <a:solidFill>
              <a:srgbClr val="ffe7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00800" y="1447560"/>
              <a:ext cx="2133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成功回應率：</a:t>
              </a:r>
              <a:r>
                <a:rPr b="1" lang="zh-TW" sz="3200" spc="-1" strike="noStrike">
                  <a:solidFill>
                    <a:srgbClr val="cc0000"/>
                  </a:solidFill>
                  <a:latin typeface="CG Omega"/>
                  <a:ea typeface="新細明體"/>
                </a:rPr>
                <a:t>72.7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" y="1828800"/>
            <a:ext cx="8153280" cy="3180600"/>
            <a:chOff x="457200" y="1828800"/>
            <a:chExt cx="8153280" cy="3180600"/>
          </a:xfrm>
        </p:grpSpPr>
        <p:sp>
          <p:nvSpPr>
            <p:cNvPr id="95" name=""/>
            <p:cNvSpPr/>
            <p:nvPr/>
          </p:nvSpPr>
          <p:spPr>
            <a:xfrm>
              <a:off x="3124080" y="3124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81480" y="3124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14600" y="3505320"/>
              <a:ext cx="1752480" cy="1059840"/>
            </a:xfrm>
            <a:prstGeom prst="rect">
              <a:avLst/>
            </a:prstGeom>
            <a:solidFill>
              <a:srgbClr val="d9f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未能確定是否具合資格被訪者的電話號碼</a:t>
              </a:r>
              <a:r>
                <a:rPr b="0" lang="en-GB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1,505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3505320"/>
              <a:ext cx="2057400" cy="1059840"/>
            </a:xfrm>
            <a:prstGeom prst="rect">
              <a:avLst/>
            </a:prstGeom>
            <a:solidFill>
              <a:srgbClr val="d9f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確定具合資格被訪者的電話號碼，但未能進行訪問</a:t>
              </a:r>
              <a:r>
                <a:rPr b="0" lang="en-GB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637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2590920"/>
              <a:ext cx="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95280" y="312444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2400" y="312444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5280" y="3124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81280" y="1828800"/>
              <a:ext cx="2362320" cy="862560"/>
            </a:xfrm>
            <a:prstGeom prst="rect">
              <a:avLst/>
            </a:prstGeom>
            <a:solidFill>
              <a:srgbClr val="d9f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電話號碼總數</a:t>
              </a:r>
              <a:r>
                <a:rPr b="0" lang="en-GB" sz="20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3,756</a:t>
              </a:r>
              <a:r>
                <a:rPr b="0" lang="zh-TW" sz="20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3532320"/>
              <a:ext cx="1752480" cy="1477080"/>
            </a:xfrm>
            <a:prstGeom prst="rect">
              <a:avLst/>
            </a:prstGeom>
            <a:solidFill>
              <a:srgbClr val="d9f3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確定為不合資格的電話號碼</a:t>
              </a:r>
              <a:r>
                <a:rPr b="0" lang="en-GB" sz="18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1,004</a:t>
              </a:r>
              <a:r>
                <a:rPr b="0" lang="zh-TW" sz="18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3505320"/>
              <a:ext cx="1752480" cy="1015920"/>
            </a:xfrm>
            <a:prstGeom prst="rect">
              <a:avLst/>
            </a:prstGeom>
            <a:solidFill>
              <a:srgbClr val="ffe7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成功訪問人數</a:t>
              </a:r>
              <a:r>
                <a:rPr b="1" lang="en-GB" sz="2400" spc="-1" strike="noStrike">
                  <a:solidFill>
                    <a:srgbClr val="000000"/>
                  </a:solidFill>
                  <a:latin typeface="新細明體"/>
                  <a:ea typeface="新細明體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610</a:t>
              </a:r>
              <a:r>
                <a:rPr b="1" lang="zh-TW" sz="2400" spc="-1" strike="noStrike">
                  <a:solidFill>
                    <a:srgbClr val="000000"/>
                  </a:solidFill>
                  <a:latin typeface="CG Omega"/>
                  <a:ea typeface="新細明體"/>
                </a:rPr>
                <a:t>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379160" y="53341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*</a:t>
            </a:r>
            <a:r>
              <a:rPr b="1" lang="zh-TW" sz="1600" spc="-1" strike="noStrike">
                <a:solidFill>
                  <a:srgbClr val="000000"/>
                </a:solidFill>
                <a:latin typeface="CG Omega"/>
                <a:ea typeface="新細明體"/>
              </a:rPr>
              <a:t>以符合資格的目標對象計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個人資料</a:t>
            </a:r>
            <a:endParaRPr b="1" lang="en-US" sz="4400" spc="-1" strike="noStrike">
              <a:solidFill>
                <a:srgbClr val="336600"/>
              </a:solidFill>
              <a:latin typeface="CG Omeg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性別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727280"/>
          <a:ext cx="8381880" cy="39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27280"/>
                    <a:ext cx="8381880" cy="39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107960" y="5638680"/>
            <a:ext cx="121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940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男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6680" y="36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  <a:ea typeface="新細明體"/>
              </a:rPr>
              <a:t>女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23920" y="2060640"/>
            <a:ext cx="324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1000" y="1895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0800" y="1951200"/>
            <a:ext cx="4680" cy="79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3"/>
                </a:moveTo>
                <a:lnTo>
                  <a:pt x="10" y="0"/>
                </a:lnTo>
                <a:lnTo>
                  <a:pt x="10" y="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77120" y="2141640"/>
            <a:ext cx="5040" cy="3240"/>
          </a:xfrm>
          <a:custGeom>
            <a:avLst/>
            <a:gdLst/>
            <a:ahLst/>
            <a:rect l="l" t="t" r="r" b="b"/>
            <a:pathLst>
              <a:path w="10" h="4">
                <a:moveTo>
                  <a:pt x="0" y="4"/>
                </a:moveTo>
                <a:lnTo>
                  <a:pt x="4" y="0"/>
                </a:lnTo>
                <a:lnTo>
                  <a:pt x="10" y="0"/>
                </a:lnTo>
                <a:lnTo>
                  <a:pt x="0" y="4"/>
                </a:lnTo>
                <a:close/>
              </a:path>
            </a:pathLst>
          </a:custGeom>
          <a:solidFill>
            <a:srgbClr val="ffd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年齡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5627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10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371600"/>
          <a:ext cx="7696080" cy="42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696080" cy="42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職業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144440"/>
          <a:ext cx="868680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440"/>
                    <a:ext cx="868680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477120" y="5562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594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CG Omega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336600"/>
                </a:solidFill>
                <a:latin typeface="新細明體"/>
                <a:ea typeface="新細明體"/>
              </a:rPr>
              <a:t>受訪者婚姻狀況</a:t>
            </a:r>
            <a:endParaRPr b="1" lang="en-US" sz="3600" spc="-1" strike="noStrike">
              <a:solidFill>
                <a:srgbClr val="336600"/>
              </a:solidFill>
              <a:latin typeface="CG Omeg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44400" y="1530360"/>
          <a:ext cx="785520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530360"/>
                    <a:ext cx="78552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78168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605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2:22:46Z</dcterms:created>
  <dc:creator>Grey Worldwide</dc:creator>
  <dc:description/>
  <dc:language>en-US</dc:language>
  <cp:lastModifiedBy>tony</cp:lastModifiedBy>
  <dcterms:modified xsi:type="dcterms:W3CDTF">2003-11-12T03:47:39Z</dcterms:modified>
  <cp:revision>388</cp:revision>
  <dc:subject/>
  <dc:title>PowerPoint Presentation</dc:title>
</cp:coreProperties>
</file>