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34.jpeg" ContentType="image/jpeg"/>
  <Override PartName="/ppt/media/image8.wmf" ContentType="image/x-wmf"/>
  <Override PartName="/ppt/media/image13.wmf" ContentType="image/x-wmf"/>
  <Override PartName="/ppt/media/image35.jpeg" ContentType="image/jpeg"/>
  <Override PartName="/ppt/media/image33.jpeg" ContentType="image/jpeg"/>
  <Override PartName="/ppt/media/image5.wmf" ContentType="image/x-wmf"/>
  <Override PartName="/ppt/media/image37.jpeg" ContentType="image/jpeg"/>
  <Override PartName="/ppt/media/image28.wmf" ContentType="image/x-wmf"/>
  <Override PartName="/ppt/media/image38.png" ContentType="image/png"/>
  <Override PartName="/ppt/media/image39.jpeg" ContentType="image/jpeg"/>
  <Override PartName="/ppt/media/image15.wmf" ContentType="image/x-wmf"/>
  <Override PartName="/ppt/media/image41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9.wmf" ContentType="image/x-wmf"/>
  <Override PartName="/ppt/media/image43.jpeg" ContentType="image/jpeg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8c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8c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86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468c"/>
                </a:solidFill>
                <a:latin typeface="PMingLiU"/>
                <a:ea typeface="PMingLiU"/>
              </a:rPr>
              <a:t>飲食及餐後口腔護理習慣與牙齒健康調查</a:t>
            </a:r>
            <a:r>
              <a:rPr b="1" lang="zh-TW" sz="4400" spc="-1" strike="noStrike">
                <a:solidFill>
                  <a:srgbClr val="00468c"/>
                </a:solidFill>
                <a:latin typeface="CG Omega"/>
                <a:ea typeface="PMingLiU"/>
              </a:rPr>
              <a:t>及建議</a:t>
            </a:r>
            <a:endParaRPr b="1" lang="en-US" sz="44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716256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089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講者：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鍾庭耀博士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香港大學民意研究計劃主任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1089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楊幽幽醫生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註冊牙科醫生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1089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日期：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2004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個人收入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162000" y="1528920"/>
          <a:ext cx="975852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2000" y="1528920"/>
                    <a:ext cx="975852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629400" y="6095880"/>
            <a:ext cx="185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247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全職及兼職工作者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教育程度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29400" y="6095880"/>
            <a:ext cx="18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香港市民蛀牙情況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近六成受訪者有蛀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224080"/>
          <a:ext cx="7902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24080"/>
                    <a:ext cx="7902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629400" y="6324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633840" y="2125800"/>
            <a:ext cx="2183040" cy="2921400"/>
            <a:chOff x="3633840" y="2125800"/>
            <a:chExt cx="2183040" cy="2921400"/>
          </a:xfrm>
        </p:grpSpPr>
        <p:sp>
          <p:nvSpPr>
            <p:cNvPr id="124" name=""/>
            <p:cNvSpPr/>
            <p:nvPr/>
          </p:nvSpPr>
          <p:spPr>
            <a:xfrm>
              <a:off x="3633840" y="4495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29480" y="4648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4960" y="212580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4920" y="12952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請問您有沒有蛀牙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包括乳齒及恆齒，補過及脫了的蛀牙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六成有蛀牙的受訪者有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1-3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隻蛀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1828800"/>
          <a:ext cx="7902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02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00400" y="63244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301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蛀牙人士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共有過多少隻蛀牙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包括乳齒及恆齒，補過及脫了的蛀牙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11000" y="1752480"/>
            <a:ext cx="5797800" cy="3142080"/>
            <a:chOff x="1611000" y="1752480"/>
            <a:chExt cx="5797800" cy="3142080"/>
          </a:xfrm>
        </p:grpSpPr>
        <p:sp>
          <p:nvSpPr>
            <p:cNvPr id="134" name=""/>
            <p:cNvSpPr/>
            <p:nvPr/>
          </p:nvSpPr>
          <p:spPr>
            <a:xfrm>
              <a:off x="4037760" y="175248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19810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1-15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11000" y="4495680"/>
              <a:ext cx="76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4-6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40200" y="4030560"/>
              <a:ext cx="76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-3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5680" y="24382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7-10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蛀牙情況隨著年齡增加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不同年齡組別患有蛀牙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包括乳齒及恆齒，補過及脫了的蛀牙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的比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飲食習慣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 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受訪者進食各餐之習慣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2680" y="1531800"/>
          <a:ext cx="84722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531800"/>
                    <a:ext cx="8472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811680" y="1066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有沒有以下習慣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67080" y="1676520"/>
            <a:ext cx="3967200" cy="3568680"/>
            <a:chOff x="4267080" y="1676520"/>
            <a:chExt cx="3967200" cy="3568680"/>
          </a:xfrm>
        </p:grpSpPr>
        <p:sp>
          <p:nvSpPr>
            <p:cNvPr id="150" name=""/>
            <p:cNvSpPr/>
            <p:nvPr/>
          </p:nvSpPr>
          <p:spPr>
            <a:xfrm>
              <a:off x="6629400" y="1676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8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58600" y="21337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9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77160" y="25909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5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15200" y="31240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3505320"/>
              <a:ext cx="6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96480" y="39625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82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5080" y="44956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8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7680" y="48769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4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過半數受訪者每天平均吃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4-6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餐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996920"/>
          <a:ext cx="8878680" cy="43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96920"/>
                    <a:ext cx="887868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278840" y="6188040"/>
            <a:ext cx="166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6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通常一天平均吃多少餐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包括早午晚餐、下午茶、宵夜、零食、水果、甜品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甜味是受訪者最喜愛的味道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828800"/>
          <a:ext cx="7902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02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505320" y="6324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143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甜、酸、苦、辣和鹹五種味道的食物中，您最喜愛哪種味道的食物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176640" y="1828800"/>
            <a:ext cx="2619000" cy="3980160"/>
            <a:chOff x="3176640" y="1828800"/>
            <a:chExt cx="2619000" cy="3980160"/>
          </a:xfrm>
        </p:grpSpPr>
        <p:sp>
          <p:nvSpPr>
            <p:cNvPr id="169" name=""/>
            <p:cNvSpPr/>
            <p:nvPr/>
          </p:nvSpPr>
          <p:spPr>
            <a:xfrm>
              <a:off x="3656880" y="182880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320040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7664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62640" y="40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5080" y="5410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086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PMingLiU"/>
                <a:ea typeface="PMingLiU"/>
              </a:rPr>
              <a:t>飲食及餐後口腔護理習慣與牙齒健康調查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03848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講者：鍾庭耀博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香港大學民意研究計劃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大部份受訪者每餐都包括甜食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4960" y="1981080"/>
          <a:ext cx="8879040" cy="43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1981080"/>
                    <a:ext cx="88790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914400" y="1219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每餐當中有沒有包括甜的食物或飲品、喝牛奶或於飲品中加糖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1722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203 - 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   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進食該餐的被訪者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超過半數有吃零食人士嗜甜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64960" y="1752480"/>
          <a:ext cx="8879040" cy="43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1752480"/>
                    <a:ext cx="88790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791320" y="6324480"/>
            <a:ext cx="31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410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食零食習慣人士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1066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最常吃的零食通常是哪種味道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419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餐後口腔護理習慣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99%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有刷牙習慣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7253640" y="617220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23920" y="2060640"/>
            <a:ext cx="3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71000" y="1895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0800" y="1951200"/>
            <a:ext cx="4680" cy="79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3"/>
                </a:moveTo>
                <a:lnTo>
                  <a:pt x="10" y="0"/>
                </a:lnTo>
                <a:lnTo>
                  <a:pt x="10" y="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77120" y="2141640"/>
            <a:ext cx="5040" cy="324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4"/>
                </a:moveTo>
                <a:lnTo>
                  <a:pt x="4" y="0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d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592280"/>
          <a:ext cx="880272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2280"/>
                    <a:ext cx="880272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191120" y="4724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有刷牙習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560" y="1608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沒有刷牙習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受訪者主要在起床後和睡前刷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71520" y="1600200"/>
          <a:ext cx="859140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1600200"/>
                    <a:ext cx="859140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29200" y="6248520"/>
            <a:ext cx="37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2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刷牙習慣，可選擇多項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8280" y="1143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通常何時刷牙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3840" y="455436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超過八成半受訪者不會</a:t>
            </a:r>
            <a:br>
              <a:rPr sz="3600"/>
            </a:b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每次吃過東西後刷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2120" y="1981080"/>
          <a:ext cx="790236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90236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781680" y="6051600"/>
            <a:ext cx="18288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2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刷牙習慣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是否每次吃過東西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包括早、午、晚餐、零食和生果等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)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後都會刷牙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84600" y="1981080"/>
            <a:ext cx="2466720" cy="3447000"/>
            <a:chOff x="3684600" y="1981080"/>
            <a:chExt cx="2466720" cy="3447000"/>
          </a:xfrm>
        </p:grpSpPr>
        <p:sp>
          <p:nvSpPr>
            <p:cNvPr id="208" name=""/>
            <p:cNvSpPr/>
            <p:nvPr/>
          </p:nvSpPr>
          <p:spPr>
            <a:xfrm>
              <a:off x="3684600" y="1981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經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65680" y="2209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有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99000" y="5029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七成四 受訪者因不方便或無刷牙習慣，故吃完東西不刷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64960" y="1752480"/>
          <a:ext cx="8879040" cy="43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1752480"/>
                    <a:ext cx="88790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943600" y="6095880"/>
            <a:ext cx="29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438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吃完東西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刷牙習慣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,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為何吃完東西不刷牙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820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0592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93040" y="2286000"/>
            <a:ext cx="7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共</a:t>
            </a:r>
            <a:r>
              <a:rPr b="1" lang="zh-TW" sz="1600" spc="-1" strike="noStrike">
                <a:solidFill>
                  <a:srgbClr val="000000"/>
                </a:solidFill>
                <a:latin typeface="PMingLiU"/>
                <a:ea typeface="PMingLiU"/>
              </a:rPr>
              <a:t>7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近六成半除刷牙外，有其他清潔牙齒的口腔護理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838080" y="1676520"/>
          <a:ext cx="7902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902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80988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608280" y="3200400"/>
            <a:ext cx="2136600" cy="1999080"/>
            <a:chOff x="3608280" y="3200400"/>
            <a:chExt cx="2136600" cy="1999080"/>
          </a:xfrm>
        </p:grpSpPr>
        <p:sp>
          <p:nvSpPr>
            <p:cNvPr id="225" name=""/>
            <p:cNvSpPr/>
            <p:nvPr/>
          </p:nvSpPr>
          <p:spPr>
            <a:xfrm>
              <a:off x="3608280" y="3276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沒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6960" y="3200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經常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21160" y="4800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有時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除刷牙外，你有沒有進行其他清潔牙齒的口腔護理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用牙線及漱口水是受訪者最普遍採用之口腔護理方法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752480"/>
          <a:ext cx="959796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59796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5791320" y="5943600"/>
            <a:ext cx="3147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325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除刷牙外，有做其他清潔牙齒口腔護理；可選擇多項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05240" y="13716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通常會進行什麼口腔護理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有刷牙但並無做其他清潔口腔護理人士最主要不方便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/</a:t>
            </a: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麻煩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791320" y="5943600"/>
            <a:ext cx="3147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181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除刷牙外，沒有做其他清潔牙齒口腔護理；可選擇多項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79680" y="13716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為何沒有做清潔牙齒的口腔護理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調查概況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1676520"/>
          <a:ext cx="8153280" cy="4132080"/>
        </p:xfrm>
        <a:graphic>
          <a:graphicData uri="http://schemas.openxmlformats.org/drawingml/2006/table">
            <a:tbl>
              <a:tblPr/>
              <a:tblGrid>
                <a:gridCol w="2112840"/>
                <a:gridCol w="6040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了解香港人蛀牙情況，飲食及餐後口腔護理及牙齒健康習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0-4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歲操粵語的香港市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00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4-2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香港大學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訪問員以電話隨機抽樣訪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50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回應比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72.5% 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以符合資格的目標對象計算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抽樣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少於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0840" y="228564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對餐後口腔護理的態度與認知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近七成受訪者承認進食後</a:t>
            </a:r>
            <a:br>
              <a:rPr sz="3600"/>
            </a:b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有需要刷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38080" y="2224080"/>
          <a:ext cx="7902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24080"/>
                    <a:ext cx="7902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78168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02200" y="2133720"/>
            <a:ext cx="2085480" cy="2837160"/>
            <a:chOff x="3202200" y="2133720"/>
            <a:chExt cx="2085480" cy="2837160"/>
          </a:xfrm>
        </p:grpSpPr>
        <p:sp>
          <p:nvSpPr>
            <p:cNvPr id="245" name=""/>
            <p:cNvSpPr/>
            <p:nvPr/>
          </p:nvSpPr>
          <p:spPr>
            <a:xfrm>
              <a:off x="3202200" y="39625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無需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160" y="213372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9760" y="4572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有需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828800" y="13716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覺得進食後有沒有需要刷牙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超過半數受訪者了解到進食後不刷牙有機會導致蛀牙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5791320" y="5943600"/>
            <a:ext cx="31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1371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您覺得進食後不刷牙有機會帶來什麼後果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對刷牙以外其他餐後口腔護理方法的認知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18493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93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5791320" y="5943600"/>
            <a:ext cx="31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可選擇多項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7000" y="137160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據你所知，除刷牙外，還有沒有其他餐後口腔護理方法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468c"/>
                </a:solidFill>
                <a:latin typeface="CG Omega"/>
                <a:ea typeface="PMingLiU"/>
              </a:rPr>
              <a:t>結論</a:t>
            </a:r>
            <a:r>
              <a:rPr b="1" lang="zh-TW" sz="3200" spc="-1" strike="noStrike">
                <a:solidFill>
                  <a:srgbClr val="00468c"/>
                </a:solidFill>
                <a:latin typeface="CG Omega"/>
                <a:ea typeface="PMingLiU"/>
              </a:rPr>
              <a:t>: </a:t>
            </a:r>
            <a:r>
              <a:rPr b="1" lang="zh-TW" sz="3200" spc="-1" strike="noStrike">
                <a:solidFill>
                  <a:srgbClr val="00468c"/>
                </a:solidFill>
                <a:latin typeface="CG Omega"/>
                <a:ea typeface="PMingLiU"/>
              </a:rPr>
              <a:t>港人嗜甜多餐但餐後不刷牙，蛀牙</a:t>
            </a:r>
            <a:br>
              <a:rPr sz="3200"/>
            </a:br>
            <a:r>
              <a:rPr b="1" lang="zh-TW" sz="3200" spc="-1" strike="noStrike">
                <a:solidFill>
                  <a:srgbClr val="00468c"/>
                </a:solidFill>
                <a:latin typeface="CG Omega"/>
                <a:ea typeface="PMingLiU"/>
              </a:rPr>
              <a:t>機會倍增</a:t>
            </a:r>
            <a:endParaRPr b="1" lang="en-US" sz="32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六成受訪港人有蛀牙，其中六成有</a:t>
            </a: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1-3</a:t>
            </a: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隻蛀牙。 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受訪者平均每天進食多次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香港人普遍嗜甜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大部份受訪者因覺得不方便故吃完東西後不刷牙，因而增加蛀牙的機會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24%</a:t>
            </a: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受訪者認識到咀嚼香口膠有助口腔護理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牙線及漱口水為現時較為被普遍採用的方法，而香口膠排第三位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PMingLiU"/>
                <a:ea typeface="PMingLiU"/>
              </a:rPr>
              <a:t>工作時間長及壓力大令港人吃過不停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受訪者進食多餐，其中一個原因可能是港人工作時間長及壓力大；而較早前亦有研究顯示，不少在職人士籍飲食減壓，其中零食更為女性減壓食物的首選</a:t>
            </a:r>
            <a:r>
              <a:rPr b="0" lang="zh-TW" sz="2900" spc="-1" strike="noStrike">
                <a:solidFill>
                  <a:srgbClr val="000000"/>
                </a:solidFill>
                <a:latin typeface="PMingLiU"/>
                <a:ea typeface="PMingLiU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PMingLiU"/>
                <a:ea typeface="PMingLiU"/>
              </a:rPr>
              <a:t>調查亦顯示受訪者普遍對餐後口腔護理有一定的認知，但卻因個人及環境因素未能妥善清潔牙齒，引致蛀牙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CG Omega"/>
                <a:ea typeface="PMingLiU"/>
              </a:rPr>
              <a:t>雖然沙士暫時沒有重臨香港，但我們對公共衛生及個人健康的關注絕對不能鬆懈</a:t>
            </a:r>
            <a:r>
              <a:rPr b="0" lang="zh-TW" sz="2900" spc="-1" strike="noStrike">
                <a:solidFill>
                  <a:srgbClr val="000000"/>
                </a:solidFill>
                <a:latin typeface="PMingLiU"/>
                <a:ea typeface="PMingLiU"/>
              </a:rPr>
              <a:t> 。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76964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牙齒健康須知和餐後口腔護理</a:t>
            </a:r>
            <a:br>
              <a:rPr sz="4000"/>
            </a:b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建議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038480"/>
            <a:ext cx="6933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講者：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 楊幽幽醫生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註冊牙科醫生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日期：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2004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13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民意調查中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性別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年齡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婚姻狀況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職業</a:t>
            </a:r>
            <a:r>
              <a:rPr b="0" lang="en-US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工作性質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個人收入及教育程度等等顯示調查反映一般市民的生活習慣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沒有則重任何人士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受訪者進食各餐習慣中，吃零食佔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80%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，而甜的零食佔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93%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，很能顯示一般市民的飲食習慣真實情況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而一般受訪者知道進食很有需要刷牙但無行動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其中進食多次較為最需要處理的部份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什麼是牙菌膜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(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dental plaque)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？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268" name="untitled1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917800" y="2995560"/>
            <a:ext cx="22860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什麼是牙菌膜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(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Dental Plaque)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？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細菌和它們所產生的物質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分牙肉上與牙肉下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能以染色劑顯示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主要在牙紋、凹入位置與兩隻牙齒的隔鄰面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由多種細菌組成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被訪者個人背景資料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什麼是牙菌膜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(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Dental Plaque)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？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嬰兒一出生後口腔就有細菌。當第一隻牙齒萌出後，細菌種類就有變化，口水內的醣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糖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蛋白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glycoprotein)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使細菌黏在牙齒表面，細菌製造黏多糖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mucopolysaccharide matrix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使牙菌膜更牢固，而且更容易積聚更多牙菌膜。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在糖份多的飲食中，鏈球菌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streptococcus mutans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及乳桿菌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lactobacilli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的數量較多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有機物質佔牙菌膜體積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牙菌膜的影響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減低擴散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diffusion)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使細菌所製造的酸素度偏高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減低緩衝劑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buffer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滲入，阻止中和酸素過程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牙菌膜顯示劑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275" name="Photo%20of%202%20drugs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牙菌膜顯示劑使用情況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277" name="untitled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971800" y="2666880"/>
            <a:ext cx="9144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牙菌膜常見之微生物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520" y="1143000"/>
          <a:ext cx="8153280" cy="557388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730520"/>
                <a:gridCol w="23842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Gram-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Gram-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rods and fila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rods and fila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鏈球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treptococ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放線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Actinomy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奈瑟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Neiss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多形杆狀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ac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eptococ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乳酸杆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Lactobacil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ranham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梭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形杆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Fusobacte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eptostreptoc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acterion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韋永球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Veillon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嗜血杆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Haemophi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taphyloc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Roth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弧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Vibrio (Campylobac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細球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Micrococ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蛛形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Ara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Leptotrich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Bifidobacte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Capnocytoph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真細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Eubacte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月形單胞菌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elen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丙酸杆菌科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ropionibacte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Spirocha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G Omega"/>
                <a:ea typeface="PMingLiU"/>
              </a:rPr>
              <a:t>分散代謝 </a:t>
            </a:r>
            <a:r>
              <a:rPr b="1" lang="zh-TW" sz="4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CG Omega"/>
                <a:ea typeface="PMingLiU"/>
              </a:rPr>
              <a:t>Catabolism)</a:t>
            </a:r>
            <a:r>
              <a:rPr b="1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2" name=""/>
          <p:cNvSpPr/>
          <p:nvPr/>
        </p:nvSpPr>
        <p:spPr>
          <a:xfrm>
            <a:off x="773640" y="1295280"/>
            <a:ext cx="3388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有機原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organic starting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72320" y="1295280"/>
            <a:ext cx="1590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代謝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catabo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46720" y="1447920"/>
            <a:ext cx="1904760" cy="457200"/>
          </a:xfrm>
          <a:prstGeom prst="rightArrow">
            <a:avLst>
              <a:gd name="adj1" fmla="val 50000"/>
              <a:gd name="adj2" fmla="val 10415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19720" y="2057400"/>
            <a:ext cx="1402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底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8560" y="2057400"/>
            <a:ext cx="1730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產生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end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02080" y="220968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68400" y="3324240"/>
            <a:ext cx="115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葡萄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68720" y="3327480"/>
            <a:ext cx="145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2 </a:t>
            </a: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乳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lact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70400" y="34765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96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80"/>
                </a:solidFill>
                <a:uFillTx/>
                <a:latin typeface="CG Omega"/>
                <a:ea typeface="PMingLiU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2560" y="35053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CG Omega"/>
                <a:ea typeface="PMingLiU"/>
              </a:rPr>
              <a:t>↘ </a:t>
            </a:r>
            <a:r>
              <a:rPr b="1" lang="zh-TW" sz="1800" spc="-1" strike="noStrike">
                <a:solidFill>
                  <a:srgbClr val="000080"/>
                </a:solidFill>
                <a:latin typeface="CG Omega"/>
                <a:ea typeface="PMingLiU"/>
              </a:rPr>
              <a:t>能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50560" y="4343400"/>
            <a:ext cx="985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澱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st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35720" y="4495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酸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11720" y="449568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4280" y="5410080"/>
            <a:ext cx="1332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糖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glyc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9292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酸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85880" y="556272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3720" y="5410080"/>
            <a:ext cx="3402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葡萄糖＋麥芽糖＋糊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glucose+maltose+dext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9080" y="5627520"/>
            <a:ext cx="1131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80"/>
                </a:solidFill>
                <a:latin typeface="CG Omega"/>
                <a:ea typeface="PMingLiU"/>
              </a:rPr>
              <a:t>澱粉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CG Omega"/>
                <a:ea typeface="PMingLiU"/>
              </a:rPr>
              <a:t>amy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43800" y="45608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800080"/>
                </a:solidFill>
                <a:latin typeface="CG Omega"/>
                <a:ea typeface="PMingLiU"/>
              </a:rPr>
              <a:t>牙菌膜內細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G Omega"/>
                <a:ea typeface="PMingLiU"/>
              </a:rPr>
              <a:t>bacteria in</a:t>
            </a:r>
            <a:r>
              <a:rPr b="1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CG Omega"/>
                <a:ea typeface="PMingLiU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53000" y="4343400"/>
            <a:ext cx="2324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80"/>
                </a:solidFill>
                <a:latin typeface="CG Omega"/>
                <a:ea typeface="PMingLiU"/>
              </a:rPr>
              <a:t>葡萄糖＋麥芽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CG Omega"/>
                <a:ea typeface="PMingLiU"/>
              </a:rPr>
              <a:t>glucose+malt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27240" y="45068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0440" y="4572000"/>
            <a:ext cx="1131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80"/>
                </a:solidFill>
                <a:latin typeface="CG Omega"/>
                <a:ea typeface="PMingLiU"/>
              </a:rPr>
              <a:t>澱粉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CG Omega"/>
                <a:ea typeface="PMingLiU"/>
              </a:rPr>
              <a:t>amy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54184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47080" y="560700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800080"/>
                </a:solidFill>
                <a:latin typeface="CG Omega"/>
                <a:ea typeface="PMingLiU"/>
              </a:rPr>
              <a:t>牙菌膜內細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G Omega"/>
                <a:ea typeface="PMingLiU"/>
              </a:rPr>
              <a:t>bacteria in</a:t>
            </a:r>
            <a:r>
              <a:rPr b="1" lang="en-US" sz="18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CG Omega"/>
                <a:ea typeface="PMingLiU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2971800"/>
            <a:ext cx="87631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G Omega"/>
                <a:ea typeface="PMingLiU"/>
              </a:rPr>
              <a:t> </a:t>
            </a:r>
            <a:r>
              <a:rPr b="1" lang="zh-TW" sz="2800" spc="-1" strike="noStrike">
                <a:solidFill>
                  <a:srgbClr val="800080"/>
                </a:solidFill>
                <a:latin typeface="CG Omega"/>
                <a:ea typeface="PMingLiU"/>
              </a:rPr>
              <a:t>牙菌膜內細菌</a:t>
            </a:r>
            <a:r>
              <a:rPr b="1" lang="zh-TW" sz="2800" spc="-1" strike="noStrike">
                <a:solidFill>
                  <a:srgbClr val="000080"/>
                </a:solidFill>
                <a:latin typeface="CG Omega"/>
                <a:ea typeface="PMingLiU"/>
              </a:rPr>
              <a:t>可以用所有可以發酵的碳水化合物</a:t>
            </a:r>
            <a:r>
              <a:rPr b="1" lang="zh-TW" sz="2800" spc="-1" strike="noStrike">
                <a:solidFill>
                  <a:srgbClr val="000080"/>
                </a:solidFill>
                <a:latin typeface="CG Omega"/>
                <a:ea typeface="PMingLiU"/>
              </a:rPr>
              <a:t>(</a:t>
            </a:r>
            <a:r>
              <a:rPr b="1" lang="en-US" sz="2800" spc="-1" strike="noStrike">
                <a:solidFill>
                  <a:srgbClr val="000080"/>
                </a:solidFill>
                <a:latin typeface="CG Omega"/>
                <a:ea typeface="PMingLiU"/>
              </a:rPr>
              <a:t>fermentable carbohydrates)</a:t>
            </a:r>
            <a:r>
              <a:rPr b="1" lang="zh-TW" sz="2800" spc="-1" strike="noStrike">
                <a:solidFill>
                  <a:srgbClr val="000080"/>
                </a:solidFill>
                <a:latin typeface="CG Omega"/>
                <a:ea typeface="PMingLiU"/>
              </a:rPr>
              <a:t>制造酸素。換句話說，吃大部份的食物均會制造酸素。</a:t>
            </a:r>
            <a:br>
              <a:rPr sz="2800"/>
            </a:br>
            <a:br>
              <a:rPr sz="2800"/>
            </a:br>
            <a:r>
              <a:rPr b="1" lang="zh-TW" sz="2800" spc="-1" strike="noStrike">
                <a:solidFill>
                  <a:srgbClr val="000080"/>
                </a:solidFill>
                <a:latin typeface="CG Omega"/>
                <a:ea typeface="PMingLiU"/>
              </a:rPr>
              <a:t>牙齒表面是琺瑯質，裏面是象牙質，都是由礦物質組成，</a:t>
            </a:r>
            <a:r>
              <a:rPr b="1" lang="zh-TW" sz="2800" spc="-1" strike="noStrike" u="sng">
                <a:solidFill>
                  <a:srgbClr val="000080"/>
                </a:solidFill>
                <a:uFillTx/>
                <a:latin typeface="CG Omega"/>
                <a:ea typeface="PMingLiU"/>
              </a:rPr>
              <a:t>酸素使礦物溶解流失，這就是蛀牙</a:t>
            </a:r>
            <a:r>
              <a:rPr b="1" lang="zh-TW" sz="2800" spc="-1" strike="noStrike">
                <a:solidFill>
                  <a:srgbClr val="000080"/>
                </a:solidFill>
                <a:latin typeface="CG Omega"/>
                <a:ea typeface="PMingLiU"/>
              </a:rPr>
              <a:t>。</a:t>
            </a:r>
            <a:endParaRPr b="1" lang="en-US" sz="28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309" name="untitled4" descr=""/>
          <p:cNvPicPr/>
          <p:nvPr/>
        </p:nvPicPr>
        <p:blipFill>
          <a:blip r:embed="rId1"/>
          <a:stretch/>
        </p:blipFill>
        <p:spPr>
          <a:xfrm>
            <a:off x="2666880" y="3780000"/>
            <a:ext cx="3962520" cy="2895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733920" y="4641840"/>
            <a:ext cx="1828800" cy="768240"/>
          </a:xfrm>
          <a:custGeom>
            <a:avLst/>
            <a:gdLst/>
            <a:ahLst/>
            <a:rect l="l" t="t" r="r" b="b"/>
            <a:pathLst>
              <a:path w="1152" h="484">
                <a:moveTo>
                  <a:pt x="0" y="51"/>
                </a:moveTo>
                <a:cubicBezTo>
                  <a:pt x="55" y="70"/>
                  <a:pt x="110" y="53"/>
                  <a:pt x="163" y="34"/>
                </a:cubicBezTo>
                <a:cubicBezTo>
                  <a:pt x="177" y="74"/>
                  <a:pt x="159" y="107"/>
                  <a:pt x="146" y="146"/>
                </a:cubicBezTo>
                <a:cubicBezTo>
                  <a:pt x="149" y="163"/>
                  <a:pt x="149" y="181"/>
                  <a:pt x="155" y="198"/>
                </a:cubicBezTo>
                <a:cubicBezTo>
                  <a:pt x="162" y="220"/>
                  <a:pt x="226" y="294"/>
                  <a:pt x="249" y="301"/>
                </a:cubicBezTo>
                <a:cubicBezTo>
                  <a:pt x="268" y="307"/>
                  <a:pt x="289" y="306"/>
                  <a:pt x="309" y="309"/>
                </a:cubicBezTo>
                <a:cubicBezTo>
                  <a:pt x="312" y="364"/>
                  <a:pt x="303" y="420"/>
                  <a:pt x="318" y="473"/>
                </a:cubicBezTo>
                <a:cubicBezTo>
                  <a:pt x="321" y="484"/>
                  <a:pt x="341" y="466"/>
                  <a:pt x="352" y="464"/>
                </a:cubicBezTo>
                <a:cubicBezTo>
                  <a:pt x="369" y="460"/>
                  <a:pt x="387" y="459"/>
                  <a:pt x="404" y="455"/>
                </a:cubicBezTo>
                <a:cubicBezTo>
                  <a:pt x="500" y="434"/>
                  <a:pt x="293" y="463"/>
                  <a:pt x="507" y="438"/>
                </a:cubicBezTo>
                <a:cubicBezTo>
                  <a:pt x="528" y="418"/>
                  <a:pt x="537" y="413"/>
                  <a:pt x="550" y="387"/>
                </a:cubicBezTo>
                <a:cubicBezTo>
                  <a:pt x="554" y="379"/>
                  <a:pt x="553" y="368"/>
                  <a:pt x="559" y="361"/>
                </a:cubicBezTo>
                <a:cubicBezTo>
                  <a:pt x="566" y="353"/>
                  <a:pt x="577" y="351"/>
                  <a:pt x="585" y="344"/>
                </a:cubicBezTo>
                <a:cubicBezTo>
                  <a:pt x="600" y="331"/>
                  <a:pt x="611" y="312"/>
                  <a:pt x="628" y="301"/>
                </a:cubicBezTo>
                <a:cubicBezTo>
                  <a:pt x="636" y="295"/>
                  <a:pt x="645" y="290"/>
                  <a:pt x="653" y="284"/>
                </a:cubicBezTo>
                <a:cubicBezTo>
                  <a:pt x="674" y="267"/>
                  <a:pt x="682" y="237"/>
                  <a:pt x="705" y="223"/>
                </a:cubicBezTo>
                <a:cubicBezTo>
                  <a:pt x="721" y="214"/>
                  <a:pt x="741" y="215"/>
                  <a:pt x="757" y="206"/>
                </a:cubicBezTo>
                <a:cubicBezTo>
                  <a:pt x="802" y="181"/>
                  <a:pt x="813" y="169"/>
                  <a:pt x="860" y="155"/>
                </a:cubicBezTo>
                <a:cubicBezTo>
                  <a:pt x="879" y="135"/>
                  <a:pt x="906" y="109"/>
                  <a:pt x="928" y="94"/>
                </a:cubicBezTo>
                <a:cubicBezTo>
                  <a:pt x="943" y="84"/>
                  <a:pt x="964" y="85"/>
                  <a:pt x="980" y="77"/>
                </a:cubicBezTo>
                <a:cubicBezTo>
                  <a:pt x="997" y="68"/>
                  <a:pt x="1015" y="60"/>
                  <a:pt x="1032" y="51"/>
                </a:cubicBezTo>
                <a:cubicBezTo>
                  <a:pt x="1068" y="33"/>
                  <a:pt x="1110" y="0"/>
                  <a:pt x="1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蛀牙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312" name="untitled5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進食後牙菌膜的酸鹼度的改變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</a:rPr>
              <a:t>進食後牙齒風險增加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</a:rPr>
              <a:t>進食次數越多，風險越大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5410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untitled6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33720" y="3505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3505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3505320"/>
            <a:ext cx="8380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505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3505320"/>
            <a:ext cx="1905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5334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5329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4800" y="54752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健康牙齒 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vs 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蛀牙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326" name="untitled7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5141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715000" y="2057400"/>
            <a:ext cx="13716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各種食物所帶來的蛀牙風險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838080" y="1066680"/>
          <a:ext cx="7543800" cy="54608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Caries Potential 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食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Buc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G Omega"/>
                          <a:ea typeface="PMingLiU"/>
                        </a:rPr>
                        <a:t>Sul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68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提子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香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炸薯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Granola (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一種早餐穀類食品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蔗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麵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消化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杯裝蛋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1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朱古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玉米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海棉蛋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黑麥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鹹餅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花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Pretzels 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一種脆餅乾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鮮果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乳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粟米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G Omega"/>
                          <a:ea typeface="PMingLiU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性別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4560" y="1527120"/>
          <a:ext cx="7907400" cy="46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527120"/>
                    <a:ext cx="79074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733920" y="6095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633840" y="3733920"/>
            <a:ext cx="2085840" cy="551160"/>
            <a:chOff x="3633840" y="3733920"/>
            <a:chExt cx="2085840" cy="551160"/>
          </a:xfrm>
        </p:grpSpPr>
        <p:sp>
          <p:nvSpPr>
            <p:cNvPr id="88" name=""/>
            <p:cNvSpPr/>
            <p:nvPr/>
          </p:nvSpPr>
          <p:spPr>
            <a:xfrm>
              <a:off x="3633840" y="38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86680" y="3733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口水的作用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清洗牙齒表面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washing effect) 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直接機械性地清洗牙齒表面的牙菌膜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2214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緩衝作用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buffering effect) 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中和細菌制造出來的酸素， 從而減低礦物流失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2214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再礦作用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remineralization)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修復失去礦物質的琺瑯質，含有鈣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calcium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磷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phosphate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及氟 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fluorid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2214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對抗細菌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49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含免疫球蛋白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A (immunoglubolin A)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及溶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G Omega"/>
                <a:ea typeface="PMingLiU"/>
              </a:rPr>
              <a:t>lysosome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3352680"/>
            <a:ext cx="868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再礦作用</a:t>
            </a:r>
            <a:r>
              <a:rPr b="0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(</a:t>
            </a: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Remineralization)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</a:rPr>
              <a:t>礦物質返回琺琅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untitled8" descr=""/>
          <p:cNvPicPr/>
          <p:nvPr/>
        </p:nvPicPr>
        <p:blipFill>
          <a:blip r:embed="rId1"/>
          <a:stretch/>
        </p:blipFill>
        <p:spPr>
          <a:xfrm>
            <a:off x="4952880" y="2590920"/>
            <a:ext cx="3581640" cy="2811240"/>
          </a:xfrm>
          <a:prstGeom prst="rect">
            <a:avLst/>
          </a:prstGeom>
          <a:ln w="0">
            <a:noFill/>
          </a:ln>
        </p:spPr>
      </p:pic>
      <p:pic>
        <p:nvPicPr>
          <p:cNvPr id="336" name="untitled4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3886200" cy="284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965240" y="3425760"/>
            <a:ext cx="1828800" cy="768240"/>
          </a:xfrm>
          <a:custGeom>
            <a:avLst/>
            <a:gdLst/>
            <a:ahLst/>
            <a:rect l="l" t="t" r="r" b="b"/>
            <a:pathLst>
              <a:path w="1152" h="484">
                <a:moveTo>
                  <a:pt x="0" y="51"/>
                </a:moveTo>
                <a:cubicBezTo>
                  <a:pt x="55" y="70"/>
                  <a:pt x="110" y="53"/>
                  <a:pt x="163" y="34"/>
                </a:cubicBezTo>
                <a:cubicBezTo>
                  <a:pt x="177" y="74"/>
                  <a:pt x="159" y="107"/>
                  <a:pt x="146" y="146"/>
                </a:cubicBezTo>
                <a:cubicBezTo>
                  <a:pt x="149" y="163"/>
                  <a:pt x="149" y="181"/>
                  <a:pt x="155" y="198"/>
                </a:cubicBezTo>
                <a:cubicBezTo>
                  <a:pt x="162" y="220"/>
                  <a:pt x="226" y="294"/>
                  <a:pt x="249" y="301"/>
                </a:cubicBezTo>
                <a:cubicBezTo>
                  <a:pt x="268" y="307"/>
                  <a:pt x="289" y="306"/>
                  <a:pt x="309" y="309"/>
                </a:cubicBezTo>
                <a:cubicBezTo>
                  <a:pt x="312" y="364"/>
                  <a:pt x="303" y="420"/>
                  <a:pt x="318" y="473"/>
                </a:cubicBezTo>
                <a:cubicBezTo>
                  <a:pt x="321" y="484"/>
                  <a:pt x="341" y="466"/>
                  <a:pt x="352" y="464"/>
                </a:cubicBezTo>
                <a:cubicBezTo>
                  <a:pt x="369" y="460"/>
                  <a:pt x="387" y="459"/>
                  <a:pt x="404" y="455"/>
                </a:cubicBezTo>
                <a:cubicBezTo>
                  <a:pt x="500" y="434"/>
                  <a:pt x="293" y="463"/>
                  <a:pt x="507" y="438"/>
                </a:cubicBezTo>
                <a:cubicBezTo>
                  <a:pt x="528" y="418"/>
                  <a:pt x="537" y="413"/>
                  <a:pt x="550" y="387"/>
                </a:cubicBezTo>
                <a:cubicBezTo>
                  <a:pt x="554" y="379"/>
                  <a:pt x="553" y="368"/>
                  <a:pt x="559" y="361"/>
                </a:cubicBezTo>
                <a:cubicBezTo>
                  <a:pt x="566" y="353"/>
                  <a:pt x="577" y="351"/>
                  <a:pt x="585" y="344"/>
                </a:cubicBezTo>
                <a:cubicBezTo>
                  <a:pt x="600" y="331"/>
                  <a:pt x="611" y="312"/>
                  <a:pt x="628" y="301"/>
                </a:cubicBezTo>
                <a:cubicBezTo>
                  <a:pt x="636" y="295"/>
                  <a:pt x="645" y="290"/>
                  <a:pt x="653" y="284"/>
                </a:cubicBezTo>
                <a:cubicBezTo>
                  <a:pt x="674" y="267"/>
                  <a:pt x="682" y="237"/>
                  <a:pt x="705" y="223"/>
                </a:cubicBezTo>
                <a:cubicBezTo>
                  <a:pt x="721" y="214"/>
                  <a:pt x="741" y="215"/>
                  <a:pt x="757" y="206"/>
                </a:cubicBezTo>
                <a:cubicBezTo>
                  <a:pt x="802" y="181"/>
                  <a:pt x="813" y="169"/>
                  <a:pt x="860" y="155"/>
                </a:cubicBezTo>
                <a:cubicBezTo>
                  <a:pt x="879" y="135"/>
                  <a:pt x="906" y="109"/>
                  <a:pt x="928" y="94"/>
                </a:cubicBezTo>
                <a:cubicBezTo>
                  <a:pt x="943" y="84"/>
                  <a:pt x="964" y="85"/>
                  <a:pt x="980" y="77"/>
                </a:cubicBezTo>
                <a:cubicBezTo>
                  <a:pt x="997" y="68"/>
                  <a:pt x="1015" y="60"/>
                  <a:pt x="1032" y="51"/>
                </a:cubicBezTo>
                <a:cubicBezTo>
                  <a:pt x="1068" y="33"/>
                  <a:pt x="1110" y="0"/>
                  <a:pt x="1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581280"/>
            <a:ext cx="1828800" cy="768600"/>
          </a:xfrm>
          <a:custGeom>
            <a:avLst/>
            <a:gdLst/>
            <a:ahLst/>
            <a:rect l="l" t="t" r="r" b="b"/>
            <a:pathLst>
              <a:path w="1152" h="484">
                <a:moveTo>
                  <a:pt x="0" y="51"/>
                </a:moveTo>
                <a:cubicBezTo>
                  <a:pt x="55" y="70"/>
                  <a:pt x="110" y="53"/>
                  <a:pt x="163" y="34"/>
                </a:cubicBezTo>
                <a:cubicBezTo>
                  <a:pt x="177" y="74"/>
                  <a:pt x="159" y="107"/>
                  <a:pt x="146" y="146"/>
                </a:cubicBezTo>
                <a:cubicBezTo>
                  <a:pt x="149" y="163"/>
                  <a:pt x="149" y="181"/>
                  <a:pt x="155" y="198"/>
                </a:cubicBezTo>
                <a:cubicBezTo>
                  <a:pt x="162" y="220"/>
                  <a:pt x="226" y="294"/>
                  <a:pt x="249" y="301"/>
                </a:cubicBezTo>
                <a:cubicBezTo>
                  <a:pt x="268" y="307"/>
                  <a:pt x="289" y="306"/>
                  <a:pt x="309" y="309"/>
                </a:cubicBezTo>
                <a:cubicBezTo>
                  <a:pt x="312" y="364"/>
                  <a:pt x="303" y="420"/>
                  <a:pt x="318" y="473"/>
                </a:cubicBezTo>
                <a:cubicBezTo>
                  <a:pt x="321" y="484"/>
                  <a:pt x="341" y="466"/>
                  <a:pt x="352" y="464"/>
                </a:cubicBezTo>
                <a:cubicBezTo>
                  <a:pt x="369" y="460"/>
                  <a:pt x="387" y="459"/>
                  <a:pt x="404" y="455"/>
                </a:cubicBezTo>
                <a:cubicBezTo>
                  <a:pt x="500" y="434"/>
                  <a:pt x="293" y="463"/>
                  <a:pt x="507" y="438"/>
                </a:cubicBezTo>
                <a:cubicBezTo>
                  <a:pt x="528" y="418"/>
                  <a:pt x="537" y="413"/>
                  <a:pt x="550" y="387"/>
                </a:cubicBezTo>
                <a:cubicBezTo>
                  <a:pt x="554" y="379"/>
                  <a:pt x="553" y="368"/>
                  <a:pt x="559" y="361"/>
                </a:cubicBezTo>
                <a:cubicBezTo>
                  <a:pt x="566" y="353"/>
                  <a:pt x="577" y="351"/>
                  <a:pt x="585" y="344"/>
                </a:cubicBezTo>
                <a:cubicBezTo>
                  <a:pt x="600" y="331"/>
                  <a:pt x="611" y="312"/>
                  <a:pt x="628" y="301"/>
                </a:cubicBezTo>
                <a:cubicBezTo>
                  <a:pt x="636" y="295"/>
                  <a:pt x="645" y="290"/>
                  <a:pt x="653" y="284"/>
                </a:cubicBezTo>
                <a:cubicBezTo>
                  <a:pt x="674" y="267"/>
                  <a:pt x="682" y="237"/>
                  <a:pt x="705" y="223"/>
                </a:cubicBezTo>
                <a:cubicBezTo>
                  <a:pt x="721" y="214"/>
                  <a:pt x="741" y="215"/>
                  <a:pt x="757" y="206"/>
                </a:cubicBezTo>
                <a:cubicBezTo>
                  <a:pt x="802" y="181"/>
                  <a:pt x="813" y="169"/>
                  <a:pt x="860" y="155"/>
                </a:cubicBezTo>
                <a:cubicBezTo>
                  <a:pt x="879" y="135"/>
                  <a:pt x="906" y="109"/>
                  <a:pt x="928" y="94"/>
                </a:cubicBezTo>
                <a:cubicBezTo>
                  <a:pt x="943" y="84"/>
                  <a:pt x="964" y="85"/>
                  <a:pt x="980" y="77"/>
                </a:cubicBezTo>
                <a:cubicBezTo>
                  <a:pt x="997" y="68"/>
                  <a:pt x="1015" y="60"/>
                  <a:pt x="1032" y="51"/>
                </a:cubicBezTo>
                <a:cubicBezTo>
                  <a:pt x="1068" y="33"/>
                  <a:pt x="1110" y="0"/>
                  <a:pt x="1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78400" y="3562200"/>
            <a:ext cx="1514520" cy="395280"/>
          </a:xfrm>
          <a:custGeom>
            <a:avLst/>
            <a:gdLst/>
            <a:ahLst/>
            <a:rect l="l" t="t" r="r" b="b"/>
            <a:pathLst>
              <a:path w="954" h="249">
                <a:moveTo>
                  <a:pt x="0" y="34"/>
                </a:moveTo>
                <a:cubicBezTo>
                  <a:pt x="60" y="14"/>
                  <a:pt x="34" y="11"/>
                  <a:pt x="77" y="26"/>
                </a:cubicBezTo>
                <a:cubicBezTo>
                  <a:pt x="97" y="56"/>
                  <a:pt x="103" y="77"/>
                  <a:pt x="129" y="103"/>
                </a:cubicBezTo>
                <a:cubicBezTo>
                  <a:pt x="142" y="145"/>
                  <a:pt x="187" y="165"/>
                  <a:pt x="223" y="189"/>
                </a:cubicBezTo>
                <a:cubicBezTo>
                  <a:pt x="257" y="241"/>
                  <a:pt x="280" y="241"/>
                  <a:pt x="344" y="249"/>
                </a:cubicBezTo>
                <a:cubicBezTo>
                  <a:pt x="396" y="244"/>
                  <a:pt x="433" y="239"/>
                  <a:pt x="481" y="223"/>
                </a:cubicBezTo>
                <a:cubicBezTo>
                  <a:pt x="512" y="177"/>
                  <a:pt x="549" y="172"/>
                  <a:pt x="601" y="155"/>
                </a:cubicBezTo>
                <a:cubicBezTo>
                  <a:pt x="647" y="140"/>
                  <a:pt x="692" y="123"/>
                  <a:pt x="739" y="112"/>
                </a:cubicBezTo>
                <a:cubicBezTo>
                  <a:pt x="801" y="80"/>
                  <a:pt x="852" y="51"/>
                  <a:pt x="920" y="34"/>
                </a:cubicBezTo>
                <a:cubicBezTo>
                  <a:pt x="950" y="13"/>
                  <a:pt x="940" y="26"/>
                  <a:pt x="954" y="0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流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預防蛀牙 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父母協助子女自小建立良好口腔衛生習慣，正確刷牙，學習使用牙線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用含氟素牙膏，氟素加強牙齒，大部份牙膏都含氟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在食水中加入氟素，香港食水巳加入氟素，港人不需要服食氟素丸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減少飲食的次數及時間。最好每次飲食後刷牙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在深的牙紋中加上牙紋防蛀劑，填滿牙紋，防止牙菌膜積聚在牙刷不能接觸到的位置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加上高濃度含氟凝膠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依從醫生指示使用含氟漱口水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-- 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容易患上蛀牙人士及過往高蛀牙紀錄的患者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定期檢查牙齒。 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咀嚼</a:t>
            </a:r>
            <a:r>
              <a:rPr b="0" lang="ja-JP" sz="2000" spc="-1" strike="noStrike">
                <a:solidFill>
                  <a:srgbClr val="000000"/>
                </a:solidFill>
                <a:latin typeface="CG Omega"/>
                <a:ea typeface="ＭＳ Ｐゴシック"/>
              </a:rPr>
              <a:t>無糖香口膠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PMingLiU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3" name=""/>
          <p:cNvSpPr/>
          <p:nvPr/>
        </p:nvSpPr>
        <p:spPr>
          <a:xfrm>
            <a:off x="5716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68c"/>
                </a:solidFill>
                <a:latin typeface="CG Omega"/>
                <a:ea typeface="PMingLiU"/>
              </a:rPr>
              <a:t>刷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牙對牙菌膜的酸鹼度的影響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66680" y="1752480"/>
          <a:ext cx="7239240" cy="39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39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因此餐後應盡量刷牙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48" name=""/>
          <p:cNvSpPr/>
          <p:nvPr/>
        </p:nvSpPr>
        <p:spPr>
          <a:xfrm>
            <a:off x="2872800" y="518148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方便帶的牙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hoto%20of%20tooth%20brush(2)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350" name="Photo%20of%20tooth%20brush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468c"/>
                </a:solidFill>
                <a:latin typeface="CG Omega"/>
                <a:ea typeface="PMingLiU"/>
              </a:rPr>
              <a:t>為鼓勵公眾從小培養刷牙的習慣，中國牙齒健康活動從小學入手，教導小學生吃過午飯後一起刷牙</a:t>
            </a:r>
            <a:endParaRPr b="1" lang="en-US" sz="32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352" name="untitled12" descr=""/>
          <p:cNvPicPr/>
          <p:nvPr/>
        </p:nvPicPr>
        <p:blipFill>
          <a:blip r:embed="rId1"/>
          <a:stretch/>
        </p:blipFill>
        <p:spPr>
          <a:xfrm>
            <a:off x="4038480" y="3029040"/>
            <a:ext cx="4724640" cy="3537000"/>
          </a:xfrm>
          <a:prstGeom prst="rect">
            <a:avLst/>
          </a:prstGeom>
          <a:ln w="0">
            <a:noFill/>
          </a:ln>
        </p:spPr>
      </p:pic>
      <p:pic>
        <p:nvPicPr>
          <p:cNvPr id="353" name="group%20photo" descr=""/>
          <p:cNvPicPr/>
          <p:nvPr/>
        </p:nvPicPr>
        <p:blipFill>
          <a:blip r:embed="rId2"/>
          <a:stretch/>
        </p:blipFill>
        <p:spPr>
          <a:xfrm>
            <a:off x="0" y="144792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brushing%2074" descr=""/>
          <p:cNvPicPr/>
          <p:nvPr/>
        </p:nvPicPr>
        <p:blipFill>
          <a:blip r:embed="rId1"/>
          <a:stretch/>
        </p:blipFill>
        <p:spPr>
          <a:xfrm>
            <a:off x="0" y="45720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2280" y="4343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</a:rPr>
              <a:t>無刷牙習慣的兒童有嚴重蛀牙情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rushing%20program" descr=""/>
          <p:cNvPicPr/>
          <p:nvPr/>
        </p:nvPicPr>
        <p:blipFill>
          <a:blip r:embed="rId2"/>
          <a:stretch/>
        </p:blipFill>
        <p:spPr>
          <a:xfrm>
            <a:off x="5029200" y="509760"/>
            <a:ext cx="4114800" cy="3447720"/>
          </a:xfrm>
          <a:prstGeom prst="rect">
            <a:avLst/>
          </a:prstGeom>
          <a:ln w="0">
            <a:noFill/>
          </a:ln>
        </p:spPr>
      </p:pic>
      <p:pic>
        <p:nvPicPr>
          <p:cNvPr id="357" name="brushing%20program%2049" descr=""/>
          <p:cNvPicPr/>
          <p:nvPr/>
        </p:nvPicPr>
        <p:blipFill>
          <a:blip r:embed="rId3"/>
          <a:stretch/>
        </p:blipFill>
        <p:spPr>
          <a:xfrm>
            <a:off x="3276720" y="3095640"/>
            <a:ext cx="480060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468c"/>
                </a:solidFill>
                <a:latin typeface="CG Omega"/>
                <a:ea typeface="PMingLiU"/>
              </a:rPr>
              <a:t>香口膠</a:t>
            </a:r>
            <a:endParaRPr b="1" lang="en-US" sz="44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如未能刷牙，亦可選擇嘴嚼香口膠。嘴嚼香口膠的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機械性動作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mechanical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和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味覺上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gustatory 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的刺激增加口水分泌量。可以從每小時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37.1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毫升增至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167.3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毫升四倍多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37.1 - 167.3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ml/h)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所以口水的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清洗作用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緩衝作用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再礦作用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和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對抗細菌作用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等等保護和修復作用就能加強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一般建議飲食後嘴嚼無糖香口膠二十分鐘以上對抗蛀牙</a:t>
            </a:r>
            <a:r>
              <a:rPr b="0" lang="zh-TW" sz="2400" spc="-1" strike="noStrike">
                <a:solidFill>
                  <a:srgbClr val="808080"/>
                </a:solidFill>
                <a:latin typeface="CG Omega"/>
                <a:ea typeface="PMingLiU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8c"/>
                </a:solidFill>
                <a:latin typeface="CG Omega"/>
                <a:ea typeface="PMingLiU"/>
              </a:rPr>
              <a:t>咀嚼</a:t>
            </a:r>
            <a:r>
              <a:rPr b="1" lang="ja-JP" sz="4000" spc="-1" strike="noStrike">
                <a:solidFill>
                  <a:srgbClr val="00468c"/>
                </a:solidFill>
                <a:latin typeface="CG Omega"/>
                <a:ea typeface="PMingLiU"/>
              </a:rPr>
              <a:t>無糖香口膠</a:t>
            </a: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對牙菌膜的</a:t>
            </a:r>
            <a:br>
              <a:rPr sz="4000"/>
            </a:b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酸鹼度的響影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pic>
        <p:nvPicPr>
          <p:cNvPr id="361" name="ph-curve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0592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468c"/>
                </a:solidFill>
                <a:latin typeface="CG Omega"/>
                <a:ea typeface="PMingLiU"/>
              </a:rPr>
              <a:t>木糖醇 </a:t>
            </a:r>
            <a:r>
              <a:rPr b="1" lang="en-GB" sz="4400" spc="-1" strike="noStrike">
                <a:solidFill>
                  <a:srgbClr val="00468c"/>
                </a:solidFill>
                <a:latin typeface="CG Omega"/>
                <a:ea typeface="PMingLiU"/>
              </a:rPr>
              <a:t>Xylitol</a:t>
            </a:r>
            <a:endParaRPr b="1" lang="en-US" sz="44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屬 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polyols, sugar alcoho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是牙醫學界最關注的代糖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甜度與蔗糖相同，無食後苦味，比蔗糖低三份一熱量，每克含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2.4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千卡路里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香蕉、菇類、士多啤梨中含</a:t>
            </a:r>
            <a:r>
              <a:rPr b="0" lang="zh-CN" sz="2400" spc="-1" strike="noStrike">
                <a:solidFill>
                  <a:srgbClr val="000000"/>
                </a:solidFill>
                <a:latin typeface="CG Omega"/>
                <a:ea typeface="PMingLiU"/>
              </a:rPr>
              <a:t>天然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木糖醇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可以由木糖中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xylose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提練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80"/>
                </a:solidFill>
                <a:latin typeface="CG Omega"/>
                <a:ea typeface="PMingLiU"/>
              </a:rPr>
              <a:t>                          </a:t>
            </a:r>
            <a:r>
              <a:rPr b="1" lang="zh-TW" sz="2400" spc="-1" strike="noStrike">
                <a:solidFill>
                  <a:srgbClr val="000080"/>
                </a:solidFill>
                <a:latin typeface="CG Omega"/>
                <a:ea typeface="PMingLiU"/>
              </a:rPr>
              <a:t>2 </a:t>
            </a:r>
            <a:r>
              <a:rPr b="1" lang="en-GB" sz="2400" spc="-1" strike="noStrike">
                <a:solidFill>
                  <a:srgbClr val="000080"/>
                </a:solidFill>
                <a:latin typeface="CG Omega"/>
                <a:ea typeface="PMingLiU"/>
              </a:rPr>
              <a:t>H ↘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CG Omega"/>
                <a:ea typeface="PMingLiU"/>
              </a:rPr>
              <a:t>      </a:t>
            </a:r>
            <a:r>
              <a:rPr b="1" lang="zh-TW" sz="2400" spc="-1" strike="noStrike">
                <a:solidFill>
                  <a:srgbClr val="000080"/>
                </a:solidFill>
                <a:latin typeface="CG Omega"/>
                <a:ea typeface="PMingLiU"/>
              </a:rPr>
              <a:t>木糖           </a:t>
            </a:r>
            <a:r>
              <a:rPr b="1" lang="zh-TW" sz="2400" spc="-1" strike="noStrike">
                <a:solidFill>
                  <a:srgbClr val="000080"/>
                </a:solidFill>
                <a:latin typeface="CG Omega"/>
                <a:ea typeface="PMingLiU"/>
              </a:rPr>
              <a:t>------------- </a:t>
            </a:r>
            <a:r>
              <a:rPr b="1" lang="zh-TW" sz="2400" spc="-1" strike="noStrike">
                <a:solidFill>
                  <a:srgbClr val="000080"/>
                </a:solidFill>
                <a:latin typeface="CG Omega"/>
                <a:ea typeface="PMingLiU"/>
              </a:rPr>
              <a:t>＞      木糖醇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80"/>
                </a:solidFill>
                <a:latin typeface="CG Omega"/>
                <a:ea typeface="PMingLiU"/>
              </a:rPr>
              <a:t>      </a:t>
            </a:r>
            <a:r>
              <a:rPr b="1" lang="en-GB" sz="2400" spc="-1" strike="noStrike">
                <a:solidFill>
                  <a:srgbClr val="000080"/>
                </a:solidFill>
                <a:latin typeface="CG Omega"/>
                <a:ea typeface="PMingLiU"/>
              </a:rPr>
              <a:t>xylose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CG Omega"/>
                <a:ea typeface="PMingLiU"/>
              </a:rPr>
              <a:t>  </a:t>
            </a:r>
            <a:r>
              <a:rPr b="1" lang="en-GB" sz="2400" spc="-1" strike="noStrike">
                <a:solidFill>
                  <a:srgbClr val="000080"/>
                </a:solidFill>
                <a:latin typeface="CG Omega"/>
                <a:ea typeface="PMingLiU"/>
              </a:rPr>
              <a:t>d- xylito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年齡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629400" y="6095880"/>
            <a:ext cx="18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468c"/>
                </a:solidFill>
                <a:latin typeface="CG Omega"/>
                <a:ea typeface="PMingLiU"/>
              </a:rPr>
              <a:t>木糖醇 </a:t>
            </a:r>
            <a:r>
              <a:rPr b="1" lang="en-GB" sz="4400" spc="-1" strike="noStrike">
                <a:solidFill>
                  <a:srgbClr val="00468c"/>
                </a:solidFill>
                <a:latin typeface="CG Omega"/>
                <a:ea typeface="PMingLiU"/>
              </a:rPr>
              <a:t>Xylitol</a:t>
            </a:r>
            <a:endParaRPr b="1" lang="en-US" sz="44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是人體的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代謝物 </a:t>
            </a:r>
            <a:r>
              <a:rPr b="1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metabolic intermediat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可以轉成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能量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和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二氧化碳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或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糖原</a:t>
            </a:r>
            <a:r>
              <a:rPr b="1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glycogen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存於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肝臟 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由於不能被細菌代謝，所以不會引致蛀牙 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G Omega"/>
                <a:ea typeface="PMingLiU"/>
              </a:rPr>
              <a:t>建議餐後刷牙，但如不方便刷牙，可嘴嚼無糖香口膠。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刷牙</a:t>
            </a:r>
            <a:r>
              <a:rPr b="1" lang="zh-CN" sz="2400" spc="-1" strike="noStrike">
                <a:solidFill>
                  <a:srgbClr val="000000"/>
                </a:solidFill>
                <a:latin typeface="CG Omega"/>
                <a:ea typeface="PMingLiU"/>
              </a:rPr>
              <a:t>能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減低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30%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蛀牙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CG Omega"/>
                <a:ea typeface="PMingLiU"/>
              </a:rPr>
              <a:t>而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嘴嚼木糖醇香口膠二十分鐘</a:t>
            </a:r>
            <a:r>
              <a:rPr b="1" lang="zh-CN" sz="2400" spc="-1" strike="noStrike">
                <a:solidFill>
                  <a:srgbClr val="000000"/>
                </a:solidFill>
                <a:latin typeface="CG Omega"/>
                <a:ea typeface="PMingLiU"/>
              </a:rPr>
              <a:t>能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減低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12.3%</a:t>
            </a:r>
            <a:r>
              <a:rPr b="1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蛀牙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相比蔗糖貴多於十倍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克劑量有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90%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吸收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克劑量有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60%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結論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牙菌膜內細菌經發酵碳水化合物制造酸素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酸素使牙齒表面的琺瑯質和裏面的象牙質溶解流失，造成蛀牙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進食後牙齒風險增加。進食次數越多，風險越大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口水可以清洗牙齒表面的牙菌膜，中和細菌製造的酸素而減低礦物流失，透過再礦作用修復失去的琺瑯質及對抗細菌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PMingLiU"/>
              </a:rPr>
              <a:t>咀嚼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PMingLiU"/>
              </a:rPr>
              <a:t>香口膠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可以增加口水分泌，預防蛀牙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PMingLiU"/>
              </a:rPr>
              <a:t>無糖香口膠內含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木糖醇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PMingLiU"/>
              </a:rPr>
              <a:t>Xylitol)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不能被細菌代謝，所以不會引致蛀牙。嘴嚼木糖醇香口膠二十分鐘減低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12.3%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蛀牙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PMingLiU"/>
              </a:rPr>
              <a:t>一般建議飲食後嘴嚼無糖香口膠二十分鐘以上對抗蛀牙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CG Omega"/>
                <a:ea typeface="PMingLiU"/>
              </a:rPr>
              <a:t>願</a:t>
            </a:r>
            <a:br>
              <a:rPr sz="4000"/>
            </a:b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600200" y="26665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積極人生笑容可親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健康牙齒伴你一生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468c"/>
                </a:solidFill>
                <a:latin typeface="PMingLiU"/>
                <a:ea typeface="PMingLiU"/>
              </a:rPr>
              <a:t>完</a:t>
            </a:r>
            <a:endParaRPr b="1" lang="en-US" sz="4000" spc="-1" strike="noStrike">
              <a:solidFill>
                <a:srgbClr val="00468c"/>
              </a:solidFill>
              <a:latin typeface="CG Omeg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婚姻狀況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1523880"/>
          <a:ext cx="7902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902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862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32320" y="1447920"/>
            <a:ext cx="2128680" cy="2913480"/>
            <a:chOff x="3532320" y="1447920"/>
            <a:chExt cx="2128680" cy="2913480"/>
          </a:xfrm>
        </p:grpSpPr>
        <p:sp>
          <p:nvSpPr>
            <p:cNvPr id="99" name=""/>
            <p:cNvSpPr/>
            <p:nvPr/>
          </p:nvSpPr>
          <p:spPr>
            <a:xfrm>
              <a:off x="3532320" y="3962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未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1920" y="1447920"/>
              <a:ext cx="15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分居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離婚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喪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32520" y="3886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CG Omega"/>
                  <a:ea typeface="PMingLiU"/>
                </a:rPr>
                <a:t>已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職業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629400" y="6095880"/>
            <a:ext cx="18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506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468c"/>
                </a:solidFill>
                <a:latin typeface="CG Omega"/>
                <a:ea typeface="PMingLiU"/>
              </a:rPr>
              <a:t>工作性質</a:t>
            </a:r>
            <a:endParaRPr b="1" lang="en-US" sz="3600" spc="-1" strike="noStrike">
              <a:solidFill>
                <a:srgbClr val="00468c"/>
              </a:solidFill>
              <a:latin typeface="CG Omeg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743120"/>
          <a:ext cx="959652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3120"/>
                    <a:ext cx="959652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162920" y="60958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加權樣本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270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個 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全職及兼職工作者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PC84-CLIFF</cp:lastModifiedBy>
  <dcterms:modified xsi:type="dcterms:W3CDTF">2004-05-20T02:47:29Z</dcterms:modified>
  <cp:revision>711</cp:revision>
  <dc:subject/>
  <dc:title>PowerPoint Presentation</dc:title>
</cp:coreProperties>
</file>