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4E3D-917D-47CD-9147-1B2BE7C9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614-0BEA-46EC-8D4D-A9C10C4F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CA0-2E4A-441A-A5AE-E33622E6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E6A-2FFD-49A3-B0F7-1C7F4C24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678-5EA2-4540-9988-858CA750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655-B64A-420F-871F-F10BCC86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535-CB99-449D-837F-626EDC38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D2A-9F0C-4BB8-B8B5-2F927411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33FA-B622-4125-A0D4-38912BE0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577F-A1F3-47D7-ADD1-959514AF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461A-E007-47B1-93E8-D1B75A21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59CB-1661-450C-905A-E3B502B2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44D4-9A92-4498-A41F-9AB8F919EAD1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SIMPA Quality of Home Life Survey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5214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ffffff"/>
                </a:solidFill>
                <a:latin typeface="Times New Roman"/>
              </a:rPr>
              <a:t>The Public Opinion Programme, HKU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emographics of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Respondents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ype of Housing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-723960" y="1289160"/>
          <a:ext cx="106250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23960" y="1289160"/>
                    <a:ext cx="106250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6706800" y="13716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11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pproximate size of current housing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93720" y="1442880"/>
          <a:ext cx="810756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442880"/>
                    <a:ext cx="810756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086600" y="5486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15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ender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235160"/>
          <a:ext cx="8359920" cy="56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35160"/>
                    <a:ext cx="8359920" cy="56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478200" y="12952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15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ge Group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52400" y="1471680"/>
          <a:ext cx="773136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471680"/>
                    <a:ext cx="773136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6783120" y="13716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473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ducation Attainment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295280"/>
          <a:ext cx="812340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1234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402240" y="16002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08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ccup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601640"/>
          <a:ext cx="9077400" cy="427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1640"/>
                    <a:ext cx="9077400" cy="42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554520" y="10666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493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rital status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1523880"/>
          <a:ext cx="871380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871380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402240" y="14479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05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Number of children (if married)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30840" y="12952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341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9480" y="1447920"/>
          <a:ext cx="77644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7644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nthly household incom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including year-end bonus and double pay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828800"/>
          <a:ext cx="8164440" cy="468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16444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88040" y="14479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425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ousehold siz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22240" y="1341360"/>
          <a:ext cx="753444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341360"/>
                    <a:ext cx="753444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783120" y="20574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04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9-17T04:40:35Z</dcterms:modified>
  <cp:revision>1039</cp:revision>
  <dc:subject/>
  <dc:title>無投影片標題</dc:title>
</cp:coreProperties>
</file>