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532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88A0-751C-4160-8BA4-DE7BA20A3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79B4-3AAD-4C68-B744-E0AA115DB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FBF5-1EAC-4447-BE00-2027B0F06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B24D-B5A4-4CA6-9FFD-E6BD55DEF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2889-461B-4CE6-ACC6-AB45BE423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C2E9-4799-4605-ABB0-1EFA38BFF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2A6A-4D43-4BF6-AB65-8EB5BB311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079E-CB1C-444D-8720-3C60D1B68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C7C2-56CD-4B0C-82BA-14F4343C0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0903-3F0A-41E3-9B80-9781FA58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7787-3F0D-42B7-BDD9-005ED4D8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04EE-C5C4-44E0-B42D-F7D189A9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E998A-E72E-43FA-8FE5-D51F212E4A69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0"/>
            <a:ext cx="815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SIMPA Quality of Home Life Survey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33520" y="6521400"/>
            <a:ext cx="502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400" spc="-1" strike="noStrike">
                <a:solidFill>
                  <a:srgbClr val="ffffff"/>
                </a:solidFill>
                <a:latin typeface="Times New Roman"/>
              </a:rPr>
              <a:t>The Public Opinion Programme, HKU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Demographics of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Respondents</a:t>
            </a:r>
            <a:endParaRPr b="0" lang="en-US" sz="48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ype of Housing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-723960" y="1289160"/>
          <a:ext cx="1062504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23960" y="1289160"/>
                    <a:ext cx="1062504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6706800" y="137160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[N = 511]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pproximate size of current housing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93720" y="1442880"/>
          <a:ext cx="8107560" cy="477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720" y="1442880"/>
                    <a:ext cx="8107560" cy="47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7086600" y="5486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[N = 515]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Gender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57200" y="1235160"/>
          <a:ext cx="8359920" cy="56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35160"/>
                    <a:ext cx="8359920" cy="56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6478200" y="129528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[N = 515]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ge Group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752400" y="1471680"/>
          <a:ext cx="7731360" cy="471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00" y="1471680"/>
                    <a:ext cx="7731360" cy="47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6783120" y="137160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[N = 473]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Education Attainment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57200" y="1295280"/>
          <a:ext cx="8123400" cy="529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95280"/>
                    <a:ext cx="8123400" cy="529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6402240" y="160020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[N = 508]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ccupatio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0" y="1601640"/>
          <a:ext cx="9077400" cy="427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1640"/>
                    <a:ext cx="9077400" cy="427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6554520" y="106668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[N = 493]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arital status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0" y="1523880"/>
          <a:ext cx="8713800" cy="491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3880"/>
                    <a:ext cx="8713800" cy="49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6402240" y="144792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[N = 505]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Number of children (if married)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630840" y="129528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[N = 341]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09480" y="1447920"/>
          <a:ext cx="776448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447920"/>
                    <a:ext cx="776448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onthly household income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including year-end bonus and double pay)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33520" y="1828800"/>
          <a:ext cx="8164440" cy="468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828800"/>
                    <a:ext cx="8164440" cy="46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088040" y="144792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[N = 425]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Household size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822240" y="1341360"/>
          <a:ext cx="7534440" cy="516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2240" y="1341360"/>
                    <a:ext cx="7534440" cy="51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6783120" y="205740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[N = 504]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PC84-CLIFF</cp:lastModifiedBy>
  <cp:lastPrinted>2001-04-04T10:00:24Z</cp:lastPrinted>
  <dcterms:modified xsi:type="dcterms:W3CDTF">2004-09-17T04:40:35Z</dcterms:modified>
  <cp:revision>1039</cp:revision>
  <dc:subject/>
  <dc:title>無投影片標題</dc:title>
</cp:coreProperties>
</file>