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BFB-F537-406D-BA51-D16B4805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E38-8E28-41F2-86EA-0BF65EE5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A2C-79C9-4E5B-AF12-DAB25EE3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766-C13B-4249-837E-B9F8773C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241C-2FF9-481A-973E-2702BF80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493F-759D-4640-A1B5-664A2A07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FC1-9861-49CD-819A-0D4AEA0A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9533-99BC-44EB-A3BC-C5062FA4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28C9-64FA-4AB3-9F53-D0C7337F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F665-4EC5-4192-841F-78125DB5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FF0E-5404-4018-9046-B416E74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CAD-A2F4-41CC-BAE4-4EA8659B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A7D1-BD1E-4EA2-8DBD-B3FEBBC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00B8-830A-4C54-A9E1-8947DD7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D83D-6CF6-4768-9F65-B829B2ED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AF3C-789F-4546-B423-5552282B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83BB-F5CE-4205-B068-BF5027C4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882-BDD1-4A35-973E-FC09A005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29D-4CEC-463A-93D4-F8D2E146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9AB-727B-47F2-B51F-DB0D6BD3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28A-EF0E-47BF-8C19-50BDA2F6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EA8-CEE7-44AA-91B1-039ACD5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9CA-B21E-4CBF-9339-FF72600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896-44D3-4F7E-AE89-38C3C673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D886-E828-4956-9235-60717705B48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485200" y="6172200"/>
          <a:ext cx="658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5200" y="6172200"/>
                    <a:ext cx="658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33F8-BD71-42A1-86A0-C2F43DE359BE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485200" y="6172200"/>
          <a:ext cx="658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5200" y="6172200"/>
                    <a:ext cx="658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2511360"/>
            <a:ext cx="853416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400" spc="-1" strike="noStrike">
                <a:solidFill>
                  <a:srgbClr val="000000"/>
                </a:solidFill>
                <a:latin typeface="Arial"/>
              </a:rPr>
              <a:t>Survey on the West Kowloon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400" spc="-1" strike="noStrike">
                <a:solidFill>
                  <a:srgbClr val="000000"/>
                </a:solidFill>
                <a:latin typeface="Arial"/>
              </a:rPr>
              <a:t>Cultural District Development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Findings Announcement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4 November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435800" y="380880"/>
          <a:ext cx="1098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5800" y="380880"/>
                    <a:ext cx="109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endance of Popular Cultural Activities*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the Last 6 Mont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79520" y="1528920"/>
          <a:ext cx="805500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528920"/>
                    <a:ext cx="80550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505320" y="24382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: 2.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: 0.1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7640" y="190512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55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3520" y="6248520"/>
            <a:ext cx="7582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pular cultural activities stand for those held at informal cultural venues such as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oing to the cinema, watching Xiqu, going to pop-concerts, watching street-show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600200"/>
            <a:ext cx="1523880" cy="4419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ary of Satisfaction Level with Various Asp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1676520"/>
          <a:ext cx="85726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72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838188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8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25146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1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1880" y="47545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ary of Benchmarking Compari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371600"/>
          <a:ext cx="864864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4864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600" y="15238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ultural &amp; arts development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2767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ormal cultural faciliti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20574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7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1880" y="28195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36115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7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44496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7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ian Cities with the Best Cultural and Arts Develop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6000" y="1689120"/>
          <a:ext cx="859788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689120"/>
                    <a:ext cx="859788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28600" y="15238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1600200"/>
            <a:ext cx="1219320" cy="4648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1337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92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aluation of HKSAR’s Cultural Policies and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676520"/>
          <a:ext cx="85726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72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381880" y="27734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98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4449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91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mportance of Promoting Cultural and Arts Education in Hong Ko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-54000" y="1592280"/>
          <a:ext cx="9350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000" y="1592280"/>
                    <a:ext cx="9350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869160" y="19051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1,008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organizing cultural activities generally lead to a gain or loss of money?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7320" y="2058840"/>
          <a:ext cx="742968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058840"/>
                    <a:ext cx="74296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162560" y="165096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9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Recapitulation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HK people were not frequent users of local cultural facilities, they were relatively more satisfied with the facilities than the overall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graded HK’s cultural and arts development above Asian average, and about a quarter considered it above world stand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whelming majority saw the importance of promoting cultural and arts educ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Public Opinion on the West Kowloon Cultural District (“WKCD”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blic Awareness of the WKCD Projec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s of Late September 200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2058840"/>
          <a:ext cx="769608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8840"/>
                    <a:ext cx="76960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705720" y="2057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1,009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629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ed by Sunny Development Limited, one of the three finalists to develop the West Kowloon Cultural District (“WKC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ed by the Public Opinion Programme (POP) of the University of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strument designed entirely by the POP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work operation and data analysis also conducted independently by the POP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what extent do you estimate the WKCD can raise Hong Kong’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ltural and arts atmosphere?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44560"/>
          <a:ext cx="9350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9350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009920" y="205740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99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828800"/>
            <a:ext cx="2362320" cy="3962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what extent do you estimate the WKCD can promote cultural and arts education in Hong Kong?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744560"/>
          <a:ext cx="9350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9350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934320" y="19051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1,003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1905120"/>
            <a:ext cx="2514600" cy="37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Benefits brought along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y the WKCD Pro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1676520"/>
          <a:ext cx="85726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72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381880" y="28195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99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1880" y="44197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st Desired Facilities and Venues Expected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to be Constructed in the WKC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-127080" y="1749600"/>
          <a:ext cx="927108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7080" y="1749600"/>
                    <a:ext cx="927108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80880" y="152388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 of respondent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1828800"/>
            <a:ext cx="1219320" cy="4419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19810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77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 Important Factor when Constructing the Facilities of the WKC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14400" y="2057400"/>
          <a:ext cx="73486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3486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7162200" y="165096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1,004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s of the Facilities in WKCD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Responsibility of…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32040" y="2057400"/>
          <a:ext cx="7354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057400"/>
                    <a:ext cx="7354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7162560" y="165096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7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t Incurred for Managing the Faciliti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Responsible by…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32040" y="2057400"/>
          <a:ext cx="7354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057400"/>
                    <a:ext cx="7354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7162560" y="165096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6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you think the WKCD will eventually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ad to a gain or loss of money, eve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exemption on the land cost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14400" y="2362320"/>
          <a:ext cx="762012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6201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248520" y="2895480"/>
            <a:ext cx="152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se money 47%</a:t>
            </a:r>
            <a:endParaRPr b="0" lang="en-US" sz="1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560" y="213372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7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04920" y="4568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ire for the Government to Launch a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rge-scale Public Consultation before mak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Final Decision on the Successful Tender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50920" y="1866960"/>
          <a:ext cx="805500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66960"/>
                    <a:ext cx="805500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323760" y="26668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1,002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1909800"/>
            <a:ext cx="1752480" cy="4419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Recapitulat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ublic’s high hopes on the WKCD project to upgrade the city’s cultural and arts atmosphere as well as its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acticality outweighed architectural grandeur and maintenance cost in terms of actual desig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esire to have more theatres, concert halls and education centres in the Distr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nvironmental impact was the top concern of the general publ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905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vestigate Hong Kong people’s participation and satisfaction with the local arts and cultural developmen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cover the public’s opinions on and concerns about the WKCD proj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nefit the entire community with objective opinion dat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g Kong people are generally not satisfied with the city’s cultural and arts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the low participation rate in cultural and arts activities, people do believe access to culture and arts education are important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are positive that the WKCD can improve both Hong Kong’s cultural and arts atmosphere and arts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al Rema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s are perceptions, which change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napshots to be taken in order to track the opinion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ed to re-visit the debating issues every now and t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711520"/>
            <a:ext cx="73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細明體"/>
              </a:rPr>
              <a:t>Survey report soon be available at http://hkupop.hku.h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細明體"/>
              </a:rPr>
              <a:t>Thank yo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udy consists of 3 main parts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2362320"/>
          <a:ext cx="7162920" cy="3135240"/>
        </p:xfrm>
        <a:graphic>
          <a:graphicData uri="http://schemas.openxmlformats.org/drawingml/2006/table">
            <a:tbl>
              <a:tblPr/>
              <a:tblGrid>
                <a:gridCol w="2057400"/>
                <a:gridCol w="1981440"/>
                <a:gridCol w="1447560"/>
                <a:gridCol w="1676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st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onese-speaking HK population of age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-time students of age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ed experts from 8 group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siz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work perio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-26 Sep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-29 Sep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Sep - 6 Oc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rat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ct Information of Public Surv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905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urve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-26 September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popul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onese-speaking H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of age 1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bov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meth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survey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r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iz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09 successful c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r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.4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err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3% at 95% conf. lev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Finding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Evaluation of the Cultural Development of Hong Ko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80880" y="1447920"/>
          <a:ext cx="845820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4582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endance of Formal Cultural Activities*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the Last 6 Mont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514600"/>
            <a:ext cx="259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: 0.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: 0.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3960" y="175248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76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1219320"/>
            <a:ext cx="1447920" cy="4876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400" y="6375240"/>
            <a:ext cx="6517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mal cultural activities stand for performances, exhibitions, or other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ltural activities held at formal cultural venu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84-CLIFF</cp:lastModifiedBy>
  <dcterms:modified xsi:type="dcterms:W3CDTF">2004-11-24T09:34:32Z</dcterms:modified>
  <cp:revision>83</cp:revision>
  <dc:subject/>
  <dc:title>PowerPoint Presentation</dc:title>
</cp:coreProperties>
</file>