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2A17-4D9F-40E6-8BCC-83D02081B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D7AF-B95D-4CBD-B3C2-3EDEF552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81D8-5A7A-402A-A3F3-E67CDF18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BD5B-7D20-41D6-B391-04F181FE8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9FD4-E9ED-4AFD-A510-2F96F167F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C851-9C1F-40F8-9BAF-6CE40ADA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5204-9A86-4EA2-950B-CE1626D5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E45A-EE6A-4A06-A64E-9C4C1993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9B2B-6BD2-471C-90DE-8AC18CA1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2B95-F674-4D7F-A250-C848587F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AFED-1F0B-4B3F-87B8-59724F55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6E3F-D48D-4F6C-95BF-F44B32B3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5CBC-39C1-46D1-B6E2-E9616022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024A-71EF-41CC-85E4-B826190D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1880-66BE-487D-AD3E-5F556B46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E722-80E4-4456-9D0D-2F2F22C82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3CEA-8C5A-4066-A5CF-66D885940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1826-55A6-4FB0-9284-7BE81E59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C12E-4829-4CDA-B22D-AA0B6373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4DAD-E66E-4993-9C7F-D786D9AF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37DF-1D8E-4666-BB6D-66F7EC7C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52C2-D879-4E16-AFBE-4C50D0C2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3D84-CB74-4046-A388-66D0B049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D411-4440-40BC-88FB-9F938209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B44E-E569-4CD3-B278-3BED49D9B37D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8485200" y="6172200"/>
          <a:ext cx="65880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85200" y="6172200"/>
                    <a:ext cx="658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C0B3-6BF1-44F9-B375-1FB59A75F9A7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8485200" y="6172200"/>
          <a:ext cx="65880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85200" y="6172200"/>
                    <a:ext cx="658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04920" y="2511360"/>
            <a:ext cx="8534160" cy="33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400" spc="-1" strike="noStrike">
                <a:solidFill>
                  <a:srgbClr val="000000"/>
                </a:solidFill>
                <a:latin typeface="Arial"/>
              </a:rPr>
              <a:t>Survey on the West Kowloon</a:t>
            </a:r>
            <a:endParaRPr b="0" lang="en-US" sz="3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400" spc="-1" strike="noStrike">
                <a:solidFill>
                  <a:srgbClr val="000000"/>
                </a:solidFill>
                <a:latin typeface="Arial"/>
              </a:rPr>
              <a:t>Cultural District Development</a:t>
            </a:r>
            <a:endParaRPr b="0" lang="en-US" sz="3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Findings Announcement</a:t>
            </a:r>
            <a:endParaRPr b="0" lang="en-US" sz="3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4 November 2004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5181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lbertus Medium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828800"/>
            <a:ext cx="81532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435800" y="380880"/>
          <a:ext cx="109872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5800" y="380880"/>
                    <a:ext cx="1098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ttendance of Popular Cultural Activities*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 the Last 6 Month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79520" y="1528920"/>
          <a:ext cx="8055000" cy="49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1528920"/>
                    <a:ext cx="805500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3505320" y="2438280"/>
            <a:ext cx="26668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: 2.5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error: 0.1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7640" y="1905120"/>
            <a:ext cx="122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N = 955]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3520" y="6248520"/>
            <a:ext cx="7582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opular cultural activities stand for those held at informal cultural venues such as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oing to the cinema, watching Xiqu, going to pop-concerts, watching street-show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1600200"/>
            <a:ext cx="1523880" cy="4419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mmary of Satisfaction Level with Various Aspe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52280" y="1676520"/>
          <a:ext cx="85726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76520"/>
                    <a:ext cx="85726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8381880" y="35812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=980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1880" y="251460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=1,001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1880" y="475452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=1,003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mmary of Benchmarking Comparis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28600" y="1371600"/>
          <a:ext cx="8648640" cy="480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8648640" cy="48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228600" y="15238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Cultural &amp; arts development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327672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Formal cultural facilitie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1880" y="205740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=1,007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1880" y="281952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=1,005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1880" y="361152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=1,007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1880" y="444960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=1,007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sian Cities with the Best Cultural and Arts Develop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16000" y="1689120"/>
          <a:ext cx="8597880" cy="473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689120"/>
                    <a:ext cx="8597880" cy="47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228600" y="152388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centage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238880" y="1600200"/>
            <a:ext cx="1219320" cy="4648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2133720"/>
            <a:ext cx="16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N = 992]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aluation of HKSAR’s Cultural Policies and Perform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52280" y="1676520"/>
          <a:ext cx="85726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76520"/>
                    <a:ext cx="85726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8381880" y="27734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=998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81880" y="44496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=991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Importance of Promoting Cultural and Arts Education in Hong Ko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-54000" y="1592280"/>
          <a:ext cx="935028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4000" y="1592280"/>
                    <a:ext cx="935028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6869160" y="1905120"/>
            <a:ext cx="16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N = 1,008]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organizing cultural activities generally lead to a gain or loss of money?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87320" y="2058840"/>
          <a:ext cx="7429680" cy="439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2058840"/>
                    <a:ext cx="7429680" cy="43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7162560" y="1650960"/>
            <a:ext cx="122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[N = 999]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 Recapitulation (1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HK people were not frequent users of local cultural facilities, they were relatively more satisfied with the facilities than the overall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% graded HK’s cultural and arts development above Asian average, and about a quarter considered it above world standa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verwhelming majority saw the importance of promoting cultural and arts educ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Public Opinion on the West Kowloon Cultural District (“WKCD”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ublic Awareness of the WKCD Projec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as of Late September 2004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85800" y="2058840"/>
          <a:ext cx="7696080" cy="439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8840"/>
                    <a:ext cx="7696080" cy="43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6705720" y="20574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[N = 1,009]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ackgrou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2640" y="1904760"/>
            <a:ext cx="716292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ssioned by Sunny Development Limited, one of the three finalists to develop the West Kowloon Cultural District (“WKCD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ed by the Public Opinion Programme (POP) of the University of Hong K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instrument designed entirely by the POP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work operation and data analysis also conducted independently by the POP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3111480"/>
            <a:ext cx="76201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 what extent do you estimate the WKCD can raise Hong Kong’s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ultural and arts atmosphere?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1744560"/>
          <a:ext cx="935028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44560"/>
                    <a:ext cx="935028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7009920" y="2057400"/>
            <a:ext cx="122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N = 999]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1828800"/>
            <a:ext cx="2362320" cy="3962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 what extent do you estimate the WKCD can promote cultural and arts education in Hong Kong?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0" y="1744560"/>
          <a:ext cx="935028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44560"/>
                    <a:ext cx="935028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6934320" y="19051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N = 1,003]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76520" y="1905120"/>
            <a:ext cx="2514600" cy="3733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pected Benefits brought along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y the WKCD Proje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52280" y="1676520"/>
          <a:ext cx="85726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76520"/>
                    <a:ext cx="85726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8381880" y="28195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=999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1880" y="441972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=1,003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ost Desired Facilities and Venues Expected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to be Constructed in the WKC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-127080" y="1749600"/>
          <a:ext cx="9271080" cy="51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7080" y="1749600"/>
                    <a:ext cx="9271080" cy="51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380880" y="1523880"/>
            <a:ext cx="19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centage of respondent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10280" y="1828800"/>
            <a:ext cx="1219320" cy="4419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33720" y="198108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N = 977]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st Important Factor when Constructing the Facilities of the WKCD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914400" y="2057400"/>
          <a:ext cx="734868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73486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7162200" y="1650960"/>
            <a:ext cx="14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[N = 1,004]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velopments of the Facilities in WKCD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Responsibility of…?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932040" y="2057400"/>
          <a:ext cx="735480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2040" y="2057400"/>
                    <a:ext cx="73548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7162560" y="1650960"/>
            <a:ext cx="122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[N = 997]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st Incurred for Managing the Facilitie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 Responsible by…?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932040" y="2057400"/>
          <a:ext cx="735480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2040" y="2057400"/>
                    <a:ext cx="73548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7162560" y="1650960"/>
            <a:ext cx="122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[N = 996]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you think the WKCD will eventually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ad to a gain or loss of money, even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th exemption on the land cost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914400" y="2362320"/>
          <a:ext cx="7620120" cy="43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62320"/>
                    <a:ext cx="7620120" cy="43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6248520" y="2895480"/>
            <a:ext cx="1523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ose money 47%</a:t>
            </a:r>
            <a:endParaRPr b="0" lang="en-US" sz="1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62560" y="2133720"/>
            <a:ext cx="122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[N = 997]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04920" y="45684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sire for the Government to Launch a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rge-scale Public Consultation before making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Final Decision on the Successful Tender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250920" y="1866960"/>
          <a:ext cx="8055000" cy="49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66960"/>
                    <a:ext cx="8055000" cy="49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6323760" y="2666880"/>
            <a:ext cx="14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N = 1,002]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00200" y="1909800"/>
            <a:ext cx="1752480" cy="4419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 Recapitulation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Public’s high hopes on the WKCD project to upgrade the city’s cultural and arts atmosphere as well as its edu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Practicality outweighed architectural grandeur and maintenance cost in terms of actual desig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Desire to have more theatres, concert halls and education centres in the Distri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Environmental impact was the top concern of the general public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earch Objec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1905120"/>
            <a:ext cx="7086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nvestigate Hong Kong people’s participation and satisfaction with the local arts and cultural developmen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iscover the public’s opinions on and concerns about the WKCD projec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nefit the entire community with objective opinion dat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clus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6201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ng Kong people are generally not satisfied with the city’s cultural and arts develop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pite the low participation rate in cultural and arts activities, people do believe access to culture and arts education are important to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ity are positive that the WKCD can improve both Hong Kong’s cultural and arts atmosphere and arts edu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3111480"/>
            <a:ext cx="76201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nal Remar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90360" y="2286000"/>
            <a:ext cx="7467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ptions are perceptions, which change over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snapshots to be taken in order to track the opinion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ed to re-visit the debating issues every now and th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3111480"/>
            <a:ext cx="76201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2711520"/>
            <a:ext cx="73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細明體"/>
              </a:rPr>
              <a:t>Survey report soon be available at http://hkupop.hku.hk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  <a:ea typeface="細明體"/>
              </a:rPr>
              <a:t>Thank you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earc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earch Frame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udy consists of 3 main parts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066680" y="2362320"/>
          <a:ext cx="7162920" cy="3135240"/>
        </p:xfrm>
        <a:graphic>
          <a:graphicData uri="http://schemas.openxmlformats.org/drawingml/2006/table">
            <a:tbl>
              <a:tblPr/>
              <a:tblGrid>
                <a:gridCol w="2057400"/>
                <a:gridCol w="1981440"/>
                <a:gridCol w="1447560"/>
                <a:gridCol w="16765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oster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t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tonese-speaking HK population of age 15 or above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-time students of age 15 or above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ed experts from 8 groups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 size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9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1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work period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-26 Sep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-29 Sep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Sep - 6 Oct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e rate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.4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.0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0%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tact Information of Public Surve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1905120"/>
            <a:ext cx="6629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of surve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-26 September 2004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popul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tonese-speaking H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of age 1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abov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y metho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 survey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iewers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siz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09 successful cas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ra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1.4%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erro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/-3% at 95% conf. leve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Finding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blic Evaluation of the Cultural Development of Hong Ko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a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380880" y="1447920"/>
          <a:ext cx="8458200" cy="502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458200" cy="50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ttendance of Formal Cultural Activities*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 the Last 6 Month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2514600"/>
            <a:ext cx="25909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: 0.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error: 0.1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33960" y="1752480"/>
            <a:ext cx="122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N = 976]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1219320"/>
            <a:ext cx="1447920" cy="4876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6400" y="6375240"/>
            <a:ext cx="65170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rmal cultural activities stand for performances, exhibitions, or other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ltural activities held at formal cultural venue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84-CLIFF</cp:lastModifiedBy>
  <dcterms:modified xsi:type="dcterms:W3CDTF">2004-11-24T09:34:32Z</dcterms:modified>
  <cp:revision>83</cp:revision>
  <dc:subject/>
  <dc:title>PowerPoint Presentation</dc:title>
</cp:coreProperties>
</file>