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753725" cy="8067675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6560" y="435996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81904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23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281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965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123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3281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8920" y="358920"/>
            <a:ext cx="99280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1904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96560" y="435996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81904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123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28160" y="161280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965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2123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328160" y="4359960"/>
            <a:ext cx="296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58920" y="358920"/>
            <a:ext cx="99280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19040" y="435996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9656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19040" y="1612800"/>
            <a:ext cx="449712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96560" y="4359960"/>
            <a:ext cx="9215640" cy="25084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52120" cy="8064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Click to edit the title text format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96560" y="161280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903240" indent="-33660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397160" indent="-27000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889280" indent="-268560">
              <a:lnSpc>
                <a:spcPct val="11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419200" indent="-268200">
              <a:lnSpc>
                <a:spcPct val="11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419200" indent="-268200">
              <a:lnSpc>
                <a:spcPct val="11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419200" indent="-268200">
              <a:lnSpc>
                <a:spcPct val="11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Bot%20pur%20MAIN2" descr=""/>
          <p:cNvPicPr/>
          <p:nvPr/>
        </p:nvPicPr>
        <p:blipFill>
          <a:blip r:embed="rId2"/>
          <a:stretch/>
        </p:blipFill>
        <p:spPr>
          <a:xfrm>
            <a:off x="0" y="0"/>
            <a:ext cx="10753560" cy="8064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G Omega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7480" y="1887480"/>
            <a:ext cx="967752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38301c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38301c"/>
              </a:solidFill>
              <a:latin typeface="CG Omega"/>
            </a:endParaRPr>
          </a:p>
          <a:p>
            <a:pPr lvl="1" marL="538200" indent="0" algn="ctr">
              <a:spcBef>
                <a:spcPts val="7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074600" indent="52560" algn="ctr">
              <a:spcBef>
                <a:spcPts val="700"/>
              </a:spcBef>
              <a:buClr>
                <a:srgbClr val="ccccff"/>
              </a:buClr>
              <a:buFont typeface="CG Omega"/>
              <a:buChar char="•"/>
              <a:tabLst>
                <a:tab algn="l" pos="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12800" indent="7920" algn="ctr">
              <a:spcBef>
                <a:spcPts val="601"/>
              </a:spcBef>
              <a:buClr>
                <a:srgbClr val="ccccff"/>
              </a:buClr>
              <a:buFont typeface="CG Omega"/>
              <a:buChar char="–"/>
              <a:tabLst>
                <a:tab algn="l" pos="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151000" algn="ctr">
              <a:spcBef>
                <a:spcPts val="601"/>
              </a:spcBef>
              <a:buClr>
                <a:srgbClr val="ccccff"/>
              </a:buClr>
              <a:buFont typeface="CG Omega"/>
              <a:buChar char="»"/>
              <a:tabLst>
                <a:tab algn="l" pos="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151000">
              <a:spcBef>
                <a:spcPts val="601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151000">
              <a:spcBef>
                <a:spcPts val="601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4040" y="722160"/>
            <a:ext cx="10133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G Omega"/>
                <a:ea typeface="PMingLiU"/>
              </a:rPr>
              <a:t>面對衰老的情況</a:t>
            </a:r>
            <a:r>
              <a:rPr b="1" lang="zh-TW" sz="4600" spc="-1" strike="noStrike">
                <a:solidFill>
                  <a:srgbClr val="ffffff"/>
                </a:solidFill>
                <a:latin typeface="CG Omega"/>
                <a:ea typeface="PMingLiU"/>
              </a:rPr>
              <a:t> </a:t>
            </a:r>
            <a:br>
              <a:rPr sz="4600"/>
            </a:br>
            <a:r>
              <a:rPr b="1" lang="zh-TW" sz="4000" spc="-1" strike="noStrike">
                <a:solidFill>
                  <a:srgbClr val="ffffff"/>
                </a:solidFill>
                <a:latin typeface="CG Omega"/>
                <a:ea typeface="PMingLiU"/>
              </a:rPr>
              <a:t>&lt;</a:t>
            </a:r>
            <a:r>
              <a:rPr b="1" lang="zh-TW" sz="4000" spc="-1" strike="noStrike">
                <a:solidFill>
                  <a:srgbClr val="ffffff"/>
                </a:solidFill>
                <a:latin typeface="CG Omega"/>
                <a:ea typeface="PMingLiU"/>
              </a:rPr>
              <a:t>香港女性對</a:t>
            </a:r>
            <a:r>
              <a:rPr b="1" lang="en-US" sz="4000" spc="-1" strike="noStrike">
                <a:solidFill>
                  <a:srgbClr val="ffffff"/>
                </a:solidFill>
                <a:latin typeface="CG Omega"/>
                <a:ea typeface="PMingLiU"/>
              </a:rPr>
              <a:t>衰老及</a:t>
            </a:r>
            <a:r>
              <a:rPr b="1" lang="zh-TW" sz="4000" spc="-1" strike="noStrike">
                <a:solidFill>
                  <a:srgbClr val="ffffff"/>
                </a:solidFill>
                <a:latin typeface="CG Omega"/>
                <a:ea typeface="PMingLiU"/>
              </a:rPr>
              <a:t>皺紋的態度調查報告</a:t>
            </a:r>
            <a:r>
              <a:rPr b="1" lang="zh-TW" sz="4000" spc="-1" strike="noStrike">
                <a:solidFill>
                  <a:srgbClr val="ffffff"/>
                </a:solidFill>
                <a:latin typeface="CG Omega"/>
                <a:ea typeface="PMingLiU"/>
              </a:rPr>
              <a:t>&gt;</a:t>
            </a:r>
            <a:endParaRPr b="1" lang="en-US" sz="4000" spc="-1" strike="noStrike">
              <a:solidFill>
                <a:srgbClr val="ffffff"/>
              </a:solidFill>
              <a:latin typeface="CG Omega"/>
            </a:endParaRPr>
          </a:p>
        </p:txBody>
      </p:sp>
      <p:sp>
        <p:nvSpPr>
          <p:cNvPr id="79" name=""/>
          <p:cNvSpPr/>
          <p:nvPr/>
        </p:nvSpPr>
        <p:spPr>
          <a:xfrm>
            <a:off x="655560" y="6343560"/>
            <a:ext cx="62056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38301c"/>
                </a:solidFill>
                <a:latin typeface="CG Omega"/>
                <a:ea typeface="PMingLiU"/>
              </a:rPr>
              <a:t>講者</a:t>
            </a:r>
            <a:r>
              <a:rPr b="0" lang="en-US" sz="2800" spc="-1" strike="noStrike">
                <a:solidFill>
                  <a:srgbClr val="38301c"/>
                </a:solidFill>
                <a:latin typeface="CG Omega"/>
                <a:ea typeface="PMingLiU"/>
              </a:rPr>
              <a:t>: </a:t>
            </a:r>
            <a:r>
              <a:rPr b="0" lang="en-US" sz="2800" spc="-1" strike="noStrike">
                <a:solidFill>
                  <a:srgbClr val="38301c"/>
                </a:solidFill>
                <a:latin typeface="CG Omega"/>
                <a:ea typeface="PMingLiU"/>
              </a:rPr>
              <a:t>	</a:t>
            </a:r>
            <a:r>
              <a:rPr b="0" lang="en-US" sz="2800" spc="-1" strike="noStrike">
                <a:solidFill>
                  <a:srgbClr val="38301c"/>
                </a:solidFill>
                <a:latin typeface="CG Omega"/>
                <a:ea typeface="PMingLiU"/>
              </a:rPr>
              <a:t>鍾庭耀博士</a:t>
            </a:r>
            <a:endParaRPr b="0" lang="en-US" sz="2800" spc="-1" strike="noStrike">
              <a:solidFill>
                <a:srgbClr val="000000"/>
              </a:solidFill>
              <a:latin typeface="AvantGarde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38301c"/>
                </a:solidFill>
                <a:latin typeface="CG Omega"/>
                <a:ea typeface="PMingLiU"/>
              </a:rPr>
              <a:t>	</a:t>
            </a:r>
            <a:r>
              <a:rPr b="0" lang="en-US" sz="2800" spc="-1" strike="noStrike">
                <a:solidFill>
                  <a:srgbClr val="38301c"/>
                </a:solidFill>
                <a:latin typeface="CG Omega"/>
                <a:ea typeface="PMingLiU"/>
              </a:rPr>
              <a:t>彭嘉麗小姐</a:t>
            </a:r>
            <a:endParaRPr b="0" lang="en-US" sz="2800" spc="-1" strike="noStrike">
              <a:solidFill>
                <a:srgbClr val="000000"/>
              </a:solidFill>
              <a:latin typeface="AvantGarde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800" spc="-1" strike="noStrike">
                <a:solidFill>
                  <a:srgbClr val="38301c"/>
                </a:solidFill>
                <a:latin typeface="CG Omega"/>
                <a:ea typeface="PMingLiU"/>
              </a:rPr>
              <a:t>	</a:t>
            </a:r>
            <a:r>
              <a:rPr b="0" i="1" lang="en-US" sz="2800" spc="-1" strike="noStrike">
                <a:solidFill>
                  <a:srgbClr val="38301c"/>
                </a:solidFill>
                <a:latin typeface="CG Omega"/>
                <a:ea typeface="PMingLiU"/>
              </a:rPr>
              <a:t>香港大學民意研究計劃</a:t>
            </a:r>
            <a:endParaRPr b="0" lang="en-US" sz="2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G Omega"/>
                <a:ea typeface="PMingLiU"/>
              </a:rPr>
              <a:t>調查結果</a:t>
            </a:r>
            <a:endParaRPr b="1" lang="en-US" sz="46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4600" spc="-1" strike="noStrike">
                <a:solidFill>
                  <a:srgbClr val="ffffff"/>
                </a:solidFill>
                <a:latin typeface="PMingLiU"/>
                <a:ea typeface="PMingLiU"/>
              </a:rPr>
              <a:t>香港女性對衰老的態度</a:t>
            </a:r>
            <a:endParaRPr b="1" lang="en-US" sz="46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3720" y="363600"/>
            <a:ext cx="736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99"/>
                </a:solidFill>
                <a:latin typeface="CG Omega"/>
                <a:ea typeface="PMingLiU"/>
              </a:rPr>
              <a:t>受訪者對衰老的擔心程度</a:t>
            </a:r>
            <a:endParaRPr b="0" lang="en-US" sz="38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11" name=""/>
          <p:cNvSpPr/>
          <p:nvPr/>
        </p:nvSpPr>
        <p:spPr>
          <a:xfrm>
            <a:off x="1670040" y="140328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問</a:t>
            </a: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隨著年齡增長</a:t>
            </a:r>
            <a:r>
              <a:rPr b="1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，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 您會唔會擔心以下的情況</a:t>
            </a: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36480" y="1911240"/>
            <a:ext cx="4251600" cy="3005280"/>
            <a:chOff x="636480" y="1911240"/>
            <a:chExt cx="4251600" cy="3005280"/>
          </a:xfrm>
        </p:grpSpPr>
        <p:sp>
          <p:nvSpPr>
            <p:cNvPr id="113" name=""/>
            <p:cNvSpPr/>
            <p:nvPr/>
          </p:nvSpPr>
          <p:spPr>
            <a:xfrm>
              <a:off x="690480" y="1911240"/>
              <a:ext cx="415944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PMingLiU"/>
                </a:rPr>
                <a:t>變肥</a:t>
              </a:r>
              <a:endParaRPr b="0" lang="en-US" sz="24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636480" y="2368440"/>
            <a:ext cx="4251600" cy="254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6480" y="2368440"/>
                      <a:ext cx="4251600" cy="25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6" name=""/>
          <p:cNvGrpSpPr/>
          <p:nvPr/>
        </p:nvGrpSpPr>
        <p:grpSpPr>
          <a:xfrm>
            <a:off x="5789520" y="1916280"/>
            <a:ext cx="4251240" cy="3000240"/>
            <a:chOff x="5789520" y="1916280"/>
            <a:chExt cx="4251240" cy="3000240"/>
          </a:xfrm>
        </p:grpSpPr>
        <p:graphicFrame>
          <p:nvGraphicFramePr>
            <p:cNvPr id="117" name=""/>
            <p:cNvGraphicFramePr/>
            <p:nvPr/>
          </p:nvGraphicFramePr>
          <p:xfrm>
            <a:off x="5789520" y="2368440"/>
            <a:ext cx="4251240" cy="254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89520" y="2368440"/>
                      <a:ext cx="4251240" cy="25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5829480" y="1916280"/>
              <a:ext cx="418284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PMingLiU"/>
                </a:rPr>
                <a:t>面上出現皺紋</a:t>
              </a:r>
              <a:endParaRPr b="0" lang="en-US" sz="24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560" y="4749840"/>
            <a:ext cx="4424400" cy="3041640"/>
            <a:chOff x="3049560" y="4749840"/>
            <a:chExt cx="4424400" cy="3041640"/>
          </a:xfrm>
        </p:grpSpPr>
        <p:graphicFrame>
          <p:nvGraphicFramePr>
            <p:cNvPr id="121" name=""/>
            <p:cNvGraphicFramePr/>
            <p:nvPr/>
          </p:nvGraphicFramePr>
          <p:xfrm>
            <a:off x="3049560" y="5200560"/>
            <a:ext cx="4424400" cy="259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560" y="5200560"/>
                      <a:ext cx="442440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3060720" y="4749840"/>
              <a:ext cx="43956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PMingLiU"/>
                </a:rPr>
                <a:t>唔能夠再做過往做的活動</a:t>
              </a:r>
              <a:endParaRPr b="0" lang="en-US" sz="2400" spc="-1" strike="noStrike">
                <a:solidFill>
                  <a:srgbClr val="000000"/>
                </a:solidFill>
                <a:latin typeface="AvantGarde Book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近六成受訪者認為保持年輕外</a:t>
            </a:r>
            <a:r>
              <a:rPr b="1" lang="zh-HK" sz="3800" spc="-1" strike="noStrike">
                <a:solidFill>
                  <a:srgbClr val="800080"/>
                </a:solidFill>
                <a:latin typeface="CG Omega"/>
                <a:ea typeface="PMingLiU"/>
              </a:rPr>
              <a:t>貌重要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168720" y="4297320"/>
            <a:ext cx="764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不重要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28" name=""/>
          <p:cNvSpPr/>
          <p:nvPr/>
        </p:nvSpPr>
        <p:spPr>
          <a:xfrm>
            <a:off x="6719400" y="4118040"/>
            <a:ext cx="581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重要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29" name=""/>
          <p:cNvSpPr/>
          <p:nvPr/>
        </p:nvSpPr>
        <p:spPr>
          <a:xfrm>
            <a:off x="3728880" y="2682720"/>
            <a:ext cx="15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不知道</a:t>
            </a:r>
            <a:r>
              <a:rPr b="1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很難說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30" name=""/>
          <p:cNvSpPr/>
          <p:nvPr/>
        </p:nvSpPr>
        <p:spPr>
          <a:xfrm>
            <a:off x="1971720" y="1682640"/>
            <a:ext cx="680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問</a:t>
            </a: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:</a:t>
            </a: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您覺得保持年輕外表對您是否重要？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31" name=""/>
          <p:cNvSpPr/>
          <p:nvPr/>
        </p:nvSpPr>
        <p:spPr>
          <a:xfrm>
            <a:off x="7459560" y="736128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4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52120" cy="1467000"/>
          </a:xfrm>
          <a:prstGeom prst="rect">
            <a:avLst/>
          </a:prstGeom>
          <a:solidFill>
            <a:srgbClr val="efefff"/>
          </a:solidFill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3400" spc="-1" strike="noStrike">
                <a:solidFill>
                  <a:srgbClr val="800080"/>
                </a:solidFill>
                <a:latin typeface="CG Omega"/>
                <a:ea typeface="PMingLiU"/>
              </a:rPr>
              <a:t>受訪者認為保持年輕外</a:t>
            </a:r>
            <a:r>
              <a:rPr b="1" lang="zh-HK" sz="3400" spc="-1" strike="noStrike">
                <a:solidFill>
                  <a:srgbClr val="800080"/>
                </a:solidFill>
                <a:latin typeface="CG Omega"/>
                <a:ea typeface="PMingLiU"/>
              </a:rPr>
              <a:t>貌可提高自信心，令人留下良好印象，且更有利工作及愛情</a:t>
            </a:r>
            <a:endParaRPr b="1" lang="en-US" sz="34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4600" y="2311560"/>
          <a:ext cx="845028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311560"/>
                    <a:ext cx="845028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305080" y="1641600"/>
            <a:ext cx="618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問</a:t>
            </a: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:</a:t>
            </a: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您覺得保持年輕外表可以…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36" name=""/>
          <p:cNvSpPr/>
          <p:nvPr/>
        </p:nvSpPr>
        <p:spPr>
          <a:xfrm>
            <a:off x="7440480" y="735336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4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逾八成受訪者希望外貌較實際年齡年輕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794120" y="6140520"/>
            <a:ext cx="25876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我希望我樣貌看來比實際年齡年輕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41" name=""/>
          <p:cNvSpPr/>
          <p:nvPr/>
        </p:nvSpPr>
        <p:spPr>
          <a:xfrm>
            <a:off x="7496280" y="736776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4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超過七成受訪者會使用護膚品</a:t>
            </a: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/</a:t>
            </a: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化粧品</a:t>
            </a: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/</a:t>
            </a: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做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Facial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改善面部外觀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96920" y="1612800"/>
          <a:ext cx="921564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612800"/>
                    <a:ext cx="921564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165560" y="6245280"/>
            <a:ext cx="37260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G Omega"/>
                <a:ea typeface="PMingLiU"/>
              </a:rPr>
              <a:t>如有需要，我會使用護膚品</a:t>
            </a:r>
            <a:r>
              <a:rPr b="1" lang="en-US" sz="16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CG Omega"/>
                <a:ea typeface="PMingLiU"/>
              </a:rPr>
              <a:t>化粧品</a:t>
            </a:r>
            <a:r>
              <a:rPr b="1" lang="en-US" sz="16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CG Omega"/>
                <a:ea typeface="PMingLiU"/>
              </a:rPr>
              <a:t>做</a:t>
            </a:r>
            <a:r>
              <a:rPr b="1" lang="en-US" sz="1600" spc="-1" strike="noStrike">
                <a:solidFill>
                  <a:srgbClr val="000000"/>
                </a:solidFill>
                <a:latin typeface="CG Omega"/>
                <a:ea typeface="PMingLiU"/>
              </a:rPr>
              <a:t>Facial</a:t>
            </a:r>
            <a:r>
              <a:rPr b="1" lang="en-US" sz="1600" spc="-1" strike="noStrike">
                <a:solidFill>
                  <a:srgbClr val="000000"/>
                </a:solidFill>
                <a:latin typeface="CG Omega"/>
                <a:ea typeface="PMingLiU"/>
              </a:rPr>
              <a:t>改善我面部的外觀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46" name=""/>
          <p:cNvSpPr/>
          <p:nvPr/>
        </p:nvSpPr>
        <p:spPr>
          <a:xfrm>
            <a:off x="7496280" y="736776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4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4600" spc="-1" strike="noStrike">
                <a:solidFill>
                  <a:srgbClr val="ffffff"/>
                </a:solidFill>
                <a:latin typeface="PMingLiU"/>
                <a:ea typeface="PMingLiU"/>
              </a:rPr>
              <a:t>香港女性出現皺紋的情況</a:t>
            </a:r>
            <a:endParaRPr b="1" lang="en-US" sz="46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2680" y="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近六成受訪者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有 </a:t>
            </a:r>
            <a:r>
              <a:rPr b="1" lang="en-US" sz="3800" spc="-1" strike="noStrike">
                <a:solidFill>
                  <a:srgbClr val="800080"/>
                </a:solidFill>
                <a:latin typeface="Symbol"/>
                <a:ea typeface="Symbol"/>
              </a:rPr>
              <a:t>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動態</a:t>
            </a:r>
            <a:r>
              <a:rPr b="1" lang="zh-HK" sz="3800" spc="-1" strike="noStrike">
                <a:solidFill>
                  <a:srgbClr val="800080"/>
                </a:solidFill>
                <a:latin typeface="CG Omega"/>
                <a:ea typeface="PMingLiU"/>
              </a:rPr>
              <a:t>皺紋</a:t>
            </a:r>
            <a:r>
              <a:rPr b="1" lang="zh-HK" sz="3800" spc="-1" strike="noStrike">
                <a:solidFill>
                  <a:srgbClr val="800080"/>
                </a:solidFill>
                <a:latin typeface="Symbol"/>
                <a:ea typeface="Symbol"/>
              </a:rPr>
              <a:t></a:t>
            </a:r>
            <a:r>
              <a:rPr b="1" lang="zh-HK" sz="3800" spc="-1" strike="noStrike">
                <a:solidFill>
                  <a:srgbClr val="800080"/>
                </a:solidFill>
                <a:latin typeface="CG Omega"/>
                <a:ea typeface="PMingLiU"/>
              </a:rPr>
              <a:t> </a:t>
            </a:r>
            <a:r>
              <a:rPr b="1" lang="zh-HK" sz="3800" spc="-1" strike="noStrike">
                <a:solidFill>
                  <a:srgbClr val="800080"/>
                </a:solidFill>
                <a:latin typeface="CG Omega"/>
                <a:ea typeface="PMingLiU"/>
              </a:rPr>
              <a:t>(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Dynamic Wrinkles)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11320" y="1846440"/>
          <a:ext cx="9215280" cy="52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1846440"/>
                    <a:ext cx="921528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030400" y="1289160"/>
            <a:ext cx="6719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HK" sz="2100" spc="-1" strike="noStrike">
                <a:solidFill>
                  <a:srgbClr val="000000"/>
                </a:solidFill>
                <a:latin typeface="CG Omega"/>
                <a:ea typeface="PMingLiU"/>
              </a:rPr>
              <a:t>問</a:t>
            </a:r>
            <a:r>
              <a:rPr b="1" lang="zh-HK" sz="2100" spc="-1" strike="noStrike">
                <a:solidFill>
                  <a:srgbClr val="000000"/>
                </a:solidFill>
                <a:latin typeface="CG Omega"/>
                <a:ea typeface="PMingLiU"/>
              </a:rPr>
              <a:t>: </a:t>
            </a:r>
            <a:r>
              <a:rPr b="1" lang="zh-HK" sz="2100" spc="-1" strike="noStrike">
                <a:solidFill>
                  <a:srgbClr val="000000"/>
                </a:solidFill>
                <a:latin typeface="CG Omega"/>
                <a:ea typeface="PMingLiU"/>
              </a:rPr>
              <a:t>以下哪種情況最適合形容您目前的情況？</a:t>
            </a:r>
            <a:endParaRPr b="0" lang="en-US" sz="21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2" name=""/>
          <p:cNvSpPr/>
          <p:nvPr/>
        </p:nvSpPr>
        <p:spPr>
          <a:xfrm>
            <a:off x="7432560" y="714996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4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64706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不笑</a:t>
            </a: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不皺眉時都有皺紋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4" name=""/>
          <p:cNvSpPr/>
          <p:nvPr/>
        </p:nvSpPr>
        <p:spPr>
          <a:xfrm>
            <a:off x="4125960" y="6470640"/>
            <a:ext cx="19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放鬆時無皺紋，但做某些表情，如大笑或皺眉就有皺紋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456240" y="6459480"/>
            <a:ext cx="13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大笑</a:t>
            </a: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皺眉亦無皺紋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56" name=""/>
          <p:cNvSpPr/>
          <p:nvPr/>
        </p:nvSpPr>
        <p:spPr>
          <a:xfrm>
            <a:off x="8569440" y="6462720"/>
            <a:ext cx="108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不知道</a:t>
            </a: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0" lang="en-GB" sz="1600" spc="-1" strike="noStrike">
                <a:solidFill>
                  <a:srgbClr val="000000"/>
                </a:solidFill>
                <a:latin typeface="CG Omega"/>
                <a:ea typeface="PMingLiU"/>
              </a:rPr>
              <a:t>很難說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36-40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歲為</a:t>
            </a: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受訪女性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出現皺紋的關口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73160" y="1957320"/>
          <a:ext cx="921528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957320"/>
                    <a:ext cx="921528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398680" y="1263600"/>
            <a:ext cx="618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問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請問您大約何時開始出現皺紋？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61" name=""/>
          <p:cNvSpPr/>
          <p:nvPr/>
        </p:nvSpPr>
        <p:spPr>
          <a:xfrm>
            <a:off x="5599080" y="724068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356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(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表示</a:t>
            </a:r>
            <a:r>
              <a:rPr b="0" lang="zh-HK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皺紋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樣本資料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96920" y="1612800"/>
          <a:ext cx="9215640" cy="5284800"/>
        </p:xfrm>
        <a:graphic>
          <a:graphicData uri="http://schemas.openxmlformats.org/drawingml/2006/table">
            <a:tbl>
              <a:tblPr/>
              <a:tblGrid>
                <a:gridCol w="2606760"/>
                <a:gridCol w="6608880"/>
              </a:tblGrid>
              <a:tr h="8589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目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了解有關香港女性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衰老及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皺紋的態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107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對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年齡介乎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35-60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歲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、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於過去三個月曾使用護膚品或做過皮膚護理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、非從事廣告或市場調查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之香港女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92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00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年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8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至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8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機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香港大學民意研究計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23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由訪問員直接進行電話隨機抽樣訪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97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成功訪問人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34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236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成功回應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8.1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（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PMingLiU"/>
                          <a:ea typeface="PMingLiU"/>
                        </a:rPr>
                        <a:t>以符合資格的目標對象計算）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9120"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抽樣誤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7640" rIns="107640" tIns="53640" bIns="5364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少於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vantGarde Book"/>
                      </a:endParaRPr>
                    </a:p>
                  </a:txBody>
                  <a:tcPr anchor="t" marL="107640" marR="10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267840"/>
            <a:ext cx="10572840" cy="1344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魚尾紋、火車軌和眉心皺紋是最常見的皺紋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11240" y="2214720"/>
          <a:ext cx="8951760" cy="47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2214720"/>
                    <a:ext cx="8951760" cy="47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151000" y="1612800"/>
            <a:ext cx="6181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問</a:t>
            </a: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: </a:t>
            </a:r>
            <a:r>
              <a:rPr b="1" lang="zh-HK" sz="2400" spc="-1" strike="noStrike">
                <a:solidFill>
                  <a:srgbClr val="000000"/>
                </a:solidFill>
                <a:latin typeface="CG Omega"/>
                <a:ea typeface="PMingLiU"/>
              </a:rPr>
              <a:t>您現在面上有沒有以下皺紋？</a:t>
            </a:r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66" name=""/>
          <p:cNvSpPr/>
          <p:nvPr/>
        </p:nvSpPr>
        <p:spPr>
          <a:xfrm>
            <a:off x="5473800" y="7153200"/>
            <a:ext cx="43988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356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(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表示</a:t>
            </a:r>
            <a:r>
              <a:rPr b="0" lang="zh-HK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皺紋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超過七成</a:t>
            </a: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受訪者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認為何守信有</a:t>
            </a:r>
            <a:br>
              <a:rPr sz="3800"/>
            </a:b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最令人印象深刻的皺紋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73160" y="2413080"/>
          <a:ext cx="92152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2413080"/>
                    <a:ext cx="92152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04840" y="1704960"/>
            <a:ext cx="93376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問：提起皺紋，您認為香港哪位男藝人或男性公眾人物有最明顯的皺紋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火車軌？</a:t>
            </a:r>
            <a:endParaRPr b="0" lang="en-US" sz="20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71" name=""/>
          <p:cNvSpPr/>
          <p:nvPr/>
        </p:nvSpPr>
        <p:spPr>
          <a:xfrm>
            <a:off x="7473960" y="709596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4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72" name=""/>
          <p:cNvSpPr/>
          <p:nvPr/>
        </p:nvSpPr>
        <p:spPr>
          <a:xfrm>
            <a:off x="4556160" y="291924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73" name=""/>
          <p:cNvSpPr/>
          <p:nvPr/>
        </p:nvSpPr>
        <p:spPr>
          <a:xfrm>
            <a:off x="4556160" y="3300480"/>
            <a:ext cx="22860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74" name=""/>
          <p:cNvSpPr/>
          <p:nvPr/>
        </p:nvSpPr>
        <p:spPr>
          <a:xfrm>
            <a:off x="4770360" y="2798640"/>
            <a:ext cx="48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在有提示的情況下回答“何守信”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75" name=""/>
          <p:cNvSpPr/>
          <p:nvPr/>
        </p:nvSpPr>
        <p:spPr>
          <a:xfrm>
            <a:off x="4754520" y="3179880"/>
            <a:ext cx="48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在沒有提示的情況下回答“何守信”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76" name=""/>
          <p:cNvSpPr/>
          <p:nvPr/>
        </p:nvSpPr>
        <p:spPr>
          <a:xfrm>
            <a:off x="2476440" y="2494080"/>
            <a:ext cx="96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G Omega"/>
                <a:ea typeface="PMingLiU"/>
              </a:rPr>
              <a:t>73%</a:t>
            </a:r>
            <a:endParaRPr b="0" lang="en-US" sz="2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2680" y="0"/>
            <a:ext cx="9928080" cy="12384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三成多</a:t>
            </a: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受訪者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認為擁有何守信的皺紋</a:t>
            </a:r>
            <a:br>
              <a:rPr sz="3800"/>
            </a:b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會令她們年老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10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年以上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096920" y="2436840"/>
          <a:ext cx="887256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436840"/>
                    <a:ext cx="887256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515960" y="1727280"/>
            <a:ext cx="8428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問：如果您面上出現那位男士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何守信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的皺紋，您覺得自己會老幾多年？</a:t>
            </a:r>
            <a:endParaRPr b="0" lang="en-US" sz="20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1" name=""/>
          <p:cNvSpPr/>
          <p:nvPr/>
        </p:nvSpPr>
        <p:spPr>
          <a:xfrm>
            <a:off x="3975120" y="7132680"/>
            <a:ext cx="58863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385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(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認為何守信有最明顯的皺紋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火車軌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)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6395040" y="3059280"/>
            <a:ext cx="206280" cy="2757600"/>
          </a:xfrm>
          <a:custGeom>
            <a:avLst/>
            <a:gdLst>
              <a:gd name="textAreaLeft" fmla="*/ 0 w 206280"/>
              <a:gd name="textAreaRight" fmla="*/ 144720 w 206280"/>
              <a:gd name="textAreaTop" fmla="*/ 0 h 2757600"/>
              <a:gd name="textAreaBottom" fmla="*/ 2757960 h 27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488280" y="3922560"/>
            <a:ext cx="2880" cy="3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4" name=""/>
          <p:cNvSpPr/>
          <p:nvPr/>
        </p:nvSpPr>
        <p:spPr>
          <a:xfrm>
            <a:off x="6121440" y="3583080"/>
            <a:ext cx="20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PMingLiU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66760"/>
            <a:ext cx="10752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G Omega"/>
                <a:ea typeface="PMingLiU"/>
              </a:rPr>
              <a:t>三成</a:t>
            </a:r>
            <a:r>
              <a:rPr b="1" lang="zh-TW" sz="4000" spc="-1" strike="noStrike">
                <a:solidFill>
                  <a:srgbClr val="990099"/>
                </a:solidFill>
                <a:latin typeface="CG Omega"/>
                <a:ea typeface="PMingLiU"/>
              </a:rPr>
              <a:t>受訪者曾用方法減少</a:t>
            </a:r>
            <a:r>
              <a:rPr b="1" lang="zh-TW" sz="4000" spc="-1" strike="noStrike">
                <a:solidFill>
                  <a:srgbClr val="990099"/>
                </a:solidFill>
                <a:latin typeface="CG Omega"/>
                <a:ea typeface="PMingLiU"/>
              </a:rPr>
              <a:t>/</a:t>
            </a:r>
            <a:r>
              <a:rPr b="1" lang="zh-TW" sz="4000" spc="-1" strike="noStrike">
                <a:solidFill>
                  <a:srgbClr val="990099"/>
                </a:solidFill>
                <a:latin typeface="CG Omega"/>
                <a:ea typeface="PMingLiU"/>
              </a:rPr>
              <a:t>減淡自己的皺紋</a:t>
            </a:r>
            <a:endParaRPr b="0" lang="en-US" sz="40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86" name=""/>
          <p:cNvSpPr/>
          <p:nvPr/>
        </p:nvSpPr>
        <p:spPr>
          <a:xfrm>
            <a:off x="898560" y="1679400"/>
            <a:ext cx="9201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問</a:t>
            </a: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: </a:t>
            </a: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曾否用過任何方法令自己既皺紋減少</a:t>
            </a: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減淡？</a:t>
            </a:r>
            <a:endParaRPr b="0" lang="en-US" sz="2000" spc="-1" strike="noStrike">
              <a:solidFill>
                <a:srgbClr val="000000"/>
              </a:solidFill>
              <a:latin typeface="AvantGarde Book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52520" y="2365200"/>
          <a:ext cx="7773840" cy="43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365200"/>
                    <a:ext cx="777384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997600" y="7128000"/>
            <a:ext cx="29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4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7400" y="0"/>
            <a:ext cx="930924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3800" spc="-1" strike="noStrike">
                <a:solidFill>
                  <a:srgbClr val="800080"/>
                </a:solidFill>
                <a:latin typeface="CG Omega"/>
                <a:ea typeface="PMingLiU"/>
              </a:rPr>
              <a:t>受訪女性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認為膠原蛋白能最有效減少</a:t>
            </a: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/</a:t>
            </a:r>
            <a:br>
              <a:rPr sz="3800"/>
            </a:br>
            <a:r>
              <a:rPr b="1" lang="en-US" sz="3800" spc="-1" strike="noStrike">
                <a:solidFill>
                  <a:srgbClr val="800080"/>
                </a:solidFill>
                <a:latin typeface="CG Omega"/>
              </a:rPr>
              <a:t>減淡皺紋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96920" y="1933560"/>
          <a:ext cx="9215640" cy="52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933560"/>
                    <a:ext cx="921564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403280" y="1515960"/>
            <a:ext cx="8780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HK" sz="2000" spc="-1" strike="noStrike">
                <a:solidFill>
                  <a:srgbClr val="000000"/>
                </a:solidFill>
                <a:latin typeface="CG Omega"/>
                <a:ea typeface="PMingLiU"/>
              </a:rPr>
              <a:t>問</a:t>
            </a:r>
            <a:r>
              <a:rPr b="1" lang="zh-HK" sz="2000" spc="-1" strike="noStrike">
                <a:solidFill>
                  <a:srgbClr val="000000"/>
                </a:solidFill>
                <a:latin typeface="CG Omega"/>
                <a:ea typeface="PMingLiU"/>
              </a:rPr>
              <a:t>: </a:t>
            </a:r>
            <a:r>
              <a:rPr b="1" lang="zh-HK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覺得以下哪些方法可以有效減少</a:t>
            </a:r>
            <a:r>
              <a:rPr b="1" lang="zh-HK" sz="2000" spc="-1" strike="noStrike">
                <a:solidFill>
                  <a:srgbClr val="000000"/>
                </a:solidFill>
                <a:latin typeface="CG Omega"/>
                <a:ea typeface="PMingLiU"/>
              </a:rPr>
              <a:t>/</a:t>
            </a:r>
            <a:r>
              <a:rPr b="1" lang="zh-HK" sz="2000" spc="-1" strike="noStrike">
                <a:solidFill>
                  <a:srgbClr val="000000"/>
                </a:solidFill>
                <a:latin typeface="CG Omega"/>
                <a:ea typeface="PMingLiU"/>
              </a:rPr>
              <a:t>減淡皺紋？</a:t>
            </a:r>
            <a:endParaRPr b="0" lang="en-US" sz="20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194" name=""/>
          <p:cNvSpPr/>
          <p:nvPr/>
        </p:nvSpPr>
        <p:spPr>
          <a:xfrm>
            <a:off x="2044800" y="7292880"/>
            <a:ext cx="7705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400" spc="-1" strike="noStrike">
                <a:solidFill>
                  <a:srgbClr val="ffffff"/>
                </a:solidFill>
                <a:latin typeface="CG Omega"/>
                <a:ea typeface="PMingLiU"/>
              </a:rPr>
              <a:t>160</a:t>
            </a:r>
            <a:r>
              <a:rPr b="0" lang="zh-TW" sz="1400" spc="-1" strike="noStrike">
                <a:solidFill>
                  <a:srgbClr val="ffffff"/>
                </a:solidFill>
                <a:latin typeface="CG Omega"/>
                <a:ea typeface="PMingLiU"/>
              </a:rPr>
              <a:t>個 </a:t>
            </a:r>
            <a:r>
              <a:rPr b="0" lang="zh-TW" sz="1400" spc="-1" strike="noStrike">
                <a:solidFill>
                  <a:srgbClr val="ffffff"/>
                </a:solidFill>
                <a:latin typeface="CG Omega"/>
                <a:ea typeface="PMingLiU"/>
              </a:rPr>
              <a:t>(</a:t>
            </a:r>
            <a:r>
              <a:rPr b="0" lang="zh-TW" sz="1400" spc="-1" strike="noStrike">
                <a:solidFill>
                  <a:srgbClr val="ffffff"/>
                </a:solidFill>
                <a:latin typeface="CG Omega"/>
                <a:ea typeface="PMingLiU"/>
              </a:rPr>
              <a:t>表示曾用過任何方法令自己的皺紋減少</a:t>
            </a:r>
            <a:r>
              <a:rPr b="0" lang="zh-TW" sz="1400" spc="-1" strike="noStrike">
                <a:solidFill>
                  <a:srgbClr val="ffffff"/>
                </a:solidFill>
                <a:latin typeface="CG Omega"/>
                <a:ea typeface="PMingLiU"/>
              </a:rPr>
              <a:t>/</a:t>
            </a:r>
            <a:r>
              <a:rPr b="0" lang="zh-TW" sz="1400" spc="-1" strike="noStrike">
                <a:solidFill>
                  <a:srgbClr val="ffffff"/>
                </a:solidFill>
                <a:latin typeface="CG Omega"/>
                <a:ea typeface="PMingLiU"/>
              </a:rPr>
              <a:t>減淡</a:t>
            </a:r>
            <a:r>
              <a:rPr b="0" lang="zh-TW" sz="1400" spc="-1" strike="noStrike">
                <a:solidFill>
                  <a:srgbClr val="ffffff"/>
                </a:solidFill>
                <a:latin typeface="CG Omega"/>
                <a:ea typeface="PMingLiU"/>
              </a:rPr>
              <a:t>) </a:t>
            </a:r>
            <a:r>
              <a:rPr b="0" lang="zh-TW" sz="1400" spc="-1" strike="noStrike">
                <a:solidFill>
                  <a:srgbClr val="ffffff"/>
                </a:solidFill>
                <a:latin typeface="CG Omega"/>
                <a:ea typeface="PMingLiU"/>
              </a:rPr>
              <a:t>；可回答多項   </a:t>
            </a:r>
            <a:endParaRPr b="0" lang="en-US" sz="14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G Omega"/>
                <a:ea typeface="PMingLiU"/>
              </a:rPr>
              <a:t>結論</a:t>
            </a:r>
            <a:endParaRPr b="1" lang="en-US" sz="46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3240" y="2066760"/>
            <a:ext cx="9215640" cy="5259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PMingLiU"/>
                <a:ea typeface="PMingLiU"/>
              </a:rPr>
              <a:t>是次調查發現</a:t>
            </a:r>
            <a:r>
              <a:rPr b="1" lang="zh-TW" sz="2800" spc="-1" strike="noStrike">
                <a:solidFill>
                  <a:srgbClr val="000000"/>
                </a:solidFill>
                <a:latin typeface="CG Omega"/>
                <a:ea typeface="PMingLiU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  <a:ea typeface="PMingLiU"/>
              </a:rPr>
              <a:t>不少</a:t>
            </a:r>
            <a:r>
              <a:rPr b="1" lang="zh-TW" sz="2800" spc="-1" strike="noStrike">
                <a:solidFill>
                  <a:srgbClr val="000000"/>
                </a:solidFill>
                <a:latin typeface="CG Omega"/>
                <a:ea typeface="PMingLiU"/>
              </a:rPr>
              <a:t>受訪女士認為年輕的外貌不但是一種自我認同，更有助提升工作及愛情的競爭力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PMingLiU"/>
                <a:ea typeface="PMingLiU"/>
              </a:rPr>
              <a:t>數據亦顯示</a:t>
            </a:r>
            <a:r>
              <a:rPr b="1" lang="zh-TW" sz="2800" spc="-1" strike="noStrike">
                <a:solidFill>
                  <a:srgbClr val="000000"/>
                </a:solidFill>
                <a:latin typeface="CG Omega"/>
                <a:ea typeface="PMingLiU"/>
              </a:rPr>
              <a:t>，大部分受訪女士都有皺紋，更</a:t>
            </a:r>
            <a:r>
              <a:rPr b="1" lang="zh-TW" sz="2800" spc="-1" strike="noStrike">
                <a:solidFill>
                  <a:srgbClr val="000000"/>
                </a:solidFill>
                <a:latin typeface="PMingLiU"/>
                <a:ea typeface="PMingLiU"/>
              </a:rPr>
              <a:t>普遍認同</a:t>
            </a:r>
            <a:r>
              <a:rPr b="1" lang="zh-TW" sz="2800" spc="-1" strike="noStrike">
                <a:solidFill>
                  <a:srgbClr val="000000"/>
                </a:solidFill>
                <a:latin typeface="CG Omega"/>
                <a:ea typeface="PMingLiU"/>
              </a:rPr>
              <a:t>皺紋令其樣貌明顯變老，並對年輕外貌有所渴求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G Omega"/>
                <a:ea typeface="PMingLiU"/>
              </a:rPr>
              <a:t>因此，市場上經常有不同形式的治療方法應運而生，然而調查發現受訪女士對各種抗皺治療的認識偏低，有關方面可能需要提供更多資訊，讓她們了解各項治療的利弊，並在有需要時能作出合適的選擇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8160" y="76500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G Omega"/>
                <a:ea typeface="PMingLiU"/>
              </a:rPr>
              <a:t>被訪者個人資料</a:t>
            </a:r>
            <a:endParaRPr b="1" lang="en-US" sz="4600" spc="-1" strike="noStrike">
              <a:solidFill>
                <a:srgbClr val="ffffff"/>
              </a:solidFill>
              <a:latin typeface="CG Omeg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560" y="447480"/>
            <a:ext cx="10125000" cy="1344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年齡組別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2035080"/>
          <a:ext cx="860256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5080"/>
                    <a:ext cx="86025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800840" y="736596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4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447480"/>
            <a:ext cx="10125000" cy="1344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婚姻狀況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70000" y="1962000"/>
          <a:ext cx="860256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962000"/>
                    <a:ext cx="86025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608960" y="743904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27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職業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74600" y="2070000"/>
          <a:ext cx="8450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070000"/>
                    <a:ext cx="8450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13560" y="741528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0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560" y="447480"/>
            <a:ext cx="10125000" cy="1344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工作性質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74600" y="1792440"/>
          <a:ext cx="860292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1792440"/>
                    <a:ext cx="860292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342040" y="7047000"/>
            <a:ext cx="4251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197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(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表示做全職工作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)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  <p:sp>
        <p:nvSpPr>
          <p:cNvPr id="99" name=""/>
          <p:cNvSpPr/>
          <p:nvPr/>
        </p:nvSpPr>
        <p:spPr>
          <a:xfrm>
            <a:off x="3135240" y="6094440"/>
            <a:ext cx="15242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imSun"/>
                <a:ea typeface="SimSun"/>
              </a:rPr>
              <a:t>服務性行業</a:t>
            </a:r>
            <a:r>
              <a:rPr b="1" lang="en-US" sz="1800" spc="-1" strike="noStrike">
                <a:solidFill>
                  <a:srgbClr val="000000"/>
                </a:solidFill>
                <a:latin typeface="SimSun"/>
                <a:ea typeface="SimSu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imSun"/>
                <a:ea typeface="SimSun"/>
              </a:rPr>
              <a:t>銷售人員</a:t>
            </a:r>
            <a:endParaRPr b="0" lang="en-US" sz="18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8560" y="447480"/>
            <a:ext cx="10125000" cy="13446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個人每月收入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50760" y="1795320"/>
          <a:ext cx="874872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795320"/>
                    <a:ext cx="874872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462640" y="7005600"/>
            <a:ext cx="4221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187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(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表示做全職工作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9928080" cy="9856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CG Omega"/>
                <a:ea typeface="PMingLiU"/>
              </a:rPr>
              <a:t>教育程度</a:t>
            </a:r>
            <a:endParaRPr b="1" lang="en-US" sz="3800" spc="-1" strike="noStrike">
              <a:solidFill>
                <a:srgbClr val="800080"/>
              </a:solidFill>
              <a:latin typeface="CG Omeg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74600" y="1973160"/>
          <a:ext cx="8450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1973160"/>
                    <a:ext cx="8450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316640" y="7035840"/>
            <a:ext cx="20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有效樣本：</a:t>
            </a:r>
            <a:r>
              <a:rPr b="0" lang="en-US" sz="1600" spc="-1" strike="noStrike">
                <a:solidFill>
                  <a:srgbClr val="ffffff"/>
                </a:solidFill>
                <a:latin typeface="CG Omega"/>
                <a:ea typeface="PMingLiU"/>
              </a:rPr>
              <a:t>530</a:t>
            </a:r>
            <a:r>
              <a:rPr b="0" lang="zh-TW" sz="1600" spc="-1" strike="noStrike">
                <a:solidFill>
                  <a:srgbClr val="ffffff"/>
                </a:solidFill>
                <a:latin typeface="CG Omega"/>
                <a:ea typeface="PMingLiU"/>
              </a:rPr>
              <a:t>個   </a:t>
            </a:r>
            <a:endParaRPr b="0" lang="en-US" sz="1600" spc="-1" strike="noStrike">
              <a:solidFill>
                <a:srgbClr val="000000"/>
              </a:solidFill>
              <a:latin typeface="AvantGarde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1:04:41Z</dcterms:created>
  <dc:creator>Candy Wan</dc:creator>
  <dc:description/>
  <dc:language>en-US</dc:language>
  <cp:lastModifiedBy>HKUPOP</cp:lastModifiedBy>
  <dcterms:modified xsi:type="dcterms:W3CDTF">2003-09-11T04:31:08Z</dcterms:modified>
  <cp:revision>393</cp:revision>
  <dc:subject/>
  <dc:title>Botox Hong Kong Press Conference</dc:title>
</cp:coreProperties>
</file>