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04098-133C-4FE7-B03C-11C69756290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FCB-FB7D-4720-9970-B594E078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5F1-7BFF-42CD-9AC9-BBB4528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C56-20ED-41BF-A8DE-0C55A40D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B8C-AAA0-47FA-9428-3C24953F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F347-408C-41B6-9E85-77618F89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171A-FA56-4759-9BF1-B01918E8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ABF5-792A-47B0-A031-68B4D3F5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AFF2-5C83-469B-BBA4-E333FA8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140-AD47-46C3-B87D-F509E12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B0EE-BD2A-4AE3-9865-3592FD1D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F781-B67A-405C-9BE6-121316C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F22-E81B-4B64-81CF-1096C140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F72-741F-42F0-B7A7-761DD6B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F5C-A4F0-487C-A0A6-7C60DFC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F7A0-1EE7-4060-A68E-3C42E8A9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D5CF-D053-4999-8300-B5A77058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4BC5-9C73-4566-84E1-0C286589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0CC-9AD5-446E-9CA3-78F76C0D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677-3706-4DCA-82AF-16FC1D2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B95-B7AE-4B9E-99C2-A52A1EF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F69-EC3C-4565-996E-D453BB4F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184-E6C3-42DB-8182-DE01145E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9D1-A4ED-4A6A-B548-5CF74FB3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9FD-7503-47CF-8D76-0F6A32D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42D-0E7B-48DA-B384-27A2756BD837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26D-7A21-4525-9AAD-F034BB7E18A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e Shiu and the Two Cities Projects 200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及雙城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2</a:t>
            </a:r>
            <a:br>
              <a:rPr sz="28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JECT  MANAGEMENT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如何策劃研究計劃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/6/2002, 1830-2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2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2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1: Introduction to the basic concepts of social research and projec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: Small group discussions on three sample study top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3: Short presentation by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4: A sample presentation session by the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do, J. (1985). An Introduction to Project Planning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d. New York: Industrial Pr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wis, J.P. (1995). Project Planning, Scheduling &amp; Control, revised ed. New York: McGraw-Hi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urvey questions for the class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. Would you prefer to be kept abreast of the scores, or would you prefer not to know anything about i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the end of the first 90 minutes, what do you guess would be the result of the scor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&gt; BG+3;  BZ = BG+3; BZ = BG+2; BZ = BG+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= BG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G &gt; BZ+3;  BG = BZ+3; BG = BZ+2; BG = BZ+1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re any academic/intellectual value in this stu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class survey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% preferred to be kept abreast of the scores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7% preferred not to know anything about i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7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ss of results at the end of the first 90 minutes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&gt; BG+3 (2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3 (9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2 (68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1 (15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 (3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G &gt; BZ (3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6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ur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live with some hospital patients for two days, what do you like to obser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development of bio-technology industries in Hong Kong, how would you conduct your library resear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4:19Z</dcterms:modified>
  <cp:revision>83</cp:revision>
  <dc:subject/>
  <dc:title>Project Overview</dc:title>
</cp:coreProperties>
</file>