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F7A7AE-3AA7-4554-AB73-36660678B0B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EB8A-3DC8-4088-B16D-9C630CED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A86-B8E0-4919-B82D-522E2CC6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D6A9-3445-4A7B-A58A-670A5322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E075-BBD8-4603-8FC5-34D9B31E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38ED-FBF0-40E2-AEE3-F582BA8A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24E4-1EF2-4402-8715-5C2469F5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F308-1082-4173-A335-970497FD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4217-D39F-437B-9470-8764E9C5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C085-0684-44EE-A466-3353388C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AFF3-45E4-4286-8057-FCF12206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F000-957A-4555-B036-0F79EFCA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16B-56EB-40CA-AC04-B0828AD5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A919-5B61-41FB-AE65-D20BDB5C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799D-A983-437C-811D-A43D078B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E326-518C-4C93-849F-A5ABBCD5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D796-5866-403D-9111-990CACDA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6689-9929-4130-A210-68B9DB99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C6E-CBE1-4D30-8C68-ADF58005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D16-9036-4502-82E3-C248E8D4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16FA-F62F-4997-8E42-D7E6C0B6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9BF-EBBF-48F2-B16B-30B8968C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3AC2-1A53-4B54-9A6C-2A4106CB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1F0-0B88-4EAD-848B-8F6D7AA5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58C-9DE0-48E2-B522-4060D018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5D5D-4147-4615-93D4-C52B029D14C5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23F3-3B50-45B5-A13D-5C09556CB089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e Shiu and the Two Cities Projects 200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李韶社會經濟考察及雙城考察計劃</a:t>
            </a: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2002</a:t>
            </a:r>
            <a:br>
              <a:rPr sz="2800"/>
            </a:br>
            <a:br>
              <a:rPr sz="32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JECT  MANAGEMENT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如何策劃研究計劃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5720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/6/2002, 1830-2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methods of data collec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s: face-to-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surv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re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rary re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asics of Project Managemen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ing down objectives and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 network dia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ng activity du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: analyze, re-plan, and up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consid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gency pl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 sample project sch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edu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 26: Ori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1: Learning basic concepts; designing a surv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ch 13-19: Taiwan trip (optio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2: Fieldwork and confronting practical probl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3: Data analysis and report compi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3: Final revi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91080" y="2286000"/>
            <a:ext cx="7085520" cy="1573200"/>
            <a:chOff x="991080" y="2286000"/>
            <a:chExt cx="7085520" cy="1573200"/>
          </a:xfrm>
        </p:grpSpPr>
        <p:grpSp>
          <p:nvGrpSpPr>
            <p:cNvPr id="121" name=""/>
            <p:cNvGrpSpPr/>
            <p:nvPr/>
          </p:nvGrpSpPr>
          <p:grpSpPr>
            <a:xfrm>
              <a:off x="991080" y="3196440"/>
              <a:ext cx="7085520" cy="662760"/>
              <a:chOff x="991080" y="3196440"/>
              <a:chExt cx="7085520" cy="662760"/>
            </a:xfrm>
          </p:grpSpPr>
          <p:sp>
            <p:nvSpPr>
              <p:cNvPr id="122" name=""/>
              <p:cNvSpPr/>
              <p:nvPr/>
            </p:nvSpPr>
            <p:spPr>
              <a:xfrm>
                <a:off x="1073520" y="319644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910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567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8016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83212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45744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4612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35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866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994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6006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64080" y="35521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1157040" y="2286000"/>
              <a:ext cx="2667600" cy="15192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25000" y="2589480"/>
              <a:ext cx="20844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09400" y="2893320"/>
              <a:ext cx="18342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utline of This Sess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1: Introduction to the basic concepts of social research and project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2: Small group discussions on three sample study top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3: Short presentation by particip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4: A sample presentation session by the spea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Zimmerman, D.E. and Muraski, M.L. (1995). The Elements of Information Gathering. Arizona: Oryx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ido, J. (1985). An Introduction to Project Planning, 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ed. New York: Industrial Pres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ewis, J.P. (1995). Project Planning, Scheduling &amp; Control, revised ed. New York: McGraw-Hil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Babbie, E.R. (1990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Survey Research Methods,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d. California: Wadswor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wo survey questions for the class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zil is playing against Belgium in the World Cup tonight. Would you prefer to be kept abreast of the scores, or would you prefer not to know anything about i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the end of the first 90 minutes, what do you guess would be the result of the scor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Z &gt; BG+3;  BZ = BG+3; BZ = BG+2; BZ = BG+1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Z = BG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G &gt; BZ+3;  BG = BZ+3; BG = BZ+2; BG = BZ+1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re any academic/intellectual value in this stu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sult of class survey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zil is playing against Belgium in the World Cup tonight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3% preferred to be kept abreast of the scores,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7% preferred not to know anything about i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e = 7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ess of results at the end of the first 90 minutes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&gt; BG+3 (2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+3 (9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+2 (68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+1 (15%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 (3%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G &gt; BZ (3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e = 64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ur Topics for Class Discu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visit a public relations consultant company for day, what would you like to find ou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live with some hospital patients for two days, what do you like to observ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study the development of bio-technology industries in Hong Kong, how would you conduct your library research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ould like to find out the views of tourists visiting Hong Kong, how would you conduct your stud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(if applicab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sche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fin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stionnaire (if applicab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ocu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esearch problem? How wide? How dee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esired method of data collec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ust it be finish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hould the finding be presen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cademic/intellectual value of the study? What further questions have been genera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6-17T04:44:19Z</dcterms:modified>
  <cp:revision>83</cp:revision>
  <dc:subject/>
  <dc:title>Project Overview</dc:title>
</cp:coreProperties>
</file>