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185-41D5-4656-858C-3F0CD2AA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E33-63A2-42AE-AC24-B4D6A9E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652-8A57-4485-A2CD-DA5B001D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983-0596-41DF-82A7-4B77B15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BC5-A402-4C84-ABEC-9986B4F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0BB-09F4-4068-A787-044DD1D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892-0E32-4B34-AE93-E8400C40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66-256F-41C5-89CA-CF5E7AA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B5F-0C03-4127-BDE4-56082531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706-A2A8-4EC6-A810-67198B2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E4F-F95B-435E-A763-3735544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EBC-15CA-4A33-82D8-DD8FB6D9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AC9C-6E23-4470-B766-BBFEF89CB60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1 – 10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一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定義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別意見的收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不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對熱門話題或最新政策的反應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屬短期意見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的形成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政府新聞處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宣傳短片…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細明體"/>
                <a:ea typeface="細明體"/>
              </a:rPr>
              <a:t>資訊科技及廣播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意見領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學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有目的地向特定傳媒或政治團體發放消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進行“民意調查”的主要單位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非公營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媒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於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19 - 25/8/200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一星期內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本地報章刊載調查結果共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7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81080"/>
            <a:ext cx="7620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作為政治體系的輸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白紙草案或綠紙草案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對政策草議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設定議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尤其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參與選舉過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會內的間接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全民投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二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” 的流程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確認研究目的及探討範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抽樣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問卷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工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分析及清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報告整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結果發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民意研究計劃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POP)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運作示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電話訪問錄音樣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輸入示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品質保證系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收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日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三節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分組討論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請選定下列其中一個題目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設計一個問卷調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高官問責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基本法第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賭波規範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合法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其他自訂題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~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請每組於討論後派代表作出簡報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程序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0574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0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30       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0:4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1:40 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4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5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6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總結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目的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探究性質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初步計劃而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政策收集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哪方面的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宣傳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宣傳方向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範圍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全面性調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個別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目標對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原因何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設計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何選擇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焦點小組討論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論述型民調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資源限制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時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經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與媒體及社會大眾的聯繫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進行研究的目的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結果重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的公信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是否獨立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媒體的初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民意領袖的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社會大眾的進一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四節 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1337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反映“民意” 的主要單位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台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清談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視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鏗鏘集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專欄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社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讀者來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調查部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媒體報告” 的特點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議題設定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傾向集中報導負面消息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煽情手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譁眾取寵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大量運用圖象以添視覺效果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由</a:t>
            </a:r>
            <a:r>
              <a:rPr b="1" lang="zh-TW" sz="2500" spc="-1" strike="noStrike">
                <a:solidFill>
                  <a:srgbClr val="ccecff"/>
                </a:solidFill>
                <a:latin typeface="Times New Roman"/>
              </a:rPr>
              <a:t>媒體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己進行的調查獲較大篇幅報導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MRSHK Project”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初步結果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基本資料報導” 的原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日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19 - 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完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民意專業守則初擬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網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國際展望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同時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緊記三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科學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公正持平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真實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全面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充滿學問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09680"/>
            <a:ext cx="449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合乎道德標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專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“honesty is the best policy”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主動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</a:rPr>
              <a:t>獨特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752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工作坊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財政司司長梁錦松提醒本港公務員‚ 要建立一個符合成本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益的政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先要學會三 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”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的原則…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.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我們必須重新考慮資源分配的優先次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priorit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保投放資源的服務為社會上普羅大眾要求及所需。另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府內部架構亦應重組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organ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盡量善用私營機構去配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策和運作上的要求。除此之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更要重新設計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engineer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公營機構的架構和運作模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避免在工序上出現重覆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務求能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恰當的技術去取得最大的成效</a:t>
            </a:r>
            <a:r>
              <a:rPr b="1" lang="zh-TW" sz="2200" spc="-1" strike="noStrike">
                <a:solidFill>
                  <a:srgbClr val="ccffff"/>
                </a:solidFill>
                <a:latin typeface="新細明體"/>
                <a:ea typeface="新細明體"/>
              </a:rPr>
              <a:t>。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”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1:58Z</dcterms:modified>
  <cp:revision>623</cp:revision>
  <dc:subject/>
  <dc:title>無投影片標題</dc:title>
</cp:coreProperties>
</file>