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CB6-3FDD-44F1-BF88-9BC348DA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06E-0B35-47C3-AB99-70CAFE5D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F45-80FF-44E6-A140-E78949FF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B5B-A43C-420C-841B-D8E6F9F6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E5A-9BEA-475F-9566-B671F5BD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190-B518-4642-B960-E26769FE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9D2-9CA4-4796-9DDF-1D42C50D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28E-9780-40ED-97B8-71948FB2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881-FEE1-4373-8476-B2086F05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8647-9D64-4259-917C-09EF06B7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B03-D6C5-4DA6-8E71-B0F09A1D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99E-76EB-499C-A193-9E47EB6D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1D83-60A6-4BB8-A993-8C1B64535FC6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666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民意研究工作坊</a:t>
            </a:r>
            <a:r>
              <a:rPr b="1" lang="zh-TW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62120" y="472428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新細明體"/>
              </a:rPr>
              <a:t>主講 </a:t>
            </a:r>
            <a:r>
              <a:rPr b="1" lang="zh-TW" sz="2400" spc="-1" strike="noStrike">
                <a:solidFill>
                  <a:srgbClr val="ffffcc"/>
                </a:solidFill>
                <a:latin typeface="新細明體"/>
              </a:rPr>
              <a:t>: </a:t>
            </a:r>
            <a:r>
              <a:rPr b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11 – 10 -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一節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362320"/>
            <a:ext cx="67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” 的定義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個別意見的收集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與政治態度不同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對熱門話題或最新政策的反應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屬短期意見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會隨著時間轉變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”的形成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政府新聞處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區議會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宣傳短片…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</a:t>
            </a:r>
            <a:r>
              <a:rPr b="1" lang="zh-TW" sz="2400" spc="-1" strike="noStrike">
                <a:solidFill>
                  <a:srgbClr val="ccffff"/>
                </a:solidFill>
                <a:latin typeface="細明體"/>
                <a:ea typeface="細明體"/>
              </a:rPr>
              <a:t>資訊科技及廣播局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諮詢委員會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意見領袖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商界大亨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及學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有目的地向特定傳媒或政治團體發放消息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進行“民意調查”的主要單位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商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市場調查機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學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民政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事務局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中央政策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治及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非公營機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傳媒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於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19 - 25/8/2002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一星期內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本地報章刊載調查結果共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72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份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1981080"/>
            <a:ext cx="7620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作為政治體系的輸入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白紙草案或綠紙草案等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對政策草議作出回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設定議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尤其透過電台節目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讀者來信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遊行示威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參與選舉過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局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/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會內的間接代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全民投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二節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三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實際運作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調查” 的流程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確認研究目的及探討範疇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抽樣設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問卷設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調查工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數據分析及清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報告整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結果發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三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實際運作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8600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民意研究計劃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POP)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運作示範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CATI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及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電話訪問錄音樣本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WEBCATI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輸入示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品質保證系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數據收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網上日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第三節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905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分組討論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請選定下列其中一個題目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設計一個問卷調查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高官問責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基本法第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23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賭波規範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/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合法化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其他自訂題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~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請每組於討論後派代表作出簡報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程序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05740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09:00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09:30       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研究的理論基礎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0:40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研究的實際運作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1:40 </a:t>
            </a:r>
            <a:r>
              <a:rPr b="1" lang="zh-TW" sz="2500" spc="-1" strike="noStrike">
                <a:solidFill>
                  <a:srgbClr val="ccffff"/>
                </a:solidFill>
                <a:latin typeface="新細明體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研究設計實習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4:00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5:00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研究的展望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6:00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總結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調查設計階段容易犯上的錯誤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調查目的 –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探究性質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初步計劃而進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政策收集意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哪方面的意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宣傳政策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宣傳方向是甚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研究範圍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全面性調查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個別政策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目標對象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原因何在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調查設計階段容易犯上的錯誤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調查設計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何選擇電話訪問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焦點小組討論可行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論述型民調可行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資源限制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時限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經費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1905120"/>
            <a:ext cx="7010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調查設計階段容易犯上的錯誤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與媒體及社會大眾的聯繫 –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進行研究的目的是甚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調查結果重點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調查的公信力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是否獨立進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與媒體的初步聯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與民意領袖的聯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與社會大眾的進一步聯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第四節 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1337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反映“民意” 的主要單位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電台節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清談節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電視節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鏗鏘集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專欄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社評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讀者來函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調查部告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205740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媒體報告” 的特點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議題設定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傾向集中報導負面消息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煽情手法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/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譁眾取寵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大量運用圖象以添視覺效果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由</a:t>
            </a:r>
            <a:r>
              <a:rPr b="1" lang="zh-TW" sz="2500" spc="-1" strike="noStrike">
                <a:solidFill>
                  <a:srgbClr val="ccecff"/>
                </a:solidFill>
                <a:latin typeface="Times New Roman"/>
              </a:rPr>
              <a:t>媒體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自己進行的調查獲較大篇幅報導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MRSHK Project” 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的初步結果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基本資料報導” 的原則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日期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19 - 25/8/2002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完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六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民意研究的展望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民意專業守則初擬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民意研究計劃網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國際展望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自由討論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六節 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二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同時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緊記三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I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762120"/>
            <a:ext cx="8077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科學化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公正持平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真實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全面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充滿學問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209680"/>
            <a:ext cx="4496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合乎道德標準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專業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“honesty is the best policy”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主動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ccffff"/>
                </a:solidFill>
                <a:uFillTx/>
                <a:latin typeface="Times New Roman"/>
              </a:rPr>
              <a:t>獨特性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17524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工作坊 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謝謝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ading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hmeti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v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inh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財政司司長梁錦松提醒本港公務員‚ 要建立一個符合成本效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益的政府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先要學會三 “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R”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的原則…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.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“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我們必須重新考慮資源分配的優先次序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(re-prioritize)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以確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保投放資源的服務為社會上普羅大眾要求及所需。另外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政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府內部架構亦應重組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(re-organize)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盡量善用私營機構去配合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政策和運作上的要求。除此之外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更要重新設計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(re-engineer)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公營機構的架構和運作模式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避免在工序上出現重覆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務求能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以恰當的技術去取得最大的成效</a:t>
            </a:r>
            <a:r>
              <a:rPr b="1" lang="zh-TW" sz="2200" spc="-1" strike="noStrike">
                <a:solidFill>
                  <a:srgbClr val="ccffff"/>
                </a:solidFill>
                <a:latin typeface="新細明體"/>
                <a:ea typeface="新細明體"/>
              </a:rPr>
              <a:t>。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”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以下為三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I”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 -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3526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以下為三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I”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 -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3526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1:58Z</dcterms:modified>
  <cp:revision>623</cp:revision>
  <dc:subject/>
  <dc:title>無投影片標題</dc:title>
</cp:coreProperties>
</file>