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622-2576-425F-8564-4A69DFC3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FA1-6E29-4EF2-845E-83BC2026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857-61FA-4BC3-A63B-405EA04A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087-0C81-432C-87BC-6DFA361D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A209-9F75-4C8B-81F8-813AAAE8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F4F-B913-4A9C-A9D2-6A774A2A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CAF-DB8F-4DFA-A6B6-1349B5CA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818-FDE5-44DB-BBBF-6C930805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7EFC-D5E0-45A9-A34D-2DCDFA80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C55-BFDC-4180-9985-143F0DB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541-8B94-4697-AB73-8D596F77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3D4-C658-43A6-832F-F4E34753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D3FD-E365-4717-81BE-9BB987B21C5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9 – 11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USA Congress mid-term elec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operation of pol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POP release of toda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top ten Legislative Councillo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Methodology and mis-interpre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81080"/>
            <a:ext cx="7620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The 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government bodies and officials: GIS, district offices, APIs, principal officials, CE Offi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advisory bodies and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opinion leaders, business tycoons, pressure groups and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ntentional leakage of information to specific media organizations or political parties – the “reliable sourc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 and pressure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tween 19/8 - 25/8/2002, 72 poll reports were carried by local newspapers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/c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cap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 </a:t>
            </a:r>
            <a:r>
              <a:rPr b="1" lang="zh-CN" sz="2800" spc="-1" strike="noStrike">
                <a:solidFill>
                  <a:srgbClr val="ccffff"/>
                </a:solidFill>
                <a:latin typeface="新細明體"/>
              </a:rPr>
              <a:t>－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astering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.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星期一檔案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ture Development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HKU POP Si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e international dimens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0:06Z</dcterms:modified>
  <cp:revision>523</cp:revision>
  <dc:subject/>
  <dc:title>無投影片標題</dc:title>
</cp:coreProperties>
</file>