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8E95-8CC6-4C16-A928-AA991C5A4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D190-007C-4E5A-A73B-D6BE26767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6502-315C-4000-A1E2-B0A91FE11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F94B-249A-4AA8-885E-313412AE7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80C1-36BB-4D42-8990-DCDEAEC47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6514-2522-4F25-9C09-39F9261DC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285A-48CC-4A14-87C9-709D44B21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9C1F-4050-4A91-B5A1-23073323D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E9E0-38B3-461A-9D8E-4C55822EA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00F0-2ADE-4EE6-A24F-C69D9BE7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75ED-5728-48F1-B32F-329B55AF0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D46E-C8EA-4B38-B6E3-9235C871C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6D96B-322A-44D7-8A20-EE996D099922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320004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3200" spc="-1" strike="noStrike">
                <a:solidFill>
                  <a:srgbClr val="ffffcc"/>
                </a:solidFill>
                <a:latin typeface="Times New Roman"/>
              </a:rPr>
              <a:t>M</a:t>
            </a:r>
            <a:r>
              <a:rPr b="1" i="1" lang="zh-TW" sz="2800" spc="-1" strike="noStrike">
                <a:solidFill>
                  <a:srgbClr val="ffffcc"/>
                </a:solidFill>
                <a:latin typeface="Times New Roman"/>
              </a:rPr>
              <a:t>edia Training and </a:t>
            </a:r>
            <a:r>
              <a:rPr b="1" i="1" lang="zh-TW" sz="2800" spc="-1" strike="noStrike">
                <a:solidFill>
                  <a:srgbClr val="ffff99"/>
                </a:solidFill>
                <a:latin typeface="Times New Roman"/>
              </a:rPr>
              <a:t>Public Opinion</a:t>
            </a:r>
            <a:r>
              <a:rPr b="1" i="1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zh-TW" sz="2800" spc="-1" strike="noStrike">
                <a:solidFill>
                  <a:srgbClr val="ffff99"/>
                </a:solidFill>
                <a:latin typeface="Times New Roman"/>
              </a:rPr>
              <a:t>Workshop:</a:t>
            </a:r>
            <a:br>
              <a:rPr sz="2800"/>
            </a:br>
            <a:r>
              <a:rPr b="1" i="1" lang="zh-TW" sz="2800" spc="-1" strike="noStrike">
                <a:solidFill>
                  <a:srgbClr val="ffff99"/>
                </a:solidFill>
                <a:latin typeface="Times New Roman"/>
              </a:rPr>
              <a:t>Session on Pubic Opinion</a:t>
            </a:r>
            <a:br>
              <a:rPr sz="2800"/>
            </a:br>
            <a:br>
              <a:rPr sz="1000"/>
            </a:br>
            <a:r>
              <a:rPr b="1" i="1" lang="zh-TW" sz="2800" spc="-1" strike="noStrike">
                <a:solidFill>
                  <a:srgbClr val="ffff99"/>
                </a:solidFill>
                <a:latin typeface="新細明體"/>
              </a:rPr>
              <a:t>傳媒訓練及民意研究工作坊</a:t>
            </a:r>
            <a:r>
              <a:rPr b="1" i="1" lang="zh-TW" sz="2800" spc="-1" strike="noStrike">
                <a:solidFill>
                  <a:srgbClr val="ffffcc"/>
                </a:solidFill>
                <a:latin typeface="Times New Roman"/>
              </a:rPr>
              <a:t> ：民意</a:t>
            </a:r>
            <a:r>
              <a:rPr b="1" i="1" lang="zh-TW" sz="2800" spc="-1" strike="noStrike">
                <a:solidFill>
                  <a:srgbClr val="ffff99"/>
                </a:solidFill>
                <a:latin typeface="新細明體"/>
              </a:rPr>
              <a:t>研究</a:t>
            </a:r>
            <a:r>
              <a:rPr b="1" i="1" lang="zh-TW" sz="2800" spc="-1" strike="noStrike">
                <a:solidFill>
                  <a:srgbClr val="ffffcc"/>
                </a:solidFill>
                <a:latin typeface="Times New Roman"/>
              </a:rPr>
              <a:t>部份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-1447920" y="54860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9880" y="1295280"/>
            <a:ext cx="46483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香港大學民意研究計劃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676520" y="1066680"/>
          <a:ext cx="175572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066680"/>
                    <a:ext cx="17557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914400" y="5181480"/>
            <a:ext cx="7848720" cy="8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400" spc="-1" strike="noStrike">
                <a:solidFill>
                  <a:srgbClr val="ffffcc"/>
                </a:solidFill>
                <a:latin typeface="Times New Roman"/>
              </a:rPr>
              <a:t>Dr Robert Chung </a:t>
            </a:r>
            <a:r>
              <a:rPr b="1" i="1" lang="zh-TW" sz="2400" spc="-1" strike="noStrike">
                <a:solidFill>
                  <a:srgbClr val="ffffcc"/>
                </a:solidFill>
                <a:latin typeface="新細明體"/>
              </a:rPr>
              <a:t>鍾庭耀博士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400" spc="-1" strike="noStrike">
                <a:solidFill>
                  <a:srgbClr val="ffffcc"/>
                </a:solidFill>
                <a:latin typeface="Times New Roman"/>
              </a:rPr>
              <a:t>19 – 11 - 2002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76520" y="2133720"/>
            <a:ext cx="6705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New experience and fresh inform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USA Congress mid-term election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The role of the medi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The operation of poll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POP release of today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Rating of top ten Legislative Councillor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Methodology and mis-interpretation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914400" y="2514600"/>
            <a:ext cx="753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Theoretical Aspects of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Public Opinion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heoretical Aspects of Public Opin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76520" y="2362320"/>
            <a:ext cx="67053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Characteristics of “public opinion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A collections of individual opinion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Different from political attitude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Reaction to ad hoc issues or policies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Short-term judgment can change over time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heoretical Aspects of Public Opin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1981080"/>
            <a:ext cx="762012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The formation of “public opinion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via government bodies and officials: GIS, district offices, APIs, principal officials, CE Offic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via advisory bodies and committee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via opinion leaders, business tycoons, pressure groups and academic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intentional leakage of information to specific media organizations or political parties – the “reliable source”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heoretical Aspects of Public Opin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71600" y="1981080"/>
            <a:ext cx="6858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Major producers of “opinion polls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The commercial sector: market researcher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The academic sector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The government sector: HAB, CPU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Political parties and pressure group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NGO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The medi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5791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Between 19/8 - 25/8/2002, 72 poll reports were carried by local newspapers.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heoretical Aspects of Public Opin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1981080"/>
            <a:ext cx="71629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Public opinion as input to the political system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Feedback to policy proposals, via Green Papers, White Papers, etc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Agenda setting, especially via phone-in programmes, letters to the editor, petitions, demonstration, etc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Participation in the electoral proces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Indirect representation in council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Referendum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990720" y="2590920"/>
            <a:ext cx="721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The Operation of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Opinion Research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he Operation of Opinion Research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43000" y="1752480"/>
            <a:ext cx="72388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Different stages in conducting an “opinion poll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Identification of research objectives and areas of investig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Sampling desig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Questionnaire desig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Fieldwork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Data analysis and cleani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Report compil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Release of finding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he Operation of Opinion Research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2286000"/>
            <a:ext cx="76960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Demonstration of the POP’s oper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CATI and WEBCATI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Sample audio segment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WEBCATI input demonstr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q/c measure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Data captur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295280" y="28954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Reading Media Report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ffff"/>
                </a:solidFill>
                <a:latin typeface="Times New Roman"/>
              </a:rPr>
              <a:t>Outline of Presentation</a:t>
            </a:r>
            <a:endParaRPr b="0" lang="en-US" sz="4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2209680"/>
            <a:ext cx="73911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ublic opinion: Theoretical aspect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ublic opinion: Practical aspect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Interpreting media reports </a:t>
            </a:r>
            <a:r>
              <a:rPr b="1" lang="zh-CN" sz="2800" spc="-1" strike="noStrike">
                <a:solidFill>
                  <a:srgbClr val="ccffff"/>
                </a:solidFill>
                <a:latin typeface="新細明體"/>
              </a:rPr>
              <a:t>－</a:t>
            </a: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astering public opin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Closing remarks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Reading Media Report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38080" y="2133720"/>
            <a:ext cx="7315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Major carriers of “public opinion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Radio phone-in programmes like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風波裏的茶杯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自由風自由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Phone ,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千禧年代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Talk shows like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政事有心人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, 18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樓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C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座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TV prog. like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新聞透視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星期一檔案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頭條新聞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Newspaper columns, editorials, letters to the editor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Opinion poll report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Reading Media Report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00200" y="2057400"/>
            <a:ext cx="63244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Characteristics of “media polls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Agenda setting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Tend to focus on negative feeling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Sensationalism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Rich graphics to achieve visual impact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Extensive coverage for exclusive poll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Reading Media Report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2120" y="2514600"/>
            <a:ext cx="761976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Introducing the preliminary findings of the MRSHK Projec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The principle of “minimum disclosure”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Fieldwork: 19-25/8/2002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914400" y="266688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Closing Remark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520" y="990720"/>
            <a:ext cx="8076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Future Development of Opinion Research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38080" y="2819520"/>
            <a:ext cx="76201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A code of practice in Hong Kong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Introducing the HKU POP Site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The international dimension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22860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457200"/>
            <a:ext cx="80769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Importance of the 3“I”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3520" y="1676520"/>
            <a:ext cx="80769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2057400"/>
            <a:ext cx="3733560" cy="20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74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nformation</a:t>
            </a: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- scientific, unbiased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- true, comprehensive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- knowledgeable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95680" y="2209680"/>
            <a:ext cx="426744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74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ntegrity</a:t>
            </a: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- ethical, professional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- honesty is the best policy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14600" y="4343400"/>
            <a:ext cx="4572000" cy="21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“</a:t>
            </a: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”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1749"/>
              </a:spcBef>
              <a:buClr>
                <a:srgbClr val="cc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I am the mover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1749"/>
              </a:spcBef>
              <a:buClr>
                <a:srgbClr val="cc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ffff"/>
                </a:solidFill>
                <a:uFillTx/>
                <a:latin typeface="Times New Roman"/>
              </a:rPr>
              <a:t>I am uniqu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457200"/>
            <a:ext cx="80769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Importance of the 3“I”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520" y="1676520"/>
            <a:ext cx="80769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2120" y="2057400"/>
            <a:ext cx="3733560" cy="20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74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nformation</a:t>
            </a:r>
            <a:r>
              <a:rPr b="0" lang="zh-TW" sz="2800" spc="-1" strike="noStrike">
                <a:solidFill>
                  <a:srgbClr val="ffff99"/>
                </a:solidFill>
                <a:latin typeface="Times New Roman"/>
              </a:rPr>
              <a:t>: 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資訊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zh-TW" sz="2600" spc="-1" strike="noStrike">
                <a:solidFill>
                  <a:srgbClr val="388ec8"/>
                </a:solidFill>
                <a:latin typeface="Times New Roman"/>
              </a:rPr>
              <a:t>- scientific, unbiased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388ec8"/>
                </a:solidFill>
                <a:latin typeface="Times New Roman"/>
              </a:rPr>
              <a:t>	</a:t>
            </a:r>
            <a:r>
              <a:rPr b="0" lang="zh-TW" sz="2600" spc="-1" strike="noStrike">
                <a:solidFill>
                  <a:srgbClr val="388ec8"/>
                </a:solidFill>
                <a:latin typeface="Times New Roman"/>
              </a:rPr>
              <a:t>- true, comprehensive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388ec8"/>
                </a:solidFill>
                <a:latin typeface="Times New Roman"/>
              </a:rPr>
              <a:t>	</a:t>
            </a:r>
            <a:r>
              <a:rPr b="0" lang="zh-TW" sz="2600" spc="-1" strike="noStrike">
                <a:solidFill>
                  <a:srgbClr val="388ec8"/>
                </a:solidFill>
                <a:latin typeface="Times New Roman"/>
              </a:rPr>
              <a:t>- knowledgeable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495680" y="2209680"/>
            <a:ext cx="426744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74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ntegrity</a:t>
            </a:r>
            <a:r>
              <a:rPr b="0" lang="zh-TW" sz="2800" spc="-1" strike="noStrike">
                <a:solidFill>
                  <a:srgbClr val="ffff99"/>
                </a:solidFill>
                <a:latin typeface="Times New Roman"/>
              </a:rPr>
              <a:t>: 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誠信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zh-TW" sz="2600" spc="-1" strike="noStrike">
                <a:solidFill>
                  <a:srgbClr val="388ec8"/>
                </a:solidFill>
                <a:latin typeface="Times New Roman"/>
              </a:rPr>
              <a:t>- ethical, professional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388ec8"/>
                </a:solidFill>
                <a:latin typeface="Times New Roman"/>
              </a:rPr>
              <a:t>	</a:t>
            </a:r>
            <a:r>
              <a:rPr b="0" lang="zh-TW" sz="2600" spc="-1" strike="noStrike">
                <a:solidFill>
                  <a:srgbClr val="388ec8"/>
                </a:solidFill>
                <a:latin typeface="Times New Roman"/>
              </a:rPr>
              <a:t>- honesty is the best policy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14600" y="4343400"/>
            <a:ext cx="4572000" cy="21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Times New Roman"/>
              </a:rPr>
              <a:t>“</a:t>
            </a:r>
            <a:r>
              <a:rPr b="1" lang="zh-TW" sz="4400" spc="-1" strike="noStrike">
                <a:solidFill>
                  <a:srgbClr val="ffff99"/>
                </a:solidFill>
                <a:latin typeface="Times New Roman"/>
              </a:rPr>
              <a:t>I” 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: 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自信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1749"/>
              </a:spcBef>
              <a:buClr>
                <a:srgbClr val="388ec8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88ec8"/>
                </a:solidFill>
                <a:latin typeface="Times New Roman"/>
              </a:rPr>
              <a:t>I am the mover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1749"/>
              </a:spcBef>
              <a:buClr>
                <a:srgbClr val="388ec8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388ec8"/>
                </a:solidFill>
                <a:uFillTx/>
                <a:latin typeface="Times New Roman"/>
              </a:rPr>
              <a:t>I am uniqu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1523880"/>
            <a:ext cx="75438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Thank you very much !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2057400"/>
            <a:ext cx="7543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Concepts of the day: the 3R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What do you associate with –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90920" y="3809880"/>
            <a:ext cx="5715000" cy="21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2057400"/>
            <a:ext cx="7543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Concepts of the day: the 3R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What do you associate with –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90920" y="3809880"/>
            <a:ext cx="5715000" cy="21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onaldo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ivaldo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onaldinho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057400"/>
            <a:ext cx="7543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Concepts of the day: the 3R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What do you associate with –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90920" y="3809880"/>
            <a:ext cx="5715000" cy="21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e-prioritise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e-organis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e-engineer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1981080"/>
            <a:ext cx="76960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Financial Secretary Antony Leung has urged civil servants to embrace the “three Rs” to help build a cost-effective government in Hong Kong…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“</a:t>
            </a: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Within Government we need to </a:t>
            </a:r>
            <a:r>
              <a:rPr b="1" lang="zh-TW" sz="2000" spc="-1" strike="noStrike" u="sng">
                <a:solidFill>
                  <a:srgbClr val="ffff99"/>
                </a:solidFill>
                <a:uFillTx/>
                <a:latin typeface="Times New Roman"/>
              </a:rPr>
              <a:t>re-prioritise</a:t>
            </a: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 to ensure that the services that utilise resources today is what society wants and needs today. We must </a:t>
            </a:r>
            <a:r>
              <a:rPr b="1" lang="zh-TW" sz="2000" spc="-1" strike="noStrike" u="sng">
                <a:solidFill>
                  <a:srgbClr val="ffff99"/>
                </a:solidFill>
                <a:uFillTx/>
                <a:latin typeface="Times New Roman"/>
              </a:rPr>
              <a:t>reorganise</a:t>
            </a: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 by creating structures that make the best use of the private sector whilst fulfilling our policy and operational requirements. And we must </a:t>
            </a:r>
            <a:r>
              <a:rPr b="1" lang="zh-TW" sz="2000" spc="-1" strike="noStrike" u="sng">
                <a:solidFill>
                  <a:srgbClr val="ffff99"/>
                </a:solidFill>
                <a:uFillTx/>
                <a:latin typeface="Times New Roman"/>
              </a:rPr>
              <a:t>re-engineer</a:t>
            </a: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 our own organisations and processes, to avoid duplication and multiple handling, and to use appropriate technologies to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the best effect.”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219320" y="2057400"/>
            <a:ext cx="7543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3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The “three I’s” –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90920" y="3429000"/>
            <a:ext cx="5715000" cy="21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19320" y="2057400"/>
            <a:ext cx="7543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3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The “three I’s” –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90920" y="3429000"/>
            <a:ext cx="5715000" cy="21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nformatio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ntegrity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457200"/>
            <a:ext cx="80769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1676520"/>
            <a:ext cx="80769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2057400"/>
            <a:ext cx="3733560" cy="20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74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nformation</a:t>
            </a: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- scientific, unbiased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- true, comprehensive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- knowledgeable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209680"/>
            <a:ext cx="426744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74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ntegrity</a:t>
            </a: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- ethical, professional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- honesty is the best policy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14600" y="4343400"/>
            <a:ext cx="4572000" cy="21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“</a:t>
            </a: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”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1749"/>
              </a:spcBef>
              <a:buClr>
                <a:srgbClr val="cc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I am the mover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1749"/>
              </a:spcBef>
              <a:buClr>
                <a:srgbClr val="cc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ffff"/>
                </a:solidFill>
                <a:uFillTx/>
                <a:latin typeface="Times New Roman"/>
              </a:rPr>
              <a:t>I am uniqu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PC84-CLIFF</cp:lastModifiedBy>
  <cp:lastPrinted>2001-04-04T10:00:24Z</cp:lastPrinted>
  <dcterms:modified xsi:type="dcterms:W3CDTF">2004-08-17T04:10:06Z</dcterms:modified>
  <cp:revision>523</cp:revision>
  <dc:subject/>
  <dc:title>無投影片標題</dc:title>
</cp:coreProperties>
</file>