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BCE-86E5-4DFA-BE86-D211A5A0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3FF-88B0-4BD8-8F4C-5DEDBD2D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779-212F-459C-A5F1-B85ECE9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1C9-63DF-4129-A9D5-1A626C50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A82-4527-4D0E-AB70-442DB950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353-C830-46F4-AA83-42920EAF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F79-B3FC-4F26-AD7B-2A37B53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EFB-B5B2-4776-A90B-BF5D9C2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B01-FD42-4921-B8F7-CCA9BC8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562-4E04-49D8-917B-D1A1DCC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78C-26B0-4C29-AA3E-5A37965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03B-CCD7-4AE9-A387-57BF8D2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D33-709B-47F7-9196-0F51CDDF8D5F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Lecture on 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0104, 26 November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05740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HKU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puter Assisted Telephone Interview Syst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 with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entation of survey resu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l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sour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rther Rea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etical aspects of “public opinion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0968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Directory of opinion research organizations worldwid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online-survey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Possible Topics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urther studies -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971800"/>
            <a:ext cx="457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0:00-10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1:00-11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:00-00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1:00-01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2:00-02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3:00am or af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2971800"/>
          <a:ext cx="487836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878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657600"/>
            <a:ext cx="4496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ntone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 prefer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733920"/>
          <a:ext cx="63244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324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3:10Z</dcterms:modified>
  <cp:revision>552</cp:revision>
  <dc:subject/>
  <dc:title>無投影片標題</dc:title>
</cp:coreProperties>
</file>