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149-CFCF-4854-AE83-B320515F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DDB-6428-45E1-9227-CC57485B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4D6-738C-4081-9129-5677C95D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2E8-C9E8-4E56-B8B5-6BC806D3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375-A11B-4E1D-B372-AD6D2A76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974-A429-45EB-B534-E4BA97BD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B44-8654-4EA8-BED3-A66E630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2BA-9EAE-4D4E-A2F8-D53CCD9E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0FA-C625-4C42-A5D2-8D55BCEC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C563-DAD6-4680-8E8E-607731BB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1FC-A068-4205-934B-7162B7B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2F8-403B-4E4D-8B7D-712071F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0099-ED5F-4795-848E-A4CB002FF21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Lecture on 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0104, 26 November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05740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HKU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puter Assisted Telephone Interview Syst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 with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entation of survey resu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l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sour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rther Rea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etical aspects of “public opinion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0968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Directory of opinion research organizations worldwid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online-survey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Possible Topics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urther studies -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971800"/>
            <a:ext cx="457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0:00-10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1:00-11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:00-00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1:00-01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2:00-02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3:00am or af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2971800"/>
          <a:ext cx="487836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878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657600"/>
            <a:ext cx="4496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ntone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 prefer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733920"/>
          <a:ext cx="63244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324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3:10Z</dcterms:modified>
  <cp:revision>552</cp:revision>
  <dc:subject/>
  <dc:title>無投影片標題</dc:title>
</cp:coreProperties>
</file>