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FA7-77B7-418D-9D5D-B1E8B5D5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17E-E9ED-47BA-953A-91DB057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A18-8DC3-4AF4-83F8-262E19B7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B5D-12FB-4147-AC7D-5A7F063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058-C851-4EE6-949C-CBD2AC2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AB4-7046-4170-A3C2-9B83233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F0E-E26F-4F78-87AB-F573A1A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602-41FC-45AC-A0DD-071A447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DB2-9AB3-4F09-8F64-DAF521A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817-1A4E-48A5-AB16-B9B1975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C27-1232-4D9E-9895-65F36B36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80E-4F81-43A8-AFD1-032D257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59F-9A34-4F63-81B6-6956CAC9A16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Lecture for CSD Senior Command Course No.1/20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2 – 12 - 2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actually repor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3623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 theoretical aspect (very briefl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362320"/>
            <a:ext cx="6705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ther topics and further rea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pinion polling in Greater Chin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“POP Network”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 agai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SA Congress mid-term elections, 5 Nov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yors elections in Taiwan, 7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credibility iss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’s press release this week, 10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CE and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4:46Z</dcterms:modified>
  <cp:revision>537</cp:revision>
  <dc:subject/>
  <dc:title>無投影片標題</dc:title>
</cp:coreProperties>
</file>