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AB3-A507-4F2D-84F9-99212670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D55-A255-4F6C-9C62-5E66425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018-6E57-41FA-A018-00AF5F2E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8AB-EEAB-4F30-B334-3F3F6D0A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A64-78F0-4F51-AE2C-3EC4AD4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2BE-5325-423E-9581-1CA7340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71F-5036-49AE-8A2C-6DC2A003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21C-1C12-47C9-9FF0-886223E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8D6-10E2-4F0E-BF5C-BFAD395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382-C4B5-4A14-B530-6FB2FF72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FFA-81F5-4CF5-8087-F570BF13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636-C7A1-4E0B-A74C-41BE2DE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E05-03D1-4607-9FB1-40E6E8C137C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200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顯理中學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74320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372960"/>
            <a:ext cx="739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55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整體規劃</a:t>
            </a: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訂定調查目的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界定目標被訪者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確定被訪者認識調查項目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抽選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採用隨機抽樣法，不能隨意更換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781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問卷設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卷長度要適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避免使用艱深、含糊或帶有感情色彩的詞語或語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題應切合統計調查目的，並力求具體、清晰、直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可供選擇的答案應互相排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3623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81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發佈調查結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人資料須予保密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報告應包括統計調查中各方面的細節，並同時提供所用的統計調查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新聞公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最新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342900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資源：中學師生民意研究習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2320" y="2514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謝謝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384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E01832_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2767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504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2" name="PE02484_" descr=""/>
          <p:cNvPicPr/>
          <p:nvPr/>
        </p:nvPicPr>
        <p:blipFill>
          <a:blip r:embed="rId1"/>
          <a:stretch/>
        </p:blipFill>
        <p:spPr>
          <a:xfrm>
            <a:off x="685800" y="3600360"/>
            <a:ext cx="30956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36232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特質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是個別人士意見的匯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可能是對城中話題或最新政策的表面反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有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362320"/>
            <a:ext cx="6629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影響民意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新聞處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、政策局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半官方機構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間組織，如政黨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意見領袖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者專家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09680"/>
            <a:ext cx="6858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從事民意調查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公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術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組織、志願機構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41008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於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19-25/8/200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的七天內， 本地報章刊共刊載民意調查結果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7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份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239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是政治體系的輸入部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透過咨詢文件收集民意，如印發白紙草案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對政策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、媒介及壓力團體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設定議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以選票或全民投票表達意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代表在議會內發揮民意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BS00580_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7432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74320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08:24Z</dcterms:modified>
  <cp:revision>670</cp:revision>
  <dc:subject/>
  <dc:title>無投影片標題</dc:title>
</cp:coreProperties>
</file>