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650-8B74-4145-88F0-C0DCB951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B4D-4E2E-4AAD-8897-36895DCB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24C-A590-45AE-9F5D-54B30D17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236-8F68-4F4E-95CA-F1B44BDA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6BB-AD64-456A-B6B9-05A31185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78E-2B0B-4E2A-8ECD-BB214334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AB4-BAF1-488E-9D69-AD1069A0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87A-BADF-4922-89A2-F4C73EA5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C44-FFB1-4DBF-A5DD-CF1A2BC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4E5-F476-44AE-A44B-DB3A4495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199-5F54-468B-9623-487F6C5C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6D9-00A8-4C21-B558-7E1ECAA5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D804-4874-428E-A5BC-79F0B4ECF6C7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200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顯理中學</a:t>
            </a: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民意研究工作坊</a:t>
            </a:r>
            <a:r>
              <a:rPr b="1" lang="zh-TW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4724280"/>
            <a:ext cx="7848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主講 </a:t>
            </a: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: </a:t>
            </a: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2003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743200"/>
            <a:ext cx="7696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372960"/>
            <a:ext cx="73915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286000"/>
            <a:ext cx="556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整體規劃</a:t>
            </a: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清楚訂定調查目的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清楚界定目標被訪者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確定被訪者認識調查項目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抽選樣本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採用隨機抽樣法，不能隨意更換樣本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352680"/>
            <a:ext cx="67816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問卷設計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問卷長度要適中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避免使用艱深、含糊或帶有感情色彩的詞語或語句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問題應切合統計調查目的，並力求具體、清晰、直接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可供選擇的答案應互相排斥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36232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58128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發佈調查結果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個人資料須予保密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調查報告應包括統計調查中各方面的細節，並同時提供所用的統計調查方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51460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3353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新聞公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意調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最新內容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81480" y="3429000"/>
            <a:ext cx="2286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網上資源：中學師生民意研究習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32320" y="25146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網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810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謝謝</a:t>
            </a: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0384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PE01832_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327672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5040" y="22096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2" name="PE02484_" descr=""/>
          <p:cNvPicPr/>
          <p:nvPr/>
        </p:nvPicPr>
        <p:blipFill>
          <a:blip r:embed="rId1"/>
          <a:stretch/>
        </p:blipFill>
        <p:spPr>
          <a:xfrm>
            <a:off x="685800" y="3600360"/>
            <a:ext cx="309564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362320"/>
            <a:ext cx="6705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 的特質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是個別人士意見的匯集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可能是對城中話題或最新政策的表面反應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與政治態度有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會隨著時間轉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362320"/>
            <a:ext cx="6629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影響民意的組織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機關，如新聞處</a:t>
            </a:r>
            <a:r>
              <a:rPr b="1" lang="zh-TW" sz="2500" spc="-1" strike="noStrike">
                <a:solidFill>
                  <a:srgbClr val="ccffff"/>
                </a:solidFill>
                <a:latin typeface="新細明體"/>
              </a:rPr>
              <a:t>、政策局等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半官方機構，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諮詢委員會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區議會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間組織，如政黨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播媒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意見領袖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大亨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者專家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209680"/>
            <a:ext cx="6858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從事民意調查的組織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機關，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民政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事務局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中央政策組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市場調查公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術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治組織、志願機構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播媒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410080"/>
            <a:ext cx="716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於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19-25/8/2002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的七天內， 本地報章刊共刊載民意調查結果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72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份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209680"/>
            <a:ext cx="7239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是政治體系的輸入部份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透過咨詢文件收集民意，如印發白紙草案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對政策作出回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、媒介及壓力團體透過電台節目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讀者來信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遊行示威等設定議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以選票或全民投票表達意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意代表在議會內發揮民意力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8" name="BS00580_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5812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743200"/>
            <a:ext cx="7696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74320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0800" y="3581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08:24Z</dcterms:modified>
  <cp:revision>670</cp:revision>
  <dc:subject/>
  <dc:title>無投影片標題</dc:title>
</cp:coreProperties>
</file>