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10E-1A9B-4895-8F19-BF74C74A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112-5D8E-421F-BA6A-1698A767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DA0-5CD2-4A6E-981D-ACD876E2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8E2-F064-4CE8-8C64-7725A7F9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9DE-ECD3-4A57-8358-CAFD47F9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D89-7612-43AD-B30A-4AD83DFA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03E-7D8D-4347-9358-C376191C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D17-8750-4B29-98EB-581D01FA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90C-EBA2-4F6A-BAE1-04F3B9E5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65D-9D66-432D-AAE5-F70E8BA2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5AB-9D9C-4764-AFC3-5B3B365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793E-6CE8-4A5D-AAC1-7EFCA689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C2E8-3D97-423F-9F49-410942999983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kupop.hku.hk/chinese/popexpress/mostcon/sat/halfyr/chart/halfyr1.gif" TargetMode="External"/><Relationship Id="rId2" Type="http://schemas.openxmlformats.org/officeDocument/2006/relationships/hyperlink" Target="http://hkupop.hku.hk/chinese/popexpress/yearend/datatables7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ffff00"/>
                </a:solidFill>
                <a:latin typeface="Times New Roman"/>
              </a:rPr>
              <a:t>Public Opinion in Policy Making</a:t>
            </a:r>
            <a:br>
              <a:rPr sz="3600"/>
            </a:b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Leadership In Action (LIA) Programme No.1, 2003</a:t>
            </a:r>
            <a:br>
              <a:rPr sz="2000"/>
            </a:b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Civil Service Training and Development Institute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10552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Robert Chung, Director of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8-10-20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438280"/>
            <a:ext cx="6476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</a:t>
            </a:r>
            <a:r>
              <a:rPr b="0" i="1" lang="en-US" sz="2500" spc="-1" strike="noStrike">
                <a:solidFill>
                  <a:srgbClr val="ccffff"/>
                </a:solidFill>
                <a:latin typeface="Times New Roman"/>
              </a:rPr>
              <a:t>ad hoc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2209680"/>
            <a:ext cx="6095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GIS, district offices, APIs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advisory bodies, special committe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leaders, business tycoons, pressure groups, academ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eliberate leakage of information to selected media from “unnamed” sour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1981080"/>
            <a:ext cx="6858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HAB, CP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, pressure groups, 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n the week of 19/8 - 25/8/2002, local newspapers carried 72 poll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981080"/>
            <a:ext cx="7162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OP Poll Finding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752480"/>
            <a:ext cx="754380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Popularity of Chief Executive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Latest rating of CE (per pol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appraisal of CE Tung Chee-hwa's job performan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satisfaction with the policy direction of CE Tung Chee-hwa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Four indicators on CE's popularity - Combined char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981080"/>
            <a:ext cx="7162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People’s Trust and Confidence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“one country, two systems” (half-yearly averag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828800"/>
            <a:ext cx="7391520" cy="38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3.  Popularity of Principal Officials 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ratings of Principal Official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s of Secretaries of Departments - Combined chart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hypothetical voting of Principal Officials</a:t>
            </a:r>
            <a:r>
              <a:rPr b="1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 </a:t>
            </a:r>
            <a:br>
              <a:rPr sz="2000"/>
            </a:br>
            <a:r>
              <a:rPr b="1" lang="zh-TW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4.  Political Figures in Mainland China and Taiwan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 of the top ten political figures in Mainland China and Taiwan (latest figur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eople’s Priority as Reflecte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 the Pol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eople’s Priority as Reflected in POP Poll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’s most concerned probl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's satisfaction with current political, economic and social conditions - Combined charts (half-yearly averages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's dissatisfaction with current political, economic and social conditions - Combined charts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half-yearly averages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What do you think is the most important problem that the government should tackle next year?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The Chief Executive will soon announce his policy address. What should be the focu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057400"/>
            <a:ext cx="7315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eople’s priority as reflected in the pol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Government respect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oes our government resp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ublic opinion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1: Article 23 Legisl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60020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2209680"/>
          <a:ext cx="7848720" cy="4916520"/>
        </p:xfrm>
        <a:graphic>
          <a:graphicData uri="http://schemas.openxmlformats.org/drawingml/2006/table">
            <a:tbl>
              <a:tblPr/>
              <a:tblGrid>
                <a:gridCol w="2197080"/>
                <a:gridCol w="5651640"/>
              </a:tblGrid>
              <a:tr h="41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 24, 200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n 28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eb 26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1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5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6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7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 5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posals to Implement A2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ompendium of Submissions on A2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ational Security Bill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0,000 people took to the street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3 major concessions, but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essed ahead for the Jul 9 deadlin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mes Tien resigned from ExC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withdrawal of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S Bill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withdrawal of th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egislative programm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44792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286000"/>
          <a:ext cx="7848720" cy="4124160"/>
        </p:xfrm>
        <a:graphic>
          <a:graphicData uri="http://schemas.openxmlformats.org/drawingml/2006/table">
            <a:tbl>
              <a:tblPr/>
              <a:tblGrid>
                <a:gridCol w="2197080"/>
                <a:gridCol w="5651640"/>
              </a:tblGrid>
              <a:tr h="20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ember 2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ting guidelines for the 2003   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Election announced by th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lectoral Affairs Commission (EAC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lling time set at 0730 to 1930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 hrs shorter than usual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 23 to 2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ontroversy sparked; opinions flooded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the EAC (168 submissions received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mocratic Party opposed the new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rrangement and planned to seek for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dicial review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2743200"/>
          <a:ext cx="7620120" cy="2992320"/>
        </p:xfrm>
        <a:graphic>
          <a:graphicData uri="http://schemas.openxmlformats.org/drawingml/2006/table">
            <a:tbl>
              <a:tblPr/>
              <a:tblGrid>
                <a:gridCol w="2133720"/>
                <a:gridCol w="5486400"/>
              </a:tblGrid>
              <a:tr h="13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 23 to 2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ew timetable criticized as favorabl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the pro-government candidat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ember 26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cision to slash the polling tim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versed by the EAC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he traditional voting hours of 0730 to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30 reinstate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38080" y="182880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15238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alysis of Exit-poll data of 1999 &amp; 200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2362320"/>
          <a:ext cx="7162920" cy="3504960"/>
        </p:xfrm>
        <a:graphic>
          <a:graphicData uri="http://schemas.openxmlformats.org/drawingml/2006/table">
            <a:tbl>
              <a:tblPr/>
              <a:tblGrid>
                <a:gridCol w="1828800"/>
                <a:gridCol w="1095480"/>
                <a:gridCol w="1168560"/>
                <a:gridCol w="439560"/>
                <a:gridCol w="1241280"/>
                <a:gridCol w="13892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199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C 200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P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B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P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B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7:31 – 10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:31 – 19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3.5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.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3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:31 – 22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4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4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5238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alysis of Exit-poll data of 1999 &amp; 200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2286000"/>
          <a:ext cx="7925040" cy="3514680"/>
        </p:xfrm>
        <a:graphic>
          <a:graphicData uri="http://schemas.openxmlformats.org/drawingml/2006/table">
            <a:tbl>
              <a:tblPr/>
              <a:tblGrid>
                <a:gridCol w="1676160"/>
                <a:gridCol w="1558440"/>
                <a:gridCol w="1564920"/>
                <a:gridCol w="216000"/>
                <a:gridCol w="1374480"/>
                <a:gridCol w="1535040"/>
              </a:tblGrid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199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C 200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democracy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government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democracy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government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7:31 – 10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8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:31 – 19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3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1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:31 – 22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3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.2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5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762120" y="6095880"/>
            <a:ext cx="685800" cy="304920"/>
          </a:xfrm>
          <a:custGeom>
            <a:avLst/>
            <a:gdLst>
              <a:gd name="textAreaLeft" fmla="*/ 106920 w 685800"/>
              <a:gd name="textAreaRight" fmla="*/ 587160 w 685800"/>
              <a:gd name="textAreaTop" fmla="*/ 90360 h 304920"/>
              <a:gd name="textAreaBottom" fmla="*/ 2145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6413"/>
                </a:moveTo>
                <a:lnTo>
                  <a:pt x="13950" y="6413"/>
                </a:lnTo>
                <a:lnTo>
                  <a:pt x="13950" y="0"/>
                </a:lnTo>
                <a:lnTo>
                  <a:pt x="21600" y="10800"/>
                </a:lnTo>
                <a:lnTo>
                  <a:pt x="13950" y="21600"/>
                </a:lnTo>
                <a:lnTo>
                  <a:pt x="13950" y="15187"/>
                </a:lnTo>
                <a:lnTo>
                  <a:pt x="3375" y="15187"/>
                </a:lnTo>
                <a:close/>
              </a:path>
              <a:path w="21600" h="21600">
                <a:moveTo>
                  <a:pt x="0" y="6413"/>
                </a:moveTo>
                <a:lnTo>
                  <a:pt x="675" y="6413"/>
                </a:lnTo>
                <a:lnTo>
                  <a:pt x="675" y="15187"/>
                </a:lnTo>
                <a:lnTo>
                  <a:pt x="0" y="15187"/>
                </a:lnTo>
                <a:close/>
              </a:path>
              <a:path w="21600" h="21600">
                <a:moveTo>
                  <a:pt x="1350" y="6413"/>
                </a:moveTo>
                <a:lnTo>
                  <a:pt x="2700" y="6413"/>
                </a:lnTo>
                <a:lnTo>
                  <a:pt x="2700" y="15187"/>
                </a:lnTo>
                <a:lnTo>
                  <a:pt x="1350" y="15187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o bias towards any sid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1981080"/>
            <a:ext cx="6858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essons Learnt 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Government over-sensitive to public press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Hasty decisions in policy implementation erode efficacy of govern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Good consultation vital to new policy initiativ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rust the professionals, trust scientific dat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2209680"/>
            <a:ext cx="6553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 code of practice in Hong Ko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international dimen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romote a knowledge-based pol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Encourage independent consultancy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4191120"/>
            <a:ext cx="4648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057400"/>
            <a:ext cx="6934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Don’t forget the 3I’s, which are much better than the 3R’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reasure your  I Q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4191120"/>
            <a:ext cx="46483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hmet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Ex-FS Antony Leung repeatedly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Let me introduce three new concepts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oretical Aspe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f Public Opin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3-10-08T10:03:30Z</dcterms:modified>
  <cp:revision>528</cp:revision>
  <dc:subject/>
  <dc:title>無投影片標題</dc:title>
</cp:coreProperties>
</file>