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0A9-6863-4162-9437-09DC1DDF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A98-EA5C-4993-9FD4-226E2E7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D49-98E1-4525-AC21-1438F6B9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D1D-0ABA-4223-8FEF-3659F110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811-2F1E-4F00-B7A3-6C19C42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CCC-DD54-4456-ACE5-25457AD1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4AE-7138-467D-9391-B2431492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ACE-EB1F-420A-B813-B2B161B6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D5A-7B63-4990-824D-8D1C149A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FE6-D0E1-446F-9332-393CB8F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6DB-E295-451B-B66C-4C6D465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AA0-6918-4DC0-B7AC-348906E9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DF8-1471-4CDF-AC2D-FD787934620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3 March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447920"/>
            <a:ext cx="7086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The original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Chinese (on-line from 14:2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English (on-line from 14:21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mail sent through our POP Network (14:23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fax was sent to the media at 14:24 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The report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etro news on-line in Chinese (15:35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R news on-line in Chinese (15:36, 16:0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1 on-line in Chinese (16:09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2 on-line in Chinese (18:5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ing Pao news on-line (16:44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71629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828800"/>
            <a:ext cx="7391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3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2T12:40:58Z</dcterms:modified>
  <cp:revision>542</cp:revision>
  <dc:subject/>
  <dc:title>無投影片標題</dc:title>
</cp:coreProperties>
</file>