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BBD-DBCE-4FF2-A10A-BBD63123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BD3-AC40-4213-92BE-0361BF3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42C-0437-41D2-911A-76D12EA3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1DC-68A5-42B8-B709-0CE2A550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B1A-A514-4BEE-84D0-EA38742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901-9682-4158-8327-7015AA0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672-70CB-4D80-832C-26CDB34B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B64-253B-470B-B482-2423F92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C60-E163-4C13-A16E-F7F598B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ECD-B3F7-4CD5-A7A7-C0EFE827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179-19DC-442C-BC42-2532B086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ABB-9676-4688-8874-D18CD58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EA7-9209-429C-BD28-4DC6D80D72C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3 March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447920"/>
            <a:ext cx="7086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The original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Chinese (on-line from 14:2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English (on-line from 14:21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mail sent through our POP Network (14:23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fax was sent to the media at 14:24 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The report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etro news on-line in Chinese (15:35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R news on-line in Chinese (15:36, 16:0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1 on-line in Chinese (16:09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2 on-line in Chinese (18:5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ing Pao news on-line (16:44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71629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828800"/>
            <a:ext cx="7391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3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2T12:40:58Z</dcterms:modified>
  <cp:revision>542</cp:revision>
  <dc:subject/>
  <dc:title>無投影片標題</dc:title>
</cp:coreProperties>
</file>