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F88-6842-4134-AF0F-8D97F662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261-C147-44A6-84BD-0291D250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08A-E407-4FEC-9B20-19F6B95A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821-43E3-42FA-B500-1F89B863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273-C5CF-4C3B-BAFC-C7E4AED6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615-EE1A-4780-955B-F87E6DE1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108-C360-426C-BBC0-AC48F6A3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E01-695A-4AA9-BA0B-508C4017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621-629C-43E4-B7DE-8A0C5358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97F-70A4-48ED-8647-A3400E6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D5E-99E7-42DB-B2CC-BA626423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424-6EA9-4592-B283-57EB2BE2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2B58-B3F9-4331-A9BE-C79225AE79AE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poll02.gif" TargetMode="External"/><Relationship Id="rId2" Type="http://schemas.openxmlformats.org/officeDocument/2006/relationships/hyperlink" Target="http://hkupop.hku.hk/english/resources/workshops/20040304/poll02.gif" TargetMode="External"/><Relationship Id="rId3" Type="http://schemas.openxmlformats.org/officeDocument/2006/relationships/hyperlink" Target="http://hkupop.hku.hk/english/resources/workshops/20040304/poll02.gif" TargetMode="External"/><Relationship Id="rId4" Type="http://schemas.openxmlformats.org/officeDocument/2006/relationships/hyperlink" Target="http://hkupop.hku.hk/english/resources/workshops/20040304/poll02.gif" TargetMode="External"/><Relationship Id="rId5" Type="http://schemas.openxmlformats.org/officeDocument/2006/relationships/hyperlink" Target="http://hkupop.hku.hk/english/resources/workshops/20040304/poll02.gif" TargetMode="External"/><Relationship Id="rId6" Type="http://schemas.openxmlformats.org/officeDocument/2006/relationships/hyperlink" Target="http://hkupop.hku.hk/english/resources/workshops/20040304/poll07.gif" TargetMode="External"/><Relationship Id="rId7" Type="http://schemas.openxmlformats.org/officeDocument/2006/relationships/hyperlink" Target="http://hkupop.hku.hk/english/resources/workshops/20040304/poll14.gif" TargetMode="External"/><Relationship Id="rId8" Type="http://schemas.openxmlformats.org/officeDocument/2006/relationships/hyperlink" Target="http://hkupop.hku.hk/english/resources/workshops/20040304/poll14.gif" TargetMode="External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cr.mp3" TargetMode="External"/><Relationship Id="rId2" Type="http://schemas.openxmlformats.org/officeDocument/2006/relationships/hyperlink" Target="http://hkupop.hku.hk/english/resources/workshops/20040304/cr.mp3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metro.html" TargetMode="External"/><Relationship Id="rId2" Type="http://schemas.openxmlformats.org/officeDocument/2006/relationships/hyperlink" Target="http://hkupop.hku.hk/english/resources/workshops/20040304/metro.html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wisenews.htm" TargetMode="External"/><Relationship Id="rId2" Type="http://schemas.openxmlformats.org/officeDocument/2006/relationships/hyperlink" Target="http://hkupop.hku.hk/english/resources/workshops/20040304/wisenews.htm" TargetMode="External"/><Relationship Id="rId3" Type="http://schemas.openxmlformats.org/officeDocument/2006/relationships/hyperlink" Target="http://hkupop.hku.hk/english/resources/workshops/20040304/wisenews.ht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Lecture at Hong Kong Chu Hai College</a:t>
            </a:r>
            <a:br>
              <a:rPr sz="2800"/>
            </a:b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Opinion Polls: Implications for Social Consensus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香港珠海書院講座：民意調查與社會共識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4-3-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South China Morning Post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3" name="20040303_SCMP_Beijing%20hits%20at%20US%20over%20Democrats'%20Washington%20trop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08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明報另類民意調查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" name="20040303_Ming%20Pao_李：北京如邀訪　取消赴美.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Times New Roman"/>
              </a:rPr>
              <a:t>香港民情狀況（概括論述）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1629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特首董建華評分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 (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半年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4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董建華出任特首的假設投票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香港特區政府的信任程度及市民對北京中央政府的信任程度 – 綜合圖表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5"/>
              </a:rPr>
              <a:t>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6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香港前途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中國前途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按次計算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一兩制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十大內地及台灣政治人物評分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最新數據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7"/>
              </a:rPr>
              <a:t>市民對台灣獨立的意見  (半年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8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兩岸統一的意見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討論項目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1337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調查與社會發展的關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網站 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發揮民意力量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發揚專業精神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開拓人民力量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謝謝！歡迎提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民意調查與社會共識：講座大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086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傳媒處理民意調查的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香港民情狀況：分化與共識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與社會發展：介紹「民意網站」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發揮民意力量、專業力量、人民力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自由討論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563904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公報原文：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站內中文公報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1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上網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站內英文公報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1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上網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絡集體電郵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:21 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發出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本地傳媒集體傳真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4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發出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電子傳媒報導：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商業電台黃昏新聞 （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18:00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黃昏新聞 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9:00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r>
              <a:rPr b="0" lang="zh-TW" sz="800" spc="-1" strike="noStrike">
                <a:solidFill>
                  <a:srgbClr val="0033cc"/>
                </a:solidFill>
                <a:latin typeface="Times New Roman"/>
                <a:ea typeface="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亞洲電視黃昏新聞 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8:00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057400"/>
            <a:ext cx="601956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. 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網上傳媒報導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新城電台新聞網站 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15:35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商業電台新聞網站 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5:36, 16:0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新聞網站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#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6:09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新聞網站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#2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8:5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即時新聞網站 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6:44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05120"/>
            <a:ext cx="55623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4. 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報章報導：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蘋果日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文匯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信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慧科新聞資料庫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Wisenews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蘋果日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6" name="2a_20040303_Apple%20Daily_中央形象受損港人信任度急趺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32600" cy="381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96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Wen Wei 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1" name="2a_20040303_Wen%20Wei%20Pao_調查指特首民望微趺.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明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2a_20040303_Ming%20Pao_港大民調：市民對中央信任度下趺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48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信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" name="2a_20040303_HK%20Economic%20Journal_港人對中央政府信任度急趺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17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4T04:02:04Z</dcterms:modified>
  <cp:revision>574</cp:revision>
  <dc:subject/>
  <dc:title>無投影片標題</dc:title>
</cp:coreProperties>
</file>