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761-8271-4487-92D2-98CF97B4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CD3-C4F0-4C05-BCAC-8BBC7033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E83-395A-4A86-9C73-576E94AF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818-6C87-4692-B1B4-6BA6569B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475-9EB0-4B92-AEBA-455A4061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B92-9441-4CAD-AAA0-47E0F72C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CE7-C6BC-4D99-B86E-60475E58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AFE-4FF9-41F9-8124-26C9A6A3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9BF-01EF-49D7-B10C-DB8ABFA0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0D9-1F05-416C-B833-A7A846A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1F0-712C-4317-A0E7-1C0D62E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945-F315-4B4B-9422-C238C39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01BF-4E89-4601-8D62-391B3DA870DA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poll02.gif" TargetMode="External"/><Relationship Id="rId2" Type="http://schemas.openxmlformats.org/officeDocument/2006/relationships/hyperlink" Target="http://hkupop.hku.hk/english/resources/workshops/20040304/poll02.gif" TargetMode="External"/><Relationship Id="rId3" Type="http://schemas.openxmlformats.org/officeDocument/2006/relationships/hyperlink" Target="http://hkupop.hku.hk/english/resources/workshops/20040304/poll02.gif" TargetMode="External"/><Relationship Id="rId4" Type="http://schemas.openxmlformats.org/officeDocument/2006/relationships/hyperlink" Target="http://hkupop.hku.hk/english/resources/workshops/20040304/poll02.gif" TargetMode="External"/><Relationship Id="rId5" Type="http://schemas.openxmlformats.org/officeDocument/2006/relationships/hyperlink" Target="http://hkupop.hku.hk/english/resources/workshops/20040304/poll02.gif" TargetMode="External"/><Relationship Id="rId6" Type="http://schemas.openxmlformats.org/officeDocument/2006/relationships/hyperlink" Target="http://hkupop.hku.hk/english/resources/workshops/20040304/poll07.gif" TargetMode="External"/><Relationship Id="rId7" Type="http://schemas.openxmlformats.org/officeDocument/2006/relationships/hyperlink" Target="http://hkupop.hku.hk/english/resources/workshops/20040304/poll14.gif" TargetMode="External"/><Relationship Id="rId8" Type="http://schemas.openxmlformats.org/officeDocument/2006/relationships/hyperlink" Target="http://hkupop.hku.hk/english/resources/workshops/20040304/poll14.gif" TargetMode="External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cr.mp3" TargetMode="External"/><Relationship Id="rId2" Type="http://schemas.openxmlformats.org/officeDocument/2006/relationships/hyperlink" Target="http://hkupop.hku.hk/english/resources/workshops/20040304/cr.mp3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metro.html" TargetMode="External"/><Relationship Id="rId2" Type="http://schemas.openxmlformats.org/officeDocument/2006/relationships/hyperlink" Target="http://hkupop.hku.hk/english/resources/workshops/20040304/metro.html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wisenews.htm" TargetMode="External"/><Relationship Id="rId2" Type="http://schemas.openxmlformats.org/officeDocument/2006/relationships/hyperlink" Target="http://hkupop.hku.hk/english/resources/workshops/20040304/wisenews.htm" TargetMode="External"/><Relationship Id="rId3" Type="http://schemas.openxmlformats.org/officeDocument/2006/relationships/hyperlink" Target="http://hkupop.hku.hk/english/resources/workshops/20040304/wisenews.ht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Lecture at Hong Kong Chu Hai College</a:t>
            </a:r>
            <a:br>
              <a:rPr sz="2800"/>
            </a:b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Opinion Polls: Implications for Social Consensus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香港珠海書院講座：民意調查與社會共識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4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South China Morning Post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另類民意調查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Times New Roman"/>
              </a:rPr>
              <a:t>香港民情狀況（概括論述）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162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特首董建華評分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董建華出任特首的假設投票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特區政府的信任程度及市民對北京中央政府的信任程度 – 綜合圖表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6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中國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按次計算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一兩制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十大內地及台灣政治人物評分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最新數據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7"/>
              </a:rPr>
              <a:t>市民對台灣獨立的意見  (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8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兩岸統一的意見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討論項目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1337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調查與社會發展的關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網站 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揮民意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揚專業精神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開拓人民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謝謝！歡迎提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民意調查與社會共識：講座大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086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傳媒處理民意調查的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香港民情狀況：分化與共識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與社會發展：介紹「民意網站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發揮民意力量、專業力量、人民力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公報原文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中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英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絡集體電郵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:21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發出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本地傳媒集體傳真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4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發出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電子傳媒報導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商業電台黃昏新聞 （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8:00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9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r>
              <a:rPr b="0" lang="zh-TW" sz="800" spc="-1" strike="noStrike">
                <a:solidFill>
                  <a:srgbClr val="0033cc"/>
                </a:solidFill>
                <a:latin typeface="Times New Roman"/>
                <a:ea typeface="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亞洲電視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8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057400"/>
            <a:ext cx="601956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網上傳媒報導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新城電台新聞網站 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5:35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商業電台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5:36, 16:0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09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2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8:5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即時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44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報章報導：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慧科新聞資料庫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蘋果日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信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4T04:02:04Z</dcterms:modified>
  <cp:revision>574</cp:revision>
  <dc:subject/>
  <dc:title>無投影片標題</dc:title>
</cp:coreProperties>
</file>