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CA1-00CB-4D5E-A5C9-B256BE4D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6539-516D-4FDC-856A-417A4083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629-9424-4B04-ADD5-81FEF42B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E772-96D5-48B6-ACC8-E26482CF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060F-7ED3-4D02-ACF7-3F546570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D533-02F5-48EF-9341-E8809538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012-ADD4-478C-97CD-C05AAB5F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FCD-78C2-4B71-A71A-B8D9E304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D62-099E-4ACF-B21E-F5D3017A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C7C-7317-4668-8CAC-01D0C569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A67-4DD5-4DC3-ACB4-87DD41A6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35F-D71E-4A90-9748-21E7A7B7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3AF3-6B2F-43FE-9894-B933A1CE4F20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10/poll02.gif" TargetMode="Externa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3/20040302_bulkmail.html" TargetMode="External"/><Relationship Id="rId2" Type="http://schemas.openxmlformats.org/officeDocument/2006/relationships/hyperlink" Target="http://hkupop.hku.hk/english/resources/workshops/20040310/atv02.mpg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10/cr.html" TargetMode="External"/><Relationship Id="rId2" Type="http://schemas.openxmlformats.org/officeDocument/2006/relationships/hyperlink" Target="http://hkupop.hku.hk/english/resources/workshops/20040310/rthk01.html" TargetMode="External"/><Relationship Id="rId3" Type="http://schemas.openxmlformats.org/officeDocument/2006/relationships/hyperlink" Target="http://hkupop.hku.hk/english/resources/workshops/20040310/rthk02.html" TargetMode="External"/><Relationship Id="rId4" Type="http://schemas.openxmlformats.org/officeDocument/2006/relationships/hyperlink" Target="http://hkupop.hku.hk/english/resources/workshops/20040310/mingpao.html" TargetMode="External"/><Relationship Id="rId5" Type="http://schemas.openxmlformats.org/officeDocument/2006/relationships/hyperlink" Target="http://hkupop.hku.hk/english/resources/workshops/20040310/mingpao.html" TargetMode="External"/><Relationship Id="rId6" Type="http://schemas.openxmlformats.org/officeDocument/2006/relationships/hyperlink" Target="http://hkupop.hku.hk/english/resources/workshops/20040310/mingpao.html" TargetMode="External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10/wisenews.html" TargetMode="External"/><Relationship Id="rId2" Type="http://schemas.openxmlformats.org/officeDocument/2006/relationships/hyperlink" Target="http://hkupop.hku.hk/english/resources/workshops/20040310/wisenews.html" TargetMode="External"/><Relationship Id="rId3" Type="http://schemas.openxmlformats.org/officeDocument/2006/relationships/hyperlink" Target="http://hkupop.hku.hk/english/resources/workshops/20040310/wisenews.html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edia Training and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Public Opinion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Workshop:</a:t>
            </a:r>
            <a:br>
              <a:rPr sz="28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Session on Public Opinion</a:t>
            </a:r>
            <a:br>
              <a:rPr sz="2800"/>
            </a:br>
            <a:br>
              <a:rPr sz="1000"/>
            </a:b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傳媒訓練及民意研究工作坊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：民意</a:t>
            </a: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研究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部份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51814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10-3-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outh China Morning Post  (3-3-20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3" name="20040303_SCMP_Beijing%20hits%20at%20US%20over%20Democrats'%20Washington%20trop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33084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Ming Pao: Another Survey  (3-3-2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7" name="20040303_Ming%20Pao_李：北京如邀訪　取消赴美.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447920"/>
            <a:ext cx="7848720" cy="54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Rating of CE (half-yearly average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Hypothetical voting on Tung Chee-hwa as C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People's trust in the HKSAR Government and Beijing Central Government - Combined charts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People's confidence in HK's future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People's confidence in China's future (per poll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People's confidence in “one country, two systems”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Rating of the top ten political figures in Mainland China and Taiwan (latest figures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Opinion on independence of Taiwan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Opinion on cross-strait reunification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and Government Polic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Feedback to policy proposals, via Green Papers, White Papers, consultation documents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genda setting, especially via phone-in programmes, letters to the editor, petitions, demonstration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Participation in the electoral proc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Indirect representation in counci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Referend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Please visit our POP SIT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Questions welcome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3623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HKU POP Press Release of 9 March 200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HKU POP Press Release of 2 March 200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’s treatment of the poll find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and government polic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 &amp; 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KU POP Press Releas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1676520"/>
            <a:ext cx="563904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The originals: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OP Release of 9-3-2004 in Chines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OP Release of 2-3-2004 in Chinese (14:21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OP </a:t>
            </a:r>
            <a:r>
              <a:rPr b="0" lang="zh-TW" sz="2000" spc="-1" strike="noStrike" u="sng">
                <a:solidFill>
                  <a:srgbClr val="0033cc"/>
                </a:solidFill>
                <a:uFillTx/>
                <a:latin typeface="Times New Roman"/>
                <a:ea typeface=""/>
              </a:rPr>
              <a:t>bulmail of 2-3-2004 (14:21)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OP also sent bulkfax to the media (14:24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Electronic news media: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Commercial Radio evening news  (18:00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THK evening news  (19:00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Asia TV evening news  (18:00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KU POP Press Releas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057400"/>
            <a:ext cx="670536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.  On-line news media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Metro Finance website (15:35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Commercial Radio website  (15:36, 16:01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RTHK website #1  (16:09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3"/>
              </a:rPr>
              <a:t>RTHK website #2  (18:51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4"/>
              </a:rPr>
              <a:t>Ming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5"/>
              </a:rPr>
              <a:t> Pao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6"/>
              </a:rPr>
              <a:t> website  (16:44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KU POP Press Releas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1905120"/>
            <a:ext cx="556236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4.  Print media: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Apple Daily (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蘋果日報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Wen Wei Po (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文匯報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Ming Pao (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明報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HK Economic Journal (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信報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South China Morning Po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Wisenews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 (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3"/>
              </a:rPr>
              <a:t>慧科新聞資料庫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pple Daily  (3-3-2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37160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6" name="2a_20040303_Apple%20Daily_中央形象受損港人信任度急趺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032600" cy="3811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0400" y="5962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Wen Wei P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1" name="2a_20040303_Wen%20Wei%20Pao_調查指特首民望微趺.1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2012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Ming Pao  (3-3-2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5" name="2a_20040303_Ming%20Pao_港大民調：市民對中央信任度下趺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4868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ong Kong Economic Journal  (3-3-2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9" name="2a_20040303_HK%20Economic%20Journal_港人對中央政府信任度急趺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517480" cy="52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3-09T11:10:09Z</dcterms:modified>
  <cp:revision>582</cp:revision>
  <dc:subject/>
  <dc:title>無投影片標題</dc:title>
</cp:coreProperties>
</file>