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688-9FE1-42A2-81D7-E39417AE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4FE-561A-4F60-A28D-D44F8B7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49B-E030-4BE6-B135-3B33E9CD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3A2-1F65-40B9-8D87-2841D08D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A73-CA1C-4E7E-9FE8-F516224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174-1C61-4972-AF2B-1BFFEB7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87A-3316-4B8C-A28F-DC50858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A1A-6D15-40BE-BA48-7C916304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46E-BF0F-4C1D-A7AB-2807B7C7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405-2E4B-4D12-9DD2-8202006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4AC-9E60-4A94-81BB-293866B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59F-C851-4DD7-ACFA-FC85B72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B87-E5BB-4915-9882-22C5783AFB1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poll02.gif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3/20040302_bulkmail.html" TargetMode="External"/><Relationship Id="rId2" Type="http://schemas.openxmlformats.org/officeDocument/2006/relationships/hyperlink" Target="http://hkupop.hku.hk/english/resources/workshops/20040310/atv02.mpg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cr.html" TargetMode="External"/><Relationship Id="rId2" Type="http://schemas.openxmlformats.org/officeDocument/2006/relationships/hyperlink" Target="http://hkupop.hku.hk/english/resources/workshops/20040310/rthk01.html" TargetMode="External"/><Relationship Id="rId3" Type="http://schemas.openxmlformats.org/officeDocument/2006/relationships/hyperlink" Target="http://hkupop.hku.hk/english/resources/workshops/20040310/rthk02.html" TargetMode="External"/><Relationship Id="rId4" Type="http://schemas.openxmlformats.org/officeDocument/2006/relationships/hyperlink" Target="http://hkupop.hku.hk/english/resources/workshops/20040310/mingpao.html" TargetMode="External"/><Relationship Id="rId5" Type="http://schemas.openxmlformats.org/officeDocument/2006/relationships/hyperlink" Target="http://hkupop.hku.hk/english/resources/workshops/20040310/mingpao.html" TargetMode="External"/><Relationship Id="rId6" Type="http://schemas.openxmlformats.org/officeDocument/2006/relationships/hyperlink" Target="http://hkupop.hku.hk/english/resources/workshops/20040310/mingpao.html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wisenews.html" TargetMode="External"/><Relationship Id="rId2" Type="http://schemas.openxmlformats.org/officeDocument/2006/relationships/hyperlink" Target="http://hkupop.hku.hk/english/resources/workshops/20040310/wisenews.html" TargetMode="External"/><Relationship Id="rId3" Type="http://schemas.openxmlformats.org/officeDocument/2006/relationships/hyperlink" Target="http://hkupop.hku.hk/english/resources/workshops/20040310/wisenews.html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0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outh China Morning Post  (3-3-20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: Another Surve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84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“one country, two systems”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9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The originals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9-3-2004 in Chine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2-3-2004 in Chinese (14:2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bulmail of 2-3-2004 (14:21)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also sent bulkfax to the media (14:24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Electronic news media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ommercial Radio evening news  (18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evening news  (19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Asia TV evening news  (18:00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05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On-line news medi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etro Finance website (15:35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Commercial Radio website  (15:36, 16:0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RTHK website #1  (16:09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RTHK website #2  (18:5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Ming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5"/>
              </a:rPr>
              <a:t> Pao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6"/>
              </a:rPr>
              <a:t> website  (16:4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Print media: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Apple Daily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Wen Wei P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ing Pa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HK Economic Journal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慧科新聞資料庫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pple Dail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ong Kong Economic Journal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9T11:10:09Z</dcterms:modified>
  <cp:revision>582</cp:revision>
  <dc:subject/>
  <dc:title>無投影片標題</dc:title>
</cp:coreProperties>
</file>