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B40C2E-5C61-4AE1-98D9-1744967FA5A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4C6-4FA5-4AFA-A528-4CD61456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F8D-6D14-4B1A-AFA4-54EB9512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D61-BFAD-4EE8-9E8D-0EDD6880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17B1-7945-4BB1-969D-4E53C486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D177-9047-4E1E-B6D8-49127C25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D9E7-0E16-4E47-96CC-2BE8C84B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237C-0ED4-4215-8146-D8BFA61F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297E-AD21-440D-BB85-DCA8B307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DC1D-F57F-42A8-B7C3-7FBC27C8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EA95-AF75-4B17-A279-A841D5F2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66B7-A8F3-44F1-8033-9B4F32D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E24-3EEB-49C9-AA03-6703EDC9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BC79-5DD6-4CEE-9AA2-4651C647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836F-1CFD-4B07-A4E4-31958834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E430-68BC-4ED8-8BC4-21DE5067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D7C4-B7E2-4C92-AFAF-3D01C706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B6BB-4CB4-4849-9315-C9A73E41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162-2B9D-4B3E-9278-5BB62F92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79B-CDD9-4ED6-A4AB-05B2B72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8A8-A084-4968-A05F-D8FA9013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91F-B7CC-4C6D-8832-AE07C6C1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5DD-F99D-4B46-BB52-6CC8D8A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EF4-1910-4BAC-A6B9-8613175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E4E-F09B-4E01-A440-04D8DEE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EFB-8829-4038-81FE-004675B7DE7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BAC5-7BFD-46E8-AD4D-011FECDA2EB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87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ILOP, 2004) </a:t>
            </a: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RKSHOP ON SOCIAL RESEACH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研究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31/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2004, 1100-1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17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18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inion Surveys and HKU POP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 press release of 25 May 2004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Press release in Chinese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s release in English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mail via the POP Network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fax to all media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THK news,162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g Pao website, 1558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VB story, 183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V story, 23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2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DISCUSS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3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PRESENT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FIN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MARK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Student Research Te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eam of volunteer student researchers supported by P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opportunities for students to learn, organize and practice social re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data for public consumption and academic stud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DC03 – 23/11/03, pre-election observations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an1 – 1/1/04 – head counts of New Year R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TW04 – 17-20/3/04, a study trip to Tai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SU04 – opinion survey of HKU stud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un4 – provides support for head counts at June 4 candlelight vigil, and for on-site and on-line surv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LC04 – studies on LC election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 again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ttp://hkupop.hku.hk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Corporate values and professional eth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social research, opinion surveys, and HKU P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Group discussions on three study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Short presentation by particip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nsified Learning Opportunity Programm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OP is designed for students who aspire to become visionary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spons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esponsive leaders with strong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commitment to society and lif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685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Education Unit, H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Values and Professional Ethics Programme (6 compan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Research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,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s,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HKU PO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1:29Z</dcterms:modified>
  <cp:revision>121</cp:revision>
  <dc:subject/>
  <dc:title>Project Overview</dc:title>
</cp:coreProperties>
</file>