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75148C-8A96-4648-970A-6AFD241F437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D22-9EE0-48B2-BA9A-27A1FF33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328-19A1-42C6-92AA-6347092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C52-2EE5-43E7-B5DD-C44AC942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F56-4923-4DD7-8E98-C825053C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B6D-AC83-4AA8-A944-000C5756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79C7-6F93-491B-881E-2EF10F7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6D07-D871-4532-9C7C-C7201971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341-9CC9-42C2-90B0-590D945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A67B-91B3-46F6-95CA-6522F54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816-6FEA-4D35-B384-5BF675C4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4DF4-8AC8-4BF4-BB52-0D09B645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372-7A6B-4338-9E9B-B5B1E79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C4D6-4F95-49C2-B8FC-9321FBD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8E7-6514-443F-9233-4111B8D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6831-9C01-4EE5-869C-E8D167C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643-F259-47C2-87D6-746DC51B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C61C-A14F-47D8-9DC5-DD9509B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362-65D0-4262-B719-D6043C6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53D-B984-4EA5-A71A-72B5738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FCC-288B-4170-9145-05B6DEB5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11F-B2D0-43C2-8ADA-CD31C4BC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EA2-84E7-4CF5-B2F4-3B02C24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D49-B888-4231-9650-9000B2D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5B4-DB96-4302-8ADC-C5A8BE3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8811-CD31-4E43-93CA-7C8AE162F7D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9837-C853-47CD-B9BF-847670D8BDB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87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LOP, 2004) 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KSHOP ON SOCIAL RES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研究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1/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004, 1100-1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17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inion Surveys and HKU PO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 press release of 25 May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ress release in Chinese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s release in English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mail via the POP Network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fax to all media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THK news,162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Pao website, 155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B story, 183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V story, 23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2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DISCUS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3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PRES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FI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MARK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Student Research Te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am of volunteer student researchers supported by P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opportunities for students to learn, organize and practice social re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ata for public consumption and academic stu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DC03 – 23/11/03, pre-election observations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an1 – 1/1/04 – head counts of New Year R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W04 – 17-20/3/04, a study trip to Tai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04 – opinion survey of HKU stud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un4 – provides support for head counts at June 4 candlelight vigil, and for on-site and on-line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LC04 – studies on LC election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 again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ttp://hkupop.hku.hk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Corporate values and professional eth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social research, opinion surveys, and HKU 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Group discussions on three study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Short presentation by particip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nsified Learning Opportunity Programm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OP is designed for students who aspire to become visionary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ponsive leaders with stro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ommitment to society and lif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ducation Unit, H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Values and Professional Ethics Programme (6 compan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search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,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HKU PO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1:29Z</dcterms:modified>
  <cp:revision>121</cp:revision>
  <dc:subject/>
  <dc:title>Project Overview</dc:title>
</cp:coreProperties>
</file>