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266FF3-0275-4C24-89A7-264E1DB3A56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99C-7103-4434-9EEF-E62E44B8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0BF-31CC-4921-B771-F2080B3D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BA7-6821-4205-9B0D-2C8EF21A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1FC-099D-4E47-9EAC-0FC30B5B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7C6E-DB60-435D-ABE0-F9E58745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D85D-BAED-4863-8D93-699761B3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150A-DB6F-4BC4-8196-48D55603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8C5C-197C-41DD-A8FC-B3F947FF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1A59-7B41-4778-AF54-54AADFB4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EE90-58D1-40B5-BDFC-50C678B4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E7BA-58FF-4CFB-B9C2-A7625B88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3A9-3F14-4715-9ED8-7A84A0E9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2DEC-F4A5-443E-A695-4E9EAD7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5B56-FB68-4D07-BC51-EA74E8C0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6122-ABDD-4752-867B-D32EF06B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984B-488D-45A8-96AB-65B992B7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D413-5D63-420F-8AC3-62A0B06B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744-1304-46AB-9222-FE68D6A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445-58FC-4232-B76D-F573E571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70D-5374-4172-A0F4-7814E47D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C62-5386-4656-8113-CD4D6A96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1D5-008F-4183-BEBF-346192DC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731-874C-4D7C-9F4A-C4FA0D44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312-A96D-46FE-BC10-9D7A2D16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5ECB-8B0C-4149-95D3-23A6AC3F52FA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A819-D7C2-4EC4-839B-0CE882528B2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Shiu Socio-Economic Study Project 200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4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RKSHOP ON SOCIAL SURVEYS AND FIELD OBSERVATION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調研、考察理論及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76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/6/2004, 1830-2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20040616_Apple%20Daily_港人反台獨比率微升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696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n Wei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20040616_Wen%20Wei%20Pao_民調反台獨人數上升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20040616_Sing%20Pao_市民對兩岸統一信心回升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019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ro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20040616_都市日報_調查指港人多反對台獨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9718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5638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andard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20040616_HK%20Standard_SAR%20model%20takes%20hit%20in%20poll%20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8483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eld Observ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oject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台灣總統大選研習團</a:t>
            </a: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200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大學學生會、香港大學學生研究隊主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透過到台灣觀選，讓同學感受大選氣氛，了解台灣政黨發展以及台灣學界、傳媒和民眾對大選的關注；從而引發同學對香港政黨發展，政制改革的探討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7-20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同學 ＋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單位代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eld Observation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uthor has been to Taiwan to observe the elections there for many years, he has always kept an eye on the development of the public opinion survey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exit poll of the presidential election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observed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edia in Taiwan is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cs in Taiwan also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ivil service also not neutral civil servi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serious lack of independent middle force in Taiwan society, which is not good for democratic develop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 result, they cannot provide a credible middle force to socie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Column Article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adequate Support Mechanisms in Taiwan’s Democratic System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「台灣民主制度配套不足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ng Kong Economic Journ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hinese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glish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Basics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27432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ase of public opinion surv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 One case of field obser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s of social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Questions and answ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5: Closing rema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5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5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estions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http:/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ckground Read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/hkupop.hku.h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 Public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Findings were Dispatch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 press release of 15 June 20:0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Chinese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English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mail via the POP Network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fax to all media, 13:5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THK news,15:1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g Pao website, 15:3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21T02:37:17Z</dcterms:modified>
  <cp:revision>100</cp:revision>
  <dc:subject/>
  <dc:title>Project Overview</dc:title>
</cp:coreProperties>
</file>