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5E7B1A-FC68-4393-8311-28F25CC290C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C5C-410B-46B9-89BF-F976EA97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867-45A2-4286-A3DE-6F66DEE5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2459-0614-4628-9F9F-F02F5608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D70-8B12-4D12-B299-D4CCE8FA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D0E6-30FC-4438-BF82-F29809AE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8230-06B5-4ED7-8AC8-5B3C28C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87E4-6145-4E69-9D40-977B1219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D358-BF96-49EF-8543-BB0F5A22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C3C0-E55E-4AE1-AA51-1F5AF3E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DE95-0904-40FC-8F8E-02B2C500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909-8600-4DF8-A234-66C5A456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C5E-6C72-4DA8-9F5E-A28FE1E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45E9-C73E-4A58-8234-825C43C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71A9-D463-40B0-8A9C-2B50B15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FA51-EBE2-4A43-8F2B-A02F54A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2FD2-82A8-47BF-BE9B-B7ADD938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1428-6FDD-4F3B-BC68-8EC6BF3B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35A-CED8-485D-A22C-7D2A83BE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D11-6C65-4C77-B506-7D3376D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F15-53D9-47A5-AA68-645EDC26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1B1-997A-4781-87B0-E43401E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EE2-DEE6-454E-B023-6762C9C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A39-07A7-4951-B900-4C1E48F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7C8-6813-48F2-8E9A-ECC0E08D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74C-5E8E-4D51-916B-B864BB25CFA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5AA1-4523-43D2-A34E-3EA99AFCA29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Shiu Socio-Economic Study Project 200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4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SHOP ON SOCIAL SURVEYS AND FIELD OBSERVATION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、考察理論及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/6/2004, 1830-2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040616_Apple%20Daily_港人反台獨比率微升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n Wei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20040616_Wen%20Wei%20Pao_民調反台獨人數上升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20040616_Sing%20Pao_市民對兩岸統一信心回升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ro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20040616_都市日報_調查指港人多反對台獨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71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ndard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040616_HK%20Standard_SAR%20model%20takes%20hit%20in%20poll%20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8483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Observ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大學學生會、香港大學學生研究隊主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7-20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同學 ＋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單位代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hor has been to Taiwan to observe the elections there for many years, he has always kept an eye on the development of the public opinion survey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xit poll of the presidential election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observed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dia in Taiwan is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s in Taiwan also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ivil service also not neutral civil servi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serious lack of independent middle force in Taiwan society, which is not good for democratic develo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they cannot provide a credible middle force to socie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adequate Support Mechanisms in Taiwan’s Democratic System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「台灣民主制度配套不足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g Kong Economic Jour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hinese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glish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Basics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ase of public opinion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 One case of field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s of social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Questions and ans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5: Closing rema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5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5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estions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http:/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kground Read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/hkupop.hku.h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 Public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Findings were Dispatch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 press release of 15 June 20: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Chinese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English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mail via the POP Network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fax to all media, 13:5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THK news,15:1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g Pao website, 15:3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21T02:37:17Z</dcterms:modified>
  <cp:revision>100</cp:revision>
  <dc:subject/>
  <dc:title>Project Overview</dc:title>
</cp:coreProperties>
</file>