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16A47A-9181-47C3-9F0F-8FE11E2C5E4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427-8433-43FE-A043-246173F4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833-F8CA-4507-9F67-AD6270EC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9B9-C7B9-4CCE-BFE5-24563925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FDC-5AFC-421D-BD97-B75B36D8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4229-3B2A-4C86-9D04-F16A2246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E12F-E431-464C-B8B6-A0C9A17A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8993-76FB-4CB6-BB0A-CEFBA5F6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9D8E-8249-46B4-8AD6-17B6ACDC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813E-6938-4947-9C19-7014C456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1D20-3839-4CD0-9E09-1F8E7963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678D-B0A9-4A0C-AB45-A7202591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991-8EC6-42B4-B159-1167B9ED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C6A9-00BB-447A-B993-CE695724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D812-78C7-4B44-B287-E0D0B08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0772-9BDB-48FF-9E5C-B24F96C8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68AA-C30A-4546-A1E5-21FD8B62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92AC-A248-48D4-A8D2-A722BAEC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DFF-2DDD-4494-90C1-A6CD7AA9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376-6B97-4D6E-812B-0A21E693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689-0806-430A-B461-A84BDEF8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0F4-6C44-4B49-9EB4-9DFC7E2E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DE5-2B1A-411F-832F-B97A92F8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92C-6963-488C-9029-DF53681F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F64-3176-49E9-88BE-66CED64E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37EC-FC0A-49CA-945E-22EA4D84CA74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16EF-9010-47C6-9891-47C1CC7B5A4C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lease/release197.html" TargetMode="External"/><Relationship Id="rId2" Type="http://schemas.openxmlformats.org/officeDocument/2006/relationships/hyperlink" Target="http://hkupop.hku.hk/english/release/release197.html" TargetMode="External"/><Relationship Id="rId3" Type="http://schemas.openxmlformats.org/officeDocument/2006/relationships/hyperlink" Target="http://hkupop.hku.hk/english/resources/workshops/20040728/20040727_bulkmail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84836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760572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香港大學民意研究計劃</a:t>
            </a:r>
            <a:br>
              <a:rPr sz="28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調查與抽樣方法</a:t>
            </a:r>
            <a:br>
              <a:rPr sz="3600"/>
            </a:b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2004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年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7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月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28-29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日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114800"/>
            <a:ext cx="73915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W Kwong-pok Cliff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周廣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OI Pui-shing Tony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蔡沛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Ka-man Carmen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陳嘉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15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ff"/>
                </a:solidFill>
                <a:latin typeface="Arial"/>
              </a:rPr>
              <a:t>位於香港大學明華綜合大樓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ff"/>
                </a:solidFill>
                <a:latin typeface="Arial"/>
              </a:rPr>
              <a:t>的電話訪問中心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hku1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hku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58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位於九龍漾日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的電話訪問中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ahab01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ahb02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hab5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hab6" descr=""/>
          <p:cNvPicPr/>
          <p:nvPr/>
        </p:nvPicPr>
        <p:blipFill>
          <a:blip r:embed="rId1"/>
          <a:stretch/>
        </p:blipFill>
        <p:spPr>
          <a:xfrm>
            <a:off x="205740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hab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hab1" descr=""/>
          <p:cNvPicPr/>
          <p:nvPr/>
        </p:nvPicPr>
        <p:blipFill>
          <a:blip r:embed="rId1"/>
          <a:stretch/>
        </p:blipFill>
        <p:spPr>
          <a:xfrm>
            <a:off x="0" y="12600"/>
            <a:ext cx="9296280" cy="70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活 動 內 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22856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講座部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意研究計劃 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日新聞公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「民意網站」簡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電話調查抽樣方法簡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參觀部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介紹電腦輔助電話調查系統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電話訪問示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圖片展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hab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hab4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666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研究計劃成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出席論壇、研討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及新聞發佈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resscon1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resscon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resscon8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resscon9" descr=""/>
          <p:cNvPicPr/>
          <p:nvPr/>
        </p:nvPicPr>
        <p:blipFill>
          <a:blip r:embed="rId1"/>
          <a:stretch/>
        </p:blipFill>
        <p:spPr>
          <a:xfrm>
            <a:off x="0" y="-355680"/>
            <a:ext cx="10744200" cy="722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resscon10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resscon11" descr=""/>
          <p:cNvPicPr/>
          <p:nvPr/>
        </p:nvPicPr>
        <p:blipFill>
          <a:blip r:embed="rId1"/>
          <a:stretch/>
        </p:blipFill>
        <p:spPr>
          <a:xfrm>
            <a:off x="-380880" y="25560"/>
            <a:ext cx="998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190512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謝謝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民意研究計劃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2004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27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日 新聞公報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公報原文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民意網站內中文公報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上網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民意網站內英文公報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上網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民意網絡集體電郵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發出）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本地傳媒集體傳真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22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發出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「民意網站」簡介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最新內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新聞公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意調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研究報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意專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網上資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檔案資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關於我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訪者留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582560"/>
            <a:ext cx="66294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抽樣方法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電話號碼抽樣方法是從住宅電話簿中首先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隨機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方法抽取「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種籽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」號碼，再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加一減一加二減二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的方法產生另一組號碼，然後在混合後再過濾重覆號碼，再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隨機排列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方式排次成為最後樣本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抽取住戶成員的方法是由訪員在成功接觸目標住戶後，用「即將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出生日期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」的方法由當時在家的成員抽取其中一人進行訪問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抽樣方法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71629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各次調查的成功樣本數目都在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以上。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2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月份起，成功樣本數目更增加至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1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以上，兼且根據香港人口的年齡性別分佈加權調整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所有調查都是在嚴格督導下由訪員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親身進行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電話訪問，對象皆為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18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歲或以上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之操粵語的香港市民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簡單總結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7053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一般而論，成功樣本數目達到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便算可以接受，達到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1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個可算符合國際標準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科學化的抽樣方法比樣本數目更加重要，因為可以用統計理論推算抽樣誤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因此，一般街頭訪問或音頻互動電話錄音訪問不可接受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民意研究者和傳媒工作者都有責任維護民意調查的專業水平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2514600"/>
            <a:ext cx="7391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歡迎瀏覽 香港大學 民意網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bcbcb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109960" y="4191120"/>
            <a:ext cx="63482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我們的工作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8-17T04:06:46Z</dcterms:modified>
  <cp:revision>137</cp:revision>
  <dc:subject/>
  <dc:title>Project Overview</dc:title>
</cp:coreProperties>
</file>