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BA03F8-8BFC-4CC3-A552-3EA8FC2A4DB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D89-2563-40DF-A8DC-E024F6B9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B39-4352-4635-977D-2F7C90D8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EAF1-8868-4A71-A008-397D9430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9FB-79D8-4748-A01C-E4B68994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21C9-7947-4BC2-ABBF-0818CA48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A2E2-2968-4EB5-9541-5F2A8E3E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F0C2-484A-4059-B397-C8E53402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8531-6013-435A-A8F1-871A49FF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C362-973F-4F2A-8C0E-B0541A90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CE76-52FF-4C89-93F6-A89DCDD0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85D7-25C2-471C-BE87-81F69BAE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94E8-02F2-4EEF-9DD9-D063A09A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B111-7CD7-419F-9C07-4CE3E2C3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40BC-930B-4C0B-B38B-8B15D2E9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2CD9-751F-44BC-B01F-9F09F2C7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9DAE-D690-4770-B670-C0783ED9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82AA-DE5B-475E-B8B6-263E4BD3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ACF-63CC-4934-8CA0-7333AF85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AEC-61E1-42CE-9E9C-FFE17038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014-9125-4AD9-BDB8-E02C2B0F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BF1B-B2C2-43A5-A669-8C87BF93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5D48-B394-4DD2-A74A-573D4937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142-F7A6-47AC-8C9B-6C29A13E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E67-5C28-42F2-BA96-03AB667E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366B-4B25-4810-AEBC-6B7200CFA870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C90D-F7CE-4919-A650-740114BF27CE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lease/release197.html" TargetMode="External"/><Relationship Id="rId2" Type="http://schemas.openxmlformats.org/officeDocument/2006/relationships/hyperlink" Target="http://hkupop.hku.hk/english/release/release197.html" TargetMode="External"/><Relationship Id="rId3" Type="http://schemas.openxmlformats.org/officeDocument/2006/relationships/hyperlink" Target="http://hkupop.hku.hk/english/resources/workshops/20040728/20040727_bulkmail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84836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r" pos="760572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香港大學民意研究計劃</a:t>
            </a:r>
            <a:br>
              <a:rPr sz="28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民意調查與抽樣方法</a:t>
            </a:r>
            <a:br>
              <a:rPr sz="3600"/>
            </a:br>
            <a:br>
              <a:rPr sz="2400"/>
            </a:b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2004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年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7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月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28-29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日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114800"/>
            <a:ext cx="73915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W Kwong-pok Cliff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周廣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SOI Pui-shing Tony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蔡沛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 Ka-man Carmen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陳嘉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15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ff"/>
                </a:solidFill>
                <a:latin typeface="Arial"/>
              </a:rPr>
              <a:t>位於香港大學明華綜合大樓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ff"/>
                </a:solidFill>
                <a:latin typeface="Arial"/>
              </a:rPr>
              <a:t>的電話訪問中心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hku1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hku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58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位於九龍漾日居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的電話訪問中心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ahab01" descr=""/>
          <p:cNvPicPr/>
          <p:nvPr/>
        </p:nvPicPr>
        <p:blipFill>
          <a:blip r:embed="rId1"/>
          <a:stretch/>
        </p:blipFill>
        <p:spPr>
          <a:xfrm>
            <a:off x="196848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ahb02" descr=""/>
          <p:cNvPicPr/>
          <p:nvPr/>
        </p:nvPicPr>
        <p:blipFill>
          <a:blip r:embed="rId1"/>
          <a:stretch/>
        </p:blipFill>
        <p:spPr>
          <a:xfrm>
            <a:off x="196848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hab5" descr=""/>
          <p:cNvPicPr/>
          <p:nvPr/>
        </p:nvPicPr>
        <p:blipFill>
          <a:blip r:embed="rId1"/>
          <a:stretch/>
        </p:blipFill>
        <p:spPr>
          <a:xfrm>
            <a:off x="196848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hab6" descr=""/>
          <p:cNvPicPr/>
          <p:nvPr/>
        </p:nvPicPr>
        <p:blipFill>
          <a:blip r:embed="rId1"/>
          <a:stretch/>
        </p:blipFill>
        <p:spPr>
          <a:xfrm>
            <a:off x="205740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hab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hab1" descr=""/>
          <p:cNvPicPr/>
          <p:nvPr/>
        </p:nvPicPr>
        <p:blipFill>
          <a:blip r:embed="rId1"/>
          <a:stretch/>
        </p:blipFill>
        <p:spPr>
          <a:xfrm>
            <a:off x="0" y="12600"/>
            <a:ext cx="9296280" cy="70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活 動 內 容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228564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Times New Roman"/>
              </a:rPr>
              <a:t>講座部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民意研究計劃 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2004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日新聞公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「民意網站」簡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電話調查抽樣方法簡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Times New Roman"/>
              </a:rPr>
              <a:t>參觀部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介紹電腦輔助電話調查系統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電話訪問示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圖片展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hab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hab4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666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研究計劃成員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出席論壇、研討會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及新聞發佈會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resscon1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resscon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resscon8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resscon9" descr=""/>
          <p:cNvPicPr/>
          <p:nvPr/>
        </p:nvPicPr>
        <p:blipFill>
          <a:blip r:embed="rId1"/>
          <a:stretch/>
        </p:blipFill>
        <p:spPr>
          <a:xfrm>
            <a:off x="0" y="-355680"/>
            <a:ext cx="10744200" cy="722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resscon10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resscon11" descr=""/>
          <p:cNvPicPr/>
          <p:nvPr/>
        </p:nvPicPr>
        <p:blipFill>
          <a:blip r:embed="rId1"/>
          <a:stretch/>
        </p:blipFill>
        <p:spPr>
          <a:xfrm>
            <a:off x="-380880" y="25560"/>
            <a:ext cx="998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0720" y="190512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謝謝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民意研究計劃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2004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27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日 新聞公報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公報原文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民意網站內中文公報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14:14 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上網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hlinkClick r:id="rId2"/>
              </a:rPr>
              <a:t>民意網站內英文公報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14:14 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上網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hlinkClick r:id="rId3"/>
              </a:rPr>
              <a:t>民意網絡集體電郵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14:14 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發出）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本地傳媒集體傳真（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14:22 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發出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香港大學「民意網站」簡介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205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最新內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新聞公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民意調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研究報告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民意專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網上資源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檔案資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關於我們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訪者留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582560"/>
            <a:ext cx="66294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抽樣方法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電話號碼抽樣方法是從住宅電話簿中首先以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隨機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方法抽取「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種籽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」號碼，再以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加一減一加二減二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的方法產生另一組號碼，然後在混合後再過濾重覆號碼，再以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隨機排列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方式排次成為最後樣本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抽取住戶成員的方法是由訪員在成功接觸目標住戶後，用「即將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出生日期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」的方法由當時在家的成員抽取其中一人進行訪問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抽樣方法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716292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各次調查的成功樣本數目都在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5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以上。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20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年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5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月份起，成功樣本數目更增加至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10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以上，兼且根據香港人口的年齡性別分佈加權調整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所有調查都是在嚴格督導下由訪員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親身進行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電話訪問，對象皆為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18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歲或以上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之操粵語的香港市民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簡單總結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920" y="2437920"/>
            <a:ext cx="67053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一般而論，成功樣本數目達到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5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便算可以接受，達到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10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個可算符合國際標準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科學化的抽樣方法比樣本數目更加重要，因為可以用統計理論推算抽樣誤差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因此，一般街頭訪問或音頻互動電話錄音訪問不可接受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民意研究者和傳媒工作者都有責任維護民意調查的專業水平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2514600"/>
            <a:ext cx="7391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歡迎瀏覽 香港大學 民意網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bcbcb"/>
                </a:solidFill>
                <a:latin typeface="Times New Roman"/>
              </a:rPr>
              <a:t>香港大學民意研究計劃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109960" y="4191120"/>
            <a:ext cx="634824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imes New Roman"/>
              </a:rPr>
              <a:t>我們的工作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8-17T04:06:46Z</dcterms:modified>
  <cp:revision>137</cp:revision>
  <dc:subject/>
  <dc:title>Project Overview</dc:title>
</cp:coreProperties>
</file>