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8B678B-886B-4397-840E-DD1D667EBFE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E71-716A-45D2-A22A-F5A8A94B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732-6DDA-4387-B468-9F6BF44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E5F-6357-4024-B790-2672FB93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A7D-0A6E-4A00-BA24-EE242F9C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15D0-6A41-4A7B-B61F-2933369D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0C40-2E92-4F04-A9A9-737B9EA6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CB40-DEAB-42BD-BFC5-7BB66207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E57F-A416-4A45-9CC4-EC896137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2894-D000-497C-BDB9-25A905A5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822-1207-483A-8A90-CF36AC74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700F-6FA4-40EA-A0CC-E2848DD3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5019-B869-41D8-BC3B-912AFCD7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C7ED-7686-4AF2-A567-8016C104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712B-F682-423A-9F1B-46CD25A5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4948-6BD2-4D27-AFD8-5AD1D1FC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6487-3583-4AA8-83B7-583153F4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7862-329E-4868-9542-9FC002AB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1BA-D507-4613-8809-0FCB3890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D7E-CA43-49C6-A312-EF8D2B0E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058-BA12-4B18-86E7-1DCF1D68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233-5197-4A0F-BAB1-86B8B54A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1C9-729C-4556-AA3F-466BA3B9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20A-37E3-490F-BB66-EC494455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F8A-77B8-48FB-B380-A9170F1B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8F9A-6C9C-4047-BDB4-CF5543BE546D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78B4-B1F8-43F8-8ED1-3FC2F1934B56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g Kong’s New Politics: A Post-Election Analysis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香港政治新形勢：後選舉分析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Voter Preferences an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oters’ Views about LegCo’s Agenda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選民意向及選舉議題走勢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Public Opinion Programme, H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香港大學民意研究計劃主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/9/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KL East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d Li’s list never recovered from the plunge in mid-August, support appeared to have flowed to Alan Leo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Yuen Han’s support seems to be splitting with Albert Cheng and Chan Kam Lam combi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Kam Lam’s support rapidly surged in the last we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九龍東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李華明名單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後一沉不起，票源似乎流向梁家傑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陳婉嫻名單似乎與鄭經翰及陳鑑林兩張名單結合後票源重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陳鑑林的支持度在最後一個星期急速上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304920"/>
          <a:ext cx="868680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86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304920"/>
          <a:ext cx="861048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6104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NT East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ond List” never recovered from the plunge in mid-August, support might have gone to James Ti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Hair” Leung Kwok Hung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k over Andew Wong in the last few da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新界東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鑽石名單」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後一沉不起，票源似乎流向田北俊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長毛」梁國雄的支持度在最後幾天超越黃宏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304920"/>
          <a:ext cx="853452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5345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228600"/>
          <a:ext cx="84582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458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ters’ propensity to vote stayed high, last-minute surge also evid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ling poll data finds no ground for Martin Lee’s crisis call, whereas Andrew Wong, Chan Yuen Han’s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didate (Lam Man Fai), and Cheng Kar Foo’s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didate (Wong Sing Chi), might have been more legitimate to call for crisi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Tien’s support appeared to overlap with democrats’, and may have affected Andrew Wong and Wong Shing Chi’s cha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ta Fan’s support appeared to overlap with DAB’s, and might have reduced the chance of Choy So Yu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tical voting emerged towards the end of the campaign peri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選民投票意欲保持到高企，後勁凌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滾動調查並無顯示李柱銘需要告急、反而黃宏發、陳婉嫻名單第二候選人（林文輝）及鄭家富名單第四候選人（黃成智），更有理由告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田北俊與民主派的部份票源重疊，可能影響了黃宏發及黃成智的當選機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范徐麗泰與民建聯的票源似乎重疊，可能影響了蔡素玉的當選機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競選後期策略性配票行為十分明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e single ques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重要提問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ople’s mand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</a:t>
            </a:r>
            <a:r>
              <a:rPr b="1" lang="zh-TW" sz="2400" spc="-1" strike="noStrike" u="sng">
                <a:solidFill>
                  <a:srgbClr val="ffffff"/>
                </a:solidFill>
                <a:uFillTx/>
                <a:latin typeface="Arial"/>
              </a:rPr>
              <a:t>市民授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了什麼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ve voters manda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香港選民授權了什麼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ve 1.8m GC voters manda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香港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180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萬參與地區直選的選民授權了什麼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o have mandated whom to do wha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什麼人授權什麼人做什麼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ed by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racking voter preferenc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analyz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oters’ ag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需要根據</a:t>
            </a:r>
            <a:r>
              <a:rPr b="1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選民意向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1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選舉議題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走勢逐步解答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ratio of new voters among Pro-China and democrats’ suppor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ghtly higher ratios for Liberal Party and non-aligned suppor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371600"/>
                <a:gridCol w="1143000"/>
                <a:gridCol w="1143000"/>
                <a:gridCol w="1066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143000" y="2133720"/>
            <a:ext cx="469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you ever voted befo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few “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5029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初次投票選民在親中及民主派支持者中所佔比率相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自由黨及無黨籍支持者中比率略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43000" y="2743200"/>
          <a:ext cx="7086600" cy="1539720"/>
        </p:xfrm>
        <a:graphic>
          <a:graphicData uri="http://schemas.openxmlformats.org/drawingml/2006/table">
            <a:tbl>
              <a:tblPr/>
              <a:tblGrid>
                <a:gridCol w="1180800"/>
                <a:gridCol w="1181520"/>
                <a:gridCol w="1180800"/>
                <a:gridCol w="1156320"/>
                <a:gridCol w="120600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沒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066680" y="2133720"/>
            <a:ext cx="469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有沒有在過去各級議會中投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少量回答「唔記得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5029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 and livelihood issues were voters’ primary concer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ers of democrats paid more attention to political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 of pro-China and LP supporters considered political orientation most impor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2743200"/>
          <a:ext cx="7086600" cy="1828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371600"/>
                <a:gridCol w="1219320"/>
                <a:gridCol w="990360"/>
                <a:gridCol w="1067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olit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Economic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velih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143000" y="1981080"/>
            <a:ext cx="74674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 your choice of candidate based mainly on the candidate’s political orientation or economic/livelihood polici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52578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經濟民生是選民普遍重視的選舉議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民主派支持者明顯比較重視政治議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親中及自由黨支持者中亦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最重視政治取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19320" y="2971800"/>
          <a:ext cx="7086600" cy="1539720"/>
        </p:xfrm>
        <a:graphic>
          <a:graphicData uri="http://schemas.openxmlformats.org/drawingml/2006/table">
            <a:tbl>
              <a:tblPr/>
              <a:tblGrid>
                <a:gridCol w="1180800"/>
                <a:gridCol w="1181520"/>
                <a:gridCol w="1180800"/>
                <a:gridCol w="1156320"/>
                <a:gridCol w="120600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政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經濟民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066680" y="213372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選擇候選人時主要是基於其政治取態還是經濟民生政策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回答「唔知／難講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democrats’ supporters opted for 20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 supporters, ¼; pro-China supporters, 1/6; for all voters, 39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2012 as the watershed, democrats, 70%; LP supporters, 55%; pro-China supporters, 43%; all voters, 61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810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do you think condition is ripe for CE to be returned by universal suffrag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2120" y="2743200"/>
          <a:ext cx="7772400" cy="2190600"/>
        </p:xfrm>
        <a:graphic>
          <a:graphicData uri="http://schemas.openxmlformats.org/drawingml/2006/table">
            <a:tbl>
              <a:tblPr/>
              <a:tblGrid>
                <a:gridCol w="1868400"/>
                <a:gridCol w="1270080"/>
                <a:gridCol w="1419120"/>
                <a:gridCol w="1122480"/>
                <a:gridCol w="1046160"/>
                <a:gridCol w="1046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w/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After 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Sooner the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5029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民主派支持者中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支持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普選行政長官，自由黨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4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，親中派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6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，全部選民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為分水嶺，民主派支持者中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認為已經條件成熟，自由黨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4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61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9810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你認為香港何時有足夠條件實行普選行政長官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066680" y="2514600"/>
          <a:ext cx="7391520" cy="220968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1143000"/>
                <a:gridCol w="1117440"/>
                <a:gridCol w="11685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現在／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以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愈快愈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知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4876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7%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democrats’ supporters opted for 20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8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 supporters, 31%; pro-China supporters, 21%; for all voters, 45%; all percentages higher than those for CE returned by universal suffrage in 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2012 as the watershed, democrats, 68%; LP supporters, 51%; pro-China supporters, 41%; all voters, 60%; almost the same as those for CE returned by universal suffrage in 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do you think condition is ripe for all LC members to be returned by universal suffrage, meaning the abolition of functional constituencies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2590920"/>
          <a:ext cx="7924680" cy="2190600"/>
        </p:xfrm>
        <a:graphic>
          <a:graphicData uri="http://schemas.openxmlformats.org/drawingml/2006/table">
            <a:tbl>
              <a:tblPr/>
              <a:tblGrid>
                <a:gridCol w="1676520"/>
                <a:gridCol w="1218960"/>
                <a:gridCol w="1352520"/>
                <a:gridCol w="1314720"/>
                <a:gridCol w="121896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w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After 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Sooner the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4952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民主派支持者中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立法會，自由黨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超過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行政長官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為分水嶺，民主派支持者中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認為已經條件成熟，自由黨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與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行政長官比率接近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057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你認為香港何時有足夠條件全面普選立法會議員，即取消所有功能組別議席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2590920"/>
          <a:ext cx="7391520" cy="219060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1143000"/>
                <a:gridCol w="1117440"/>
                <a:gridCol w="11685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現在／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以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愈快愈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知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ers of democrats most dissatisfied with the government, LP supporters more on the negative side, while pro-China supporters stood at the middle with a slightly positive sl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13% of all voters were satisfied with the gover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80773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you satisfied with the performance of the SAR Govern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2514600"/>
          <a:ext cx="7696080" cy="1904760"/>
        </p:xfrm>
        <a:graphic>
          <a:graphicData uri="http://schemas.openxmlformats.org/drawingml/2006/table">
            <a:tbl>
              <a:tblPr/>
              <a:tblGrid>
                <a:gridCol w="1335240"/>
                <a:gridCol w="1230120"/>
                <a:gridCol w="1518120"/>
                <a:gridCol w="1335240"/>
                <a:gridCol w="1177920"/>
                <a:gridCol w="1099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Half-ha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5257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民主派支持者最不滿特區政府，自由黨支持者的評價屬於中間偏壞，親中派支持者評價屬於中間略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全部選民中只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滿意特區政府表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81080"/>
            <a:ext cx="57913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你對特區政府的整體表現滿不滿意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回答「唔知／難講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2514600"/>
          <a:ext cx="7467480" cy="2133720"/>
        </p:xfrm>
        <a:graphic>
          <a:graphicData uri="http://schemas.openxmlformats.org/drawingml/2006/table">
            <a:tbl>
              <a:tblPr/>
              <a:tblGrid>
                <a:gridCol w="1244160"/>
                <a:gridCol w="1244880"/>
                <a:gridCol w="1244520"/>
                <a:gridCol w="1244880"/>
                <a:gridCol w="1244520"/>
                <a:gridCol w="124452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滿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一半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滿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r source of data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rolling survey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rom 4 Aug to 9 S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days of continuous field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 separate public releases from 9 Aug to 11 S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umulated sample of 16,785 registered vo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 rates between 73% to 76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it po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nducted at 101 out of 501 polling s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,223 actual voters interview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98 partially successful interviews, 3,611 refusal c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,832 attempts made, response rate = 66.7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data sources to be exploi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n-line surve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over 700 su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250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ion night observ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different s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most 70 voluntar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udent research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acticing site observation and exit po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rs of democrats have the highest perce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P followed, pro-China supporters also have 8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8% for all vo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447560"/>
                <a:gridCol w="1295640"/>
                <a:gridCol w="990360"/>
                <a:gridCol w="990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143000" y="21337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d you join any of the July 1 Rall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few “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48769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民主派支持者中參加七一遊行者比率最高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自由黨其次，親中派中亦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整體選民中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55600"/>
                <a:gridCol w="120636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沒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1066680" y="2133720"/>
            <a:ext cx="469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有沒有參加過七一遊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撇除少量回答「唔記得」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voters did not give landslide support to the democrats, their split in support was the same as that of the general electo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who cared more about the political agenda tended to support the democr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60% voters supported universal suffrage in 2012, 40% even among pro-China suppor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ew were satisfied with SARG, among them, 69% voted for the pro-China ca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87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July 1 participants voted for democr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新增選民並非一面倒支持民主派，比率與一般選民相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重視政治議題者傾向支持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約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6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選民支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2012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雙普選，親中派支持者中亦超過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4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只有少數選民滿意特區政府表現，滿意者有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69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支持親中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參加七一遊行者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87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支持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worrying development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負面發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actical vo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lus election engineering have become the key to success, at the expense of focusing on substantive issues and making simple choi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ing use of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egative campaig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lso shifts voters’ attention from policy issues to individual personality. Certain newspapers have become spearheads of scandal attac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campaigning ar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pilling 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the media, policy research institutes, polling organizations and the academia, all being important infrastructures for open socie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tical parties are using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it po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re frequently and extensively for election engineering, which may one day destroy the credibility of exit pol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worrying development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負面發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結合選舉工程的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策略配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成勝負關鍵，簡單的投票考慮和議題表態開始失去意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負面攻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開始愈用愈多，選民開始聚焦到候選人的個人性格多於政策議題。部份報章已經變成打手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負面攻擊開始擴散到一般傳媒、智囊機構、民調組織和學術機構，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殃及池魚，做成無妄之災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。開放社會的基礎建制受到衝擊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政黨頻頻誤用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票站調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破壞有關調查的公信力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positive thinking 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正面想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ensus apparently struck on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universal suffrage in 20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 People’s Government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less host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Hong Kong people’s demand, than during NPC’s ruling on universal suffrag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faces in LegCo: Radical “Long Hair” Leung Kwok Hung and “Taipan” Albert Cheng symboliz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n open syst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t yet monopolized by conservative for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-democrats” represented by members of the Article 45 Concern Group symbolize th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trong presence of professional for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specially in regard to the rule of la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litical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pectrum is therefore wide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include more radicals at one end, and stretched in the middle to include pan-democrats and Liberal Party members returned by direct elec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bsorption polit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 take on new light and reach new heigh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positive thinking 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正面想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2012 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雙普選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似有共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中央政府比人大釋法時更加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理解香港市民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的訴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長毛」梁國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」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及「大班」鄭經翰進入議會，顯示制度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仍然開放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並非由保守派全部壟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以「基本法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條關注組」為代表的泛民主派進入議會，表示維護法治的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專業力量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可以在議會中發揮作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政治光譜擴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一邊加入激進民主派，中間加入經過直選洗禮的自由黨和泛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吸納政治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可能重新起步，再創新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總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520" y="24382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ng Kong today is no longer the Hong Kong yesterday; 4 June 1989, 15 Sept 1991, 1 July 1997, 1 July 2003 and 12 Sept 2004 will all go into our history book as dates we will not forg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已經改變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89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‧6‧4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1991‧9‧1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‧7‧1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3‧7‧1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4‧9‧12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都是我們不會忘記的日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2819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nk you very much!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謝謝！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數據來源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日連續不斷的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Arial"/>
              </a:rPr>
              <a:t>滾動調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天連續調查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日期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天連續發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累積樣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,785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名登記選民，回應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6%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之間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從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50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個投票站抽取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10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個票站進行的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Arial"/>
              </a:rPr>
              <a:t>票站調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成功訪問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,223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名剛剛完成投票的選民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另外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98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部份完成個案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,611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拒訪個案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,832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次嘗試，回應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6.7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其他尚未處理的資料來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網上調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超過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案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超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在晚上部署在各個票站範圍的</a:t>
            </a: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票站觀察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接近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</a:t>
            </a: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義務學生研究隊員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進行的實習票站調查及觀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8/9/04: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latest figure stands at 83%… somewhat difficult for this year's turnout to surpass [the 53% of 1998]… it should be comfortably higher than the 44% actual turnout registered in 2000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目前錄得的數字是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…以目前調查數字推算，今年投票率要再創歷史新高，應該有點困難，但應該會比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0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年的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高出一截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304920"/>
          <a:ext cx="84582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1/9/04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upward trend has been observed … the latest estimate is that the actual turnout rate this year should lie between 52% - 57%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選民的整體投票意欲在最後階段呈現上升…最新估計今年的實際投票率可能介乎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之間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304920"/>
          <a:ext cx="84582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HK Island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in support between Audrey Eu and Yeung Sum’s lists, and between Rita Fan and Ma Lik’s li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 in support for Democratic Party in mid-Augu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movements in the last 7 days, especially those in the last f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poll shows that 1/5 of DP’s votes were tac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香港島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余若薇名單與楊森名單票源重疊；范徐麗泰名單與馬力名單票源重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主黨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留意最後一個星期的轉向，尤其是在最後幾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票站調查顯示民主黨名單支持者中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主要來自策略性配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304920"/>
          <a:ext cx="8647200" cy="60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4720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9-20T10:05:49Z</dcterms:modified>
  <cp:revision>177</cp:revision>
  <dc:subject/>
  <dc:title>Project Overview</dc:title>
</cp:coreProperties>
</file>